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9692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F3F612-0F50-4273-955A-327D609C3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096920" y="343080"/>
            <a:ext cx="4673520" cy="3504960"/>
          </a:xfrm>
          <a:prstGeom prst="rect">
            <a:avLst/>
          </a:prstGeom>
          <a:ln w="0">
            <a:noFill/>
          </a:ln>
        </p:spPr>
      </p:sp>
      <p:graphicFrame>
        <p:nvGraphicFramePr>
          <p:cNvPr id="92" name=""/>
          <p:cNvGraphicFramePr/>
          <p:nvPr/>
        </p:nvGraphicFramePr>
        <p:xfrm>
          <a:off x="3168720" y="4451400"/>
          <a:ext cx="520560" cy="243000"/>
        </p:xfrm>
        <a:graphic>
          <a:graphicData uri="http://schemas.openxmlformats.org/drawingml/2006/table">
            <a:tbl>
              <a:tblPr/>
              <a:tblGrid>
                <a:gridCol w="5205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049400" y="228600"/>
            <a:ext cx="4705200" cy="3530520"/>
          </a:xfrm>
          <a:prstGeom prst="rect">
            <a:avLst/>
          </a:prstGeom>
          <a:ln w="0">
            <a:noFill/>
          </a:ln>
        </p:spPr>
      </p:sp>
      <p:sp>
        <p:nvSpPr>
          <p:cNvPr id="94" name=""/>
          <p:cNvSpPr/>
          <p:nvPr/>
        </p:nvSpPr>
        <p:spPr>
          <a:xfrm>
            <a:off x="289080" y="5200560"/>
            <a:ext cx="634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74E1-A316-43E7-BD95-47C21C00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D9F5-B4C9-454D-A414-36E50DAA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72F7-F92B-480D-8448-E6F47570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95F0-512F-4E51-8A99-1B4A2101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2423-C059-4848-AE4F-522B7FBE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4B93-8044-4364-A9F1-5C3BB172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C4FE-FBF2-4620-B419-642B8CEA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123C-BEDF-4C3B-B989-860583EB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89AE-715D-4295-AEE1-E59FB500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7292-7851-4D0A-BD58-AC047489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7552-6346-48ED-B28E-220C4756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5E9F-C6BF-4D9A-B309-8671317A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334920" y="6326280"/>
            <a:ext cx="223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July Financial Plan 2007-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0A03-36AD-40A7-B67F-4FB383CFADA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4200" y="54324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July 26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452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2007 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Preliminary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333399"/>
                </a:solidFill>
                <a:latin typeface="Arial"/>
              </a:rPr>
              <a:t>July Financial Plan 2007 –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F776-662D-4876-88FF-E7A335306833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ebruar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Before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7240" y="1522440"/>
          <a:ext cx="7777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522440"/>
                    <a:ext cx="7777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15AA-ABFD-4788-98D5-6A5C6E449F1D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Baseline Before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0042-C0E3-43E1-87A4-0BF2D02183C3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98600" y="1652760"/>
          <a:ext cx="8118360" cy="369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1652760"/>
                    <a:ext cx="811836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Reasons for Baseline Net Improvement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A2B4-A4CF-4845-AFDD-D23AC8A54679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884160" y="1058760"/>
          <a:ext cx="7345440" cy="532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4160" y="1058760"/>
                    <a:ext cx="7345440" cy="53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0480" y="12816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gency Baseline Changes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F7C9-148F-4406-9A27-8A5BCB6F4255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ear-to-Year Changes in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Uncontrollable’ and ‘Controllable’ Operating Expenses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77880" y="134136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134136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746280" y="5056200"/>
            <a:ext cx="761364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controllable’ Operating Expen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clude Paratransit Service Contracts, Fuel for Buses &amp; Trains, Traction &amp; Propulsion Power, Debt Service, Health &amp; Welfare, Pensions, Insurance, and Clai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lable’ Operating Expen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clude Payroll, Overtime, Other-Fringe Benefits, Reimbursable Overhead, Maintenance &amp; Other Operating Contracts, Professional Service Contracts, and Materials &amp; Supp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01AD-165D-4872-ABDB-5862FFEA655A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025640" y="1325520"/>
          <a:ext cx="7083360" cy="431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1325520"/>
                    <a:ext cx="708336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8920" y="160200"/>
            <a:ext cx="8265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ith Policy and Gap Closing Actions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E6A3-4D3F-455D-B113-3CBF20599112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 After Policy and Gap-Closing Actions *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865080" y="5770440"/>
            <a:ext cx="74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* Consistent with prior plans, includes additional 5% revenue increases - September 2007 and January 200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23C1-EA8B-4756-A229-BA57E09FC8E8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31440" y="142920"/>
            <a:ext cx="786132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f the Board Does Not Continue Its Policy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f Small Bi-Annual Fare &amp; Toll Increases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t-Year Deficits Will Increase</a:t>
            </a:r>
            <a:br>
              <a:rPr sz="2800"/>
            </a:b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88880" y="1322280"/>
          <a:ext cx="813744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1322280"/>
                    <a:ext cx="81374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500120" y="5064120"/>
            <a:ext cx="169920" cy="160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00120" y="5283360"/>
            <a:ext cx="169920" cy="16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35120" y="5032440"/>
            <a:ext cx="40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July Plan Closing Cash Balance, After Policy &amp; Gap-Closing 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39800" y="5275440"/>
            <a:ext cx="422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Gap if 2007 &amp; 2009 Fare &amp; Toll Yields Are Not Increa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40120" y="2894040"/>
            <a:ext cx="73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4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40280" y="4165560"/>
            <a:ext cx="843120" cy="307080"/>
          </a:xfrm>
          <a:prstGeom prst="rect">
            <a:avLst/>
          </a:prstGeom>
          <a:solidFill>
            <a:srgbClr val="ff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14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24840" y="5030640"/>
            <a:ext cx="84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98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1200" y="4633920"/>
            <a:ext cx="8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62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81F2-583A-46A9-802B-DBB8FEFE7CEB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MTA</cp:lastModifiedBy>
  <cp:lastPrinted>2004-07-16T15:55:26Z</cp:lastPrinted>
  <dcterms:modified xsi:type="dcterms:W3CDTF">2006-07-26T13:58:14Z</dcterms:modified>
  <cp:revision>650</cp:revision>
  <dc:subject/>
  <dc:title>Preliminary 2005 Budget and Financial Plan</dc:title>
</cp:coreProperties>
</file>