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F82-5687-4DF9-9A9A-D45CAAD3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682-BA91-458E-B1B8-0B1FD49E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6BA-A29B-427C-BACF-CD439C45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D2D-3ADF-4D93-8AD3-FC33E284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81E-E8E2-43A5-ACD8-8005AD6F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3E6-9073-4FB5-8F56-7AED8146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3F2-011F-4273-8A85-18106CB5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CD5-FA81-4AF9-9D2F-249355F8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4AA9-93C2-4B83-94BC-B3166F5E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D37-3A0F-47FA-8900-241354E2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7C81-2482-487A-96A8-78D06718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C8E7-B665-4301-9996-53E0E965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7096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B4D1-9037-4E80-8991-2D31B32DE84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4200" y="5641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29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0000"/>
                </a:solidFill>
                <a:latin typeface="Arial"/>
              </a:rPr>
              <a:t>November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0AF-7C5B-4E63-A043-BAAEF3DDD51B}" type="slidenum">
              <a:t>1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B74-1D5E-4441-9036-ED624309D8AD}" type="slidenum">
              <a:t>2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anges to the Basel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7280" y="1071360"/>
            <a:ext cx="8020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Estate Tax Revenue Projections Re-estimat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0 billion more over Plan period: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176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01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14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33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49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Proposed 5% Fare and Toll Yield Increases for 2007 and 2009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3 b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 Subway and Bus Off-Peak Service Adjust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75 m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8E8-62DA-4166-BF2E-8CE3C27CDFFE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w Initiativ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9200" y="952200"/>
            <a:ext cx="82393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d Emergency Preparedness Training for Operating Personn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 million over 4 years based on Kroll Associates recommendat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Security Contingencies, Including MTA Police Radio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50 million for a total of $150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Contribution to GASB Fun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80 million for a total of $577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YCT Subway Station Paint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8 Stations (12 per year) funded through Capital Program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 million annually from Operating Budget for remaining 350 stations over 10 year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2 Million from Stuyvesant Town / Peter Cooper Village sale will fund 200 of the remaining 350 station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D1D-1936-454C-A4CD-2E5F4871184E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A31-7A8D-4658-9F90-462DE1B4121B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6040" y="35532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ed to Address Out-Year Defici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252080"/>
            <a:ext cx="8175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avings Expected from Shared Services and 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5 million per year by end of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81 Million to Cover One-Time Costs Associated with Downsiz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859-4369-48BB-B315-86AFF1394FD3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6-11-28T20:21:42Z</dcterms:modified>
  <cp:revision>690</cp:revision>
  <dc:subject/>
  <dc:title>Preliminary 2005 Budget and Financial Plan</dc:title>
</cp:coreProperties>
</file>