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F56E-93E0-449C-A58F-B55AA7C5B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0992-78AB-4C56-8807-712E23B9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E92-DEDA-4895-AA92-1EF7A59D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1B5A-05EE-4D71-89DA-96A565DF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A7C7-B72B-4233-BF83-2CB7FD7B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3F4E-C2A0-43EC-B062-91B0978D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FEF8-5983-46F8-B754-CDBBE3B1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E143-807F-4533-A389-E1785F40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4E64-5181-42C1-9A04-C0F8AB7A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5FA5-6B63-410D-AB16-CF75AEFF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8B0F-BAFE-42A2-AB61-2DDAC986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76D8-43E5-4009-90F9-088E6A6F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970960" y="6326280"/>
            <a:ext cx="27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vember Financial Plan 2007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AC47-BCC5-4F61-9FB5-9FAB150529A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4200" y="5641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ember 29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728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MTA 2007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0000"/>
                </a:solidFill>
                <a:latin typeface="Arial"/>
              </a:rPr>
              <a:t>November Financial Plan 2007 –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E348-2B00-4B6C-908E-E1DA7D9428DD}" type="slidenum">
              <a:t>1</a:t>
            </a:fld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B0E-3D4B-4FDB-95C4-1BECDB348DE8}" type="slidenum">
              <a:t>2</a:t>
            </a:fld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hanges to the Baselin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7280" y="1071360"/>
            <a:ext cx="80200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Estate Tax Revenue Projections Re-estimat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.0 billion more over Plan period: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176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01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14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33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49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Proposed 5% Fare and Toll Yield Increases for 2007 and 2009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.3 billion less over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cel Subway and Bus Off-Peak Service Adjustmen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75 million less over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16E4-FBEF-45F6-AD13-06DC8B15E1EA}" type="slidenum">
              <a:t>3</a:t>
            </a:fld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w Initiativ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9200" y="952200"/>
            <a:ext cx="823932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hanced Emergency Preparedness Training for Operating Personn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5 million over 4 years based on Kroll Associates recommendat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Security Contingencies, Including MTA Police Radio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$50 million for a total of $150 mill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Contribution to GASB Fun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$80 million for a total of $577 mill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YCT Subway Station Paint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8 Stations (12 per year) funded through Capital Program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 million annually from Operating Budget for remaining 350 stations over 10 year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2 Million from Stuyvesant Town / Peter Cooper Village sale will fund 200 of the remaining 350 station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F60F-D35E-4032-ACA2-6DAD48024A01}" type="slidenum">
              <a:t>4</a:t>
            </a:fld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425-6D2C-44AA-BA50-FA2F003F948D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6040" y="35532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ed to Address Out-Year Defici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8640" y="1252080"/>
            <a:ext cx="8175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Savings Expected from Shared Services and MTA Reorgan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5 million per year by end of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81 Million to Cover One-Time Costs Associated with Downsiz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736-BDB9-48F4-B15D-CEA1EAEA6AFA}" type="slidenum">
              <a:t>6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6-11-28T20:21:42Z</dcterms:modified>
  <cp:revision>690</cp:revision>
  <dc:subject/>
  <dc:title>Preliminary 2005 Budget and Financial Plan</dc:title>
</cp:coreProperties>
</file>