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178E8C-1C39-41A6-A24E-2B3CF4B32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96920" y="343080"/>
            <a:ext cx="4673520" cy="3504960"/>
          </a:xfrm>
          <a:prstGeom prst="rect">
            <a:avLst/>
          </a:prstGeom>
          <a:ln w="0">
            <a:noFill/>
          </a:ln>
        </p:spPr>
      </p:sp>
      <p:graphicFrame>
        <p:nvGraphicFramePr>
          <p:cNvPr id="92" name=""/>
          <p:cNvGraphicFramePr/>
          <p:nvPr/>
        </p:nvGraphicFramePr>
        <p:xfrm>
          <a:off x="3168720" y="4451400"/>
          <a:ext cx="520560" cy="243000"/>
        </p:xfrm>
        <a:graphic>
          <a:graphicData uri="http://schemas.openxmlformats.org/drawingml/2006/table">
            <a:tbl>
              <a:tblPr/>
              <a:tblGrid>
                <a:gridCol w="5205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049400" y="228600"/>
            <a:ext cx="4705200" cy="3530520"/>
          </a:xfrm>
          <a:prstGeom prst="rect">
            <a:avLst/>
          </a:prstGeom>
          <a:ln w="0">
            <a:noFill/>
          </a:ln>
        </p:spPr>
      </p:sp>
      <p:sp>
        <p:nvSpPr>
          <p:cNvPr id="94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6C3F-E41C-4613-BCB2-8077CEE1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E1D6-4FBC-4255-9A30-722F4DBE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C35F-94BF-4063-B2BA-BCAF412A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02A2-DC4F-43F9-9C11-E49352E4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74B6-1341-4D27-AF02-3DCCA947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83B3-5247-4C78-B762-248CA0A5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4AFA-B077-49DC-9196-0C87F23E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F093-4C2B-48AF-B4D0-13B74178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17C5-093C-41A3-B6AA-E0621F82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436-58D5-441A-845A-44E84927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A80-662D-4083-A898-467C24B4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6BF-B9D3-4704-9C66-BD649A97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334920" y="6326280"/>
            <a:ext cx="223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July Financial Plan 2007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2ECC-7C42-423D-BF95-2078B88A114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4200" y="54324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July 26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07 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333399"/>
                </a:solidFill>
                <a:latin typeface="Arial"/>
              </a:rPr>
              <a:t>July Financial Plan 2007 –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E1BB-1F06-49F3-9724-90B5F4858E2B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Before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7240" y="1522440"/>
          <a:ext cx="7777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522440"/>
                    <a:ext cx="7777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F75-BC71-4A9F-AF88-9F5FE14E98F1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Baseline Before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DE6-4EAD-484C-8762-A3C599B9FA81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8600" y="1652760"/>
          <a:ext cx="8118360" cy="369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1652760"/>
                    <a:ext cx="81183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Reasons for Baseline Net Improvemen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DA9-061F-45B0-BBDC-DE9738E1215F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884160" y="1058760"/>
          <a:ext cx="7345440" cy="532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058760"/>
                    <a:ext cx="734544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0480" y="12816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gency Baseline Changes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4B9-436D-450D-A019-6D6C3E8CF219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ear-to-Year Changes in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Uncontrollable’ and ‘Controllable’ Operating Expenses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77880" y="134136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34136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746280" y="5056200"/>
            <a:ext cx="761364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controllable’ Operating Expen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clude Paratransit Service Contracts, Fuel for Buses &amp; Trains, Traction &amp; Propulsion Power, Debt Service, Health &amp; Welfare, Pensions, Insurance, and Clai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lable’ Operating Expen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clude Payroll, Overtime, Other-Fringe Benefits, Reimbursable Overhead, Maintenance &amp; Other Operating Contracts, Professional Service Contracts, and Materials &amp; Supp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EE1F-DD90-49D3-8CFE-0362725452FF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25640" y="1325520"/>
          <a:ext cx="7083360" cy="43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325520"/>
                    <a:ext cx="708336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160200"/>
            <a:ext cx="8265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ith Policy and Gap Closing Actions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632F-BE8E-44DE-A9B5-223343D3852F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 After Policy and Gap-Closing Actions *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865080" y="5770440"/>
            <a:ext cx="74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 Consistent with prior plans, includes additional 5% revenue increases - September 2007 and January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C2C6-4E38-45E6-BE5F-48B6585132C0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1440" y="142920"/>
            <a:ext cx="786132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f the Board Does Not Continue Its Policy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f Small Bi-Annual Fare &amp; Toll Increases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-Year Deficits Will Increase</a:t>
            </a:r>
            <a:br>
              <a:rPr sz="2800"/>
            </a:b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88880" y="1322280"/>
          <a:ext cx="813744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322280"/>
                    <a:ext cx="81374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500120" y="5064120"/>
            <a:ext cx="169920" cy="160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00120" y="5283360"/>
            <a:ext cx="169920" cy="16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35120" y="503244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uly Plan Closing Cash Balance, After Policy &amp; Gap-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39800" y="5275440"/>
            <a:ext cx="422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Gap if 2007 &amp; 2009 Fare &amp; Toll Yields Are Not Increa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40120" y="2894040"/>
            <a:ext cx="7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4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40280" y="4165560"/>
            <a:ext cx="843120" cy="307080"/>
          </a:xfrm>
          <a:prstGeom prst="rect">
            <a:avLst/>
          </a:prstGeom>
          <a:solidFill>
            <a:srgbClr val="ff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14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24840" y="5030640"/>
            <a:ext cx="8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98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1200" y="4633920"/>
            <a:ext cx="8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62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E78-9AC3-411F-B5EF-7AE6CF60548E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MTA</cp:lastModifiedBy>
  <cp:lastPrinted>2004-07-16T15:55:26Z</cp:lastPrinted>
  <dcterms:modified xsi:type="dcterms:W3CDTF">2006-07-26T13:58:14Z</dcterms:modified>
  <cp:revision>650</cp:revision>
  <dc:subject/>
  <dc:title>Preliminary 2005 Budget and Financial Plan</dc:title>
</cp:coreProperties>
</file>