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D38E-1A4E-4018-B975-43E92B84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2BBB-54B9-4F49-B06D-79DE549A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A4E1-F402-4894-8923-2EC46C48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4AFF-1150-4507-9F0B-18D92519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E9E5-681F-4225-9841-273385B4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C885-5C43-4CBF-9A4D-BAA00813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1D93-4112-47E4-9CE9-BBCBF32B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3934-39C6-4347-A6AD-CAB33E11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344B-22A0-49EE-93FF-566F5561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C2A7-1DD5-4097-874B-F7B3B014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DD89-52A1-457F-B020-2F429107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7A7E-3709-4E4D-B68C-F1FB3900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970960" y="6326280"/>
            <a:ext cx="27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vember Financial Plan 2007-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367E-A65F-464A-BD43-DFB77BFE8B5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4200" y="5641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ember 29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728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MTA 2007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Proposed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000000"/>
                </a:solidFill>
                <a:latin typeface="Arial"/>
              </a:rPr>
              <a:t>November Financial Plan 2007 –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29B8-E0EB-44DC-AA17-37A44F13A38A}" type="slidenum">
              <a:t>1</a:t>
            </a:fld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869A-6E68-4511-9C5E-546447706337}" type="slidenum">
              <a:t>2</a:t>
            </a:fld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hanges to the Baselin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7280" y="1071360"/>
            <a:ext cx="80200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Estate Tax Revenue Projections Re-estimat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.0 billion more over Plan period: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176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01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14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33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49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minate Proposed 5% Fare and Toll Yield Increases for 2007 and 2009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.3 billion less over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cel Subway and Bus Off-Peak Service Adjustmen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75 million less over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82D3-B283-49E3-8015-E63F89EFBABD}" type="slidenum">
              <a:t>3</a:t>
            </a:fld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w Initiativ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9200" y="952200"/>
            <a:ext cx="823932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hanced Emergency Preparedness Training for Operating Personn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5 million over 4 years based on Kroll Associates recommendat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Security Contingencies, Including MTA Police Radio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$50 million for a total of $150 mill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Contribution to GASB Fun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$80 million for a total of $577 mill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YCT Subway Station Paint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8 Stations (12 per year) funded through Capital Program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 million annually from Operating Budget for remaining 350 stations over 10 years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2 Million from Stuyvesant Town / Peter Cooper Village sale will fund 200 of the remaining 350 stations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3671-CE2C-410B-BA91-5147290EB4D5}" type="slidenum">
              <a:t>4</a:t>
            </a:fld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BB4E-0B90-4648-B453-AE2E270275B1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6040" y="355320"/>
            <a:ext cx="8061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ed to Address Out-Year Defici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8640" y="1252080"/>
            <a:ext cx="8175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Savings Expected from Shared Services and MTA Reorganiz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5 million per year by end of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81 Million to Cover One-Time Costs Associated with Downsiz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BCD5-00F1-4999-A318-3A87DACF60CC}" type="slidenum">
              <a:t>6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6-11-28T20:21:42Z</dcterms:modified>
  <cp:revision>690</cp:revision>
  <dc:subject/>
  <dc:title>Preliminary 2005 Budget and Financial Plan</dc:title>
</cp:coreProperties>
</file>