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F8246D-C0F3-46A1-B4EF-AC36D5936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96920" y="343080"/>
            <a:ext cx="4673520" cy="3504960"/>
          </a:xfrm>
          <a:prstGeom prst="rect">
            <a:avLst/>
          </a:prstGeom>
          <a:ln w="0">
            <a:noFill/>
          </a:ln>
        </p:spPr>
      </p:sp>
      <p:graphicFrame>
        <p:nvGraphicFramePr>
          <p:cNvPr id="92" name=""/>
          <p:cNvGraphicFramePr/>
          <p:nvPr/>
        </p:nvGraphicFramePr>
        <p:xfrm>
          <a:off x="3168720" y="4451400"/>
          <a:ext cx="520560" cy="243000"/>
        </p:xfrm>
        <a:graphic>
          <a:graphicData uri="http://schemas.openxmlformats.org/drawingml/2006/table">
            <a:tbl>
              <a:tblPr/>
              <a:tblGrid>
                <a:gridCol w="5205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049400" y="228600"/>
            <a:ext cx="4705200" cy="3530520"/>
          </a:xfrm>
          <a:prstGeom prst="rect">
            <a:avLst/>
          </a:prstGeom>
          <a:ln w="0">
            <a:noFill/>
          </a:ln>
        </p:spPr>
      </p:sp>
      <p:sp>
        <p:nvSpPr>
          <p:cNvPr id="94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3FD8-8D6F-4D4D-A9A3-086404AE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1EFE-2FF5-455F-981E-F26AC40E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D22-8BD6-4B04-ABAA-E10D124F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1EF6-E645-4D25-8C02-12A74637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C0F-4546-4BBA-93E4-237CFFFE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F1BF-56B8-4FF0-936D-D6B9DB4B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DE77-6E98-44E6-8793-A0CE6DDC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6B9F-B832-4D02-ABEC-4AB31317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EC06-FD8D-474A-8EBA-ACD78A5C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8072-812C-48C5-93C4-DCA946E4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57E1-E401-42EF-A3FE-BA58E7A8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1DF-2B4A-4A13-8DD5-F83A8930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334920" y="6326280"/>
            <a:ext cx="223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July Financial Plan 2007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880D-EE91-43D7-96A8-E6106BE6002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4200" y="54324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July 26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07 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333399"/>
                </a:solidFill>
                <a:latin typeface="Arial"/>
              </a:rPr>
              <a:t>July Financial Plan 2007 –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DA9-7DAC-4FD3-9F28-3DE72A8C83CE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Before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7240" y="1522440"/>
          <a:ext cx="7777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522440"/>
                    <a:ext cx="7777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87F9-691C-4108-86DD-F97A4ED4F425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Baseline Before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4AC9-8C38-4D82-9AA4-9839ED2C4844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8600" y="1652760"/>
          <a:ext cx="8118360" cy="369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1652760"/>
                    <a:ext cx="81183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Reasons for Baseline Net Improvemen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114D-7FD1-4F3E-8EE5-F2F1CDDBF33F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884160" y="1058760"/>
          <a:ext cx="7345440" cy="532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058760"/>
                    <a:ext cx="7345440" cy="53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0480" y="12816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gency Baseline Changes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7B0B-E053-42CA-A1B5-9AEADB2BE209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ear-to-Year Changes in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Uncontrollable’ and ‘Controllable’ Operating Expenses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77880" y="134136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34136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746280" y="5056200"/>
            <a:ext cx="761364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controllable’ Operating Expen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clude Paratransit Service Contracts, Fuel for Buses &amp; Trains, Traction &amp; Propulsion Power, Debt Service, Health &amp; Welfare, Pensions, Insurance, and Clai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lable’ Operating Expen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clude Payroll, Overtime, Other-Fringe Benefits, Reimbursable Overhead, Maintenance &amp; Other Operating Contracts, Professional Service Contracts, and Materials &amp; Supp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5A82-141E-4CF0-A120-4F9772669E27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025640" y="1325520"/>
          <a:ext cx="7083360" cy="431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325520"/>
                    <a:ext cx="708336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160200"/>
            <a:ext cx="8265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ith Policy and Gap Closing Actions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2510-D498-4A94-9EE3-2D4B2904ADF9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 After Policy and Gap-Closing Actions *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865080" y="5770440"/>
            <a:ext cx="74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 Consistent with prior plans, includes additional 5% revenue increases - September 2007 and January 20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4F6-6C8E-460F-BDEE-896C33680CD4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1440" y="142920"/>
            <a:ext cx="786132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f the Board Does Not Continue Its Policy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f Small Bi-Annual Fare &amp; Toll Increases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t-Year Deficits Will Increase</a:t>
            </a:r>
            <a:br>
              <a:rPr sz="2800"/>
            </a:b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88880" y="1322280"/>
          <a:ext cx="813744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1322280"/>
                    <a:ext cx="81374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500120" y="5064120"/>
            <a:ext cx="169920" cy="160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00120" y="5283360"/>
            <a:ext cx="169920" cy="16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35120" y="5032440"/>
            <a:ext cx="40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uly Plan Closing Cash Balance, After Policy &amp; Gap-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39800" y="5275440"/>
            <a:ext cx="422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Gap if 2007 &amp; 2009 Fare &amp; Toll Yields Are Not Increa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40120" y="2894040"/>
            <a:ext cx="7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4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40280" y="4165560"/>
            <a:ext cx="843120" cy="307080"/>
          </a:xfrm>
          <a:prstGeom prst="rect">
            <a:avLst/>
          </a:prstGeom>
          <a:solidFill>
            <a:srgbClr val="ff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14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24840" y="5030640"/>
            <a:ext cx="8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98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1200" y="4633920"/>
            <a:ext cx="8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62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05BF-A334-439A-AF5D-158F56E9DDC1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MTA</cp:lastModifiedBy>
  <cp:lastPrinted>2004-07-16T15:55:26Z</cp:lastPrinted>
  <dcterms:modified xsi:type="dcterms:W3CDTF">2006-07-26T13:58:14Z</dcterms:modified>
  <cp:revision>650</cp:revision>
  <dc:subject/>
  <dc:title>Preliminary 2005 Budget and Financial Plan</dc:title>
</cp:coreProperties>
</file>