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D3012C-0B24-4FC9-99C1-ADAE86672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96920" y="343080"/>
            <a:ext cx="4673520" cy="3504960"/>
          </a:xfrm>
          <a:prstGeom prst="rect">
            <a:avLst/>
          </a:prstGeom>
          <a:ln w="0">
            <a:noFill/>
          </a:ln>
        </p:spPr>
      </p:sp>
      <p:graphicFrame>
        <p:nvGraphicFramePr>
          <p:cNvPr id="92" name=""/>
          <p:cNvGraphicFramePr/>
          <p:nvPr/>
        </p:nvGraphicFramePr>
        <p:xfrm>
          <a:off x="3168720" y="4451400"/>
          <a:ext cx="520560" cy="243000"/>
        </p:xfrm>
        <a:graphic>
          <a:graphicData uri="http://schemas.openxmlformats.org/drawingml/2006/table">
            <a:tbl>
              <a:tblPr/>
              <a:tblGrid>
                <a:gridCol w="520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49400" y="228600"/>
            <a:ext cx="4705200" cy="353052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322-26C7-44DE-B08E-6110046C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B92-FF62-4F49-9DAF-E2C0B286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5E54-052F-492B-8C70-3836B3FD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2C9-C18E-47E4-B3EF-8212DD1D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9DA-BD57-49BC-A4A4-767373AC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923-141C-4CAD-A551-A1CDDD6C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8C4-6160-41CD-B715-962321CC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584-37AE-4F04-B5A0-A0D551BF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DD6-EFFD-422F-99F9-DC973AC3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483-FF37-47CB-ACE5-1741DC32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0F9-C317-4F42-82C3-B3EC8812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9A2-7B0A-46F4-A8E4-FD21BDFF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334920" y="6326280"/>
            <a:ext cx="223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July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381F-1D17-47B2-8B60-74EC47F9828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4200" y="5432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July 26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333399"/>
                </a:solidFill>
                <a:latin typeface="Arial"/>
              </a:rPr>
              <a:t>July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687-336B-4E8D-9D55-6455D7126B47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7240" y="1522440"/>
          <a:ext cx="7777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522440"/>
                    <a:ext cx="777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45F3-726C-4A2F-89E8-B4ADCBF069A7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aseline 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903-7500-4ED3-B9EC-9750CC12EDE6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8600" y="1652760"/>
          <a:ext cx="8118360" cy="36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1652760"/>
                    <a:ext cx="81183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E54-140A-41A9-B8C3-2E302C6AF229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84160" y="1058760"/>
          <a:ext cx="7345440" cy="53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058760"/>
                    <a:ext cx="734544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480" y="12816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gency Baseline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ED5-5948-414E-ADA9-A5B240CD8C1D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to-Year Changes in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Uncontrollable’ and ‘Controllable’ Operating Expenses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77880" y="134136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34136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46280" y="5056200"/>
            <a:ext cx="76136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ratransit Service Contracts, Fuel for Buses &amp; Trains, Traction &amp; Propulsion Power, Debt Service, Health &amp; Welfare, Pensions, Insurance, and Cla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yroll, Overtime, Other-Fringe Benefits, Reimbursable Overhead, Maintenance &amp; Other Operating Contracts, Professional Service Contracts, and Materials &amp; Supp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C0C-06A6-4D53-906B-F9C681955303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25640" y="1325520"/>
          <a:ext cx="7083360" cy="43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325520"/>
                    <a:ext cx="70833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160200"/>
            <a:ext cx="8265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DE8-E0C7-4FCE-AFB7-A40525A0130E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 After Policy and Gap-Closing Actions *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865080" y="5770440"/>
            <a:ext cx="74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Consistent with prior plans, includes additional 5% revenue increases - September 2007 and January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142-C04D-4C6F-B22F-F60E25F2A98D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1440" y="142920"/>
            <a:ext cx="78613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f the Board Does Not Continue Its Polic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f Small Bi-Annual Fare &amp; Toll Increases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-Year Deficits Will Increase</a:t>
            </a:r>
            <a:br>
              <a:rPr sz="2800"/>
            </a:b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8880" y="1322280"/>
          <a:ext cx="813744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322280"/>
                    <a:ext cx="81374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500120" y="5064120"/>
            <a:ext cx="169920" cy="160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00120" y="5283360"/>
            <a:ext cx="169920" cy="16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5120" y="503244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uly Plan Closing Cash Balance, After Policy &amp; Gap-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9800" y="5275440"/>
            <a:ext cx="422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Gap if 2007 &amp; 2009 Fare &amp; Toll Yields Are Not Incre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40120" y="289404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40280" y="4165560"/>
            <a:ext cx="843120" cy="307080"/>
          </a:xfrm>
          <a:prstGeom prst="rect">
            <a:avLst/>
          </a:prstGeom>
          <a:solidFill>
            <a:srgbClr val="ff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1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4840" y="5030640"/>
            <a:ext cx="8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98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1200" y="4633920"/>
            <a:ext cx="8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62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F59A-BEFA-417D-A3B0-37B524F4175A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6-07-26T13:58:14Z</dcterms:modified>
  <cp:revision>650</cp:revision>
  <dc:subject/>
  <dc:title>Preliminary 2005 Budget and Financial Plan</dc:title>
</cp:coreProperties>
</file>