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890-C9E6-42D2-A961-C8CDDCA5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058-D171-4FCA-BD96-47768CF7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A2A-8EAF-4853-938B-0C00A6E5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6DC-3846-4A9D-936D-E4E85AAF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FE5-A072-4A82-BD98-B0C93941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6D4-CE62-453E-97E2-0E58B1A1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79E-6BA0-4F5C-8BE2-E1495C83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6B8-3C4D-4A10-A5A2-0DE01A18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11C-EB3B-4447-BC8F-A7138869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9F4-C933-4D89-A672-55D6F7F7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7D4-1FAA-4240-914A-DE78884E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1C0-60AE-4E9E-998E-87549B2D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7096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55FE-AA90-4EE3-A814-7AC9A72B2F9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4200" y="5641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29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0000"/>
                </a:solidFill>
                <a:latin typeface="Arial"/>
              </a:rPr>
              <a:t>November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C13-2491-471D-9AF7-EFF0D0BE48C6}" type="slidenum">
              <a:t>1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D0D-FDF1-4631-B9E8-0A4BBE88E6EA}" type="slidenum">
              <a:t>2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anges to the Basel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7280" y="1071360"/>
            <a:ext cx="8020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Estate Tax Revenue Projections Re-estimat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0 billion more over Plan period: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176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01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14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33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49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Proposed 5% Fare and Toll Yield Increases for 2007 and 2009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3 b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 Subway and Bus Off-Peak Service Adjust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75 m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904-69F2-4BA3-B49B-6CB9816D9BC3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w Initiativ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9200" y="952200"/>
            <a:ext cx="82393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d Emergency Preparedness Training for Operating Personn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 million over 4 years based on Kroll Associates recommendat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Security Contingencies, Including MTA Police Radio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50 million for a total of $150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Contribution to GASB Fun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80 million for a total of $577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YCT Subway Station Paint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8 Stations (12 per year) funded through Capital Program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 million annually from Operating Budget for remaining 350 stations over 10 year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2 Million from Stuyvesant Town / Peter Cooper Village sale will fund 200 of the remaining 350 station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98A-1BD5-4E86-A57C-A758CE99CD19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C22-9F67-43B7-8734-9D401019F538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6040" y="35532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ed to Address Out-Year Defici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252080"/>
            <a:ext cx="8175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avings Expected from Shared Services and 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5 million per year by end of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81 Million to Cover One-Time Costs Associated with Downsiz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32F-5246-45A7-89A0-9C6BCFA81CF2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6-11-28T20:21:42Z</dcterms:modified>
  <cp:revision>690</cp:revision>
  <dc:subject/>
  <dc:title>Preliminary 2005 Budget and Financial Plan</dc:title>
</cp:coreProperties>
</file>