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96A69-9354-4F1E-99FF-F79F9B09E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2112-96DE-49DC-AEB8-85332592E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9C99-4A24-4E05-B637-085864C01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65DB-F519-4036-B3AF-477CDAEED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20F2-01E5-41C3-BDA9-26ABED8AC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B870-D879-4176-899D-6484AD48A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857A-202C-406C-89FD-7B749E997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7032-9F92-4A71-BB6B-5779EDDE3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2778-1E31-43BE-81AB-2D81CBDD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C1F4-9FF6-450B-90A5-C511165C4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5E94-779C-4DA4-AF7B-D74F4BF5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9B31-BD45-4F28-A376-FDD335C7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C5B2-0E67-45F1-8605-3E594AF0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84D2D-1DFB-42EC-B29D-CD330D74A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00080" y="1752480"/>
            <a:ext cx="2514600" cy="1768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95680" y="1771560"/>
            <a:ext cx="2522520" cy="1762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905120" y="3600360"/>
            <a:ext cx="2522520" cy="1771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4495680" y="3600360"/>
            <a:ext cx="2522520" cy="1752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57200" y="152280"/>
            <a:ext cx="8229600" cy="56376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1790640"/>
            <a:ext cx="5410080" cy="0"/>
          </a:xfrm>
          <a:prstGeom prst="line">
            <a:avLst/>
          </a:prstGeom>
          <a:ln w="104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53341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800" spc="-1" strike="noStrike">
                <a:solidFill>
                  <a:srgbClr val="a50021"/>
                </a:solidFill>
                <a:latin typeface="Arial Black"/>
              </a:rPr>
              <a:t>June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2193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 Black"/>
              </a:rPr>
              <a:t>MTA Proposed 2005-2009</a:t>
            </a:r>
            <a:br>
              <a:rPr sz="3200"/>
            </a:br>
            <a:r>
              <a:rPr b="0" lang="en-US" sz="3200" spc="-1" strike="noStrike">
                <a:solidFill>
                  <a:srgbClr val="a50021"/>
                </a:solidFill>
                <a:latin typeface="Arial Black"/>
              </a:rPr>
              <a:t>Capital Program Amendment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8ED7-3560-4710-A9E0-997E91A82FE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533520"/>
            <a:ext cx="8229600" cy="76176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osed 2005-2009 Capital Program Amendment:                           Inter-Agenc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736640"/>
            <a:ext cx="8153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establishes MTA Planning Element for projects previously approved by the Board, to be funded from L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2314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a Stadium Stations Investments ($32 millio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2314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ppan Zee Bridge EIS ($28 mill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231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CB1A-593A-42C1-8796-0B5FFF2E479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al submitted for discussion and inp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amendment will be brought to Finance Committee and Board in Ju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equently will be submitted to CPRB for appro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ed 2005-2009 Capital Program Amendment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26DD-8786-448A-B86A-CE716A21D46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80880" y="685800"/>
            <a:ext cx="83822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9536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ital Programs are regularly amended, annually or semi-annually, to reflect changes in project scopes, costs or pri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changes occur within the original program envel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t comprehensive 05-09 amendment approved by Board in  December 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 CPRB approved plan March 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endments to the 05-09 Program were suspended during development of 2008-13 accelerated progra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bsence of Congestion Pricing, next program will follow original 10-14 period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amendment reflects impacts of regional construction market conditions and new priorities since the last amend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s in this amendment were largely anticipated in 08-13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increases are offset by deferr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deferred to next program will come at a higher cost than currently budge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ed today for consideration and comment; final amendment to be submitted at July Finance and Board meetin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76320"/>
            <a:ext cx="8229600" cy="5634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ckground of Proposed Amend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2833-E4E4-409B-A777-EF81A79D99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76320" y="9907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rporates FFGA’s for SAS and ESA previously approved by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764 million for SAS and the remaining balance of $267million for ESA (since April ‘07 Board amendment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ers funds from discontinued LaGuardia Airport Access project in 2000-2004 progr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rporates LGA-funded projects previously approved by Board (South Ferry, TZ Bridge Study, LMCCC and Shea station initiativ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cates remaining LGA funds to NYCT ($80 million), LIRR ($16 million) and MNR ($11 million) to fund work that would otherwise have been in next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RB approval required for these funding changes and program elements with increases greater than 10% since last CPRB approved plan (March ’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8380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28600"/>
            <a:ext cx="8229600" cy="5634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ed 2005-2009 Capital Program Amend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B233-FC9D-4D4C-AC48-0EBCA9DC39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04920" y="15699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ity in Agency Priorities and Tradeof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 increases reflect higher project costs and new priority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ity given to fund projects that maximize safe servi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eoffs to Fund In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er projects that were likely to occur late in the program or that are experiencing delays; reprogramming early into next program minimizes imp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ed 2005-2009 Capital Program Amend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4659-4ECC-4F29-9785-793CF63CB4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4038480" cy="541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0" y="1294920"/>
            <a:ext cx="4038480" cy="541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6858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osed 2005-2009 Capital Program Amendment:         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w York City Trans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" y="914400"/>
          <a:ext cx="4038480" cy="38088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 Program Increases:  $2.3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40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4572000" y="914400"/>
          <a:ext cx="4038480" cy="38088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 Program Deferrals:  $2.4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40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457200" y="3886200"/>
          <a:ext cx="4038480" cy="273528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390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Increases in 05-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Division Cars                               164                                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nd Buses to Replace Artics          88                  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Growth in 23 Stations             340                  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ushing CBTC and WPR Signals  194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lver Viaduct                                   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ra Hale Depot                              2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Growth in Prior Plans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1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"/>
          <p:cNvSpPr/>
          <p:nvPr/>
        </p:nvSpPr>
        <p:spPr>
          <a:xfrm>
            <a:off x="457200" y="1479600"/>
            <a:ext cx="40384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ew Projects in 05-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 Div Growth Cars                       $200 m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’l Paratransit                              33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lood Control (LGA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9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/Screens at 44 Dark Stations      47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ions Component Prog.              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48320" y="1523880"/>
            <a:ext cx="388620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2 Artics                                   $54 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 Station Rehabs                        279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nt Plants                                   385                                 Tunnel Lighting                             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uctural Painting Projects         57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lver Line Signals                       9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BL Interlocking                          1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7th Overhaul Shop                   25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maica Depot                             1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lmer and Flatbush Depots          4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 Radio Project                          8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VL                                                 5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 Track Project                             3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624852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CFC1-BE08-43F6-ABAC-9EF1D109445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403848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0" y="1294920"/>
            <a:ext cx="412128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osed 2005-2009 Capital Program Amendment:         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 Island Rail R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57200" y="914400"/>
          <a:ext cx="4038480" cy="38088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 Program Increases:  $174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40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4572000" y="914400"/>
          <a:ext cx="4121280" cy="380880"/>
        </p:xfrm>
        <a:graphic>
          <a:graphicData uri="http://schemas.openxmlformats.org/drawingml/2006/table">
            <a:tbl>
              <a:tblPr/>
              <a:tblGrid>
                <a:gridCol w="41212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 Program Deferrals:  $141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40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457200" y="4267080"/>
          <a:ext cx="4038480" cy="239256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3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Incre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 Fixation Track Repl,            $14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T Fire &amp; Life Safety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ual Track Programs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1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bylon Car Wash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maica Fit-Out (Phase 2)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t. of Way Repair Facility             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457200" y="1523880"/>
            <a:ext cx="4343400" cy="28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ew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lushing/Flatbush Elevators (LGA) $10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maica Capacity Study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7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-7 Horn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7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idge Paintin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eens Village Elevators                   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Queens Projects (LGA)        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SY Substa/Tower Reloc. Design    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48320" y="1523880"/>
            <a:ext cx="403992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bylon to Patchogue Signals      $21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maica Interlocking Design              1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ntauk Branch bridge rehabs          1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adway (Port Wash. Branch)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0th St. (Jamaica) bridge work         1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y Interlocking Reconfig Design        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nn Sta. Facilities &amp; Yards work        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7A0C-EB83-4440-825F-60609BB12FF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40384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0" y="1294920"/>
            <a:ext cx="41212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osed 2005-2009 Capital Program Amendment:         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ro-North Railr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57200" y="914400"/>
          <a:ext cx="4038480" cy="38088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 Program Increases:  $74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40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4572000" y="914400"/>
          <a:ext cx="4121280" cy="380880"/>
        </p:xfrm>
        <a:graphic>
          <a:graphicData uri="http://schemas.openxmlformats.org/drawingml/2006/table">
            <a:tbl>
              <a:tblPr/>
              <a:tblGrid>
                <a:gridCol w="41212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 Program Deferrals:  $43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40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457200" y="3733920"/>
          <a:ext cx="4038480" cy="274320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7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Incre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ton-Harmon Shop Master Plan $11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 of Hudson Locomotives (4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-Life Remanufacture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$7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tlandt Parking– CMAQ funded     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ughkeepsie Station Building         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wart Airport AA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457200" y="1600200"/>
            <a:ext cx="4038480" cy="17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ew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CT Employee Facilities Rehab.   $18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x Stas/Capacity Imprvmts (LGA)   1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ral Hat Bldg Purch. (Beacon, NY)  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1523880"/>
            <a:ext cx="40402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-2 CSR (superseded by  M-8s)    $10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rrytown Platform/Overpass            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CT Leaks Remedi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oton-Harmon/Peekskill Sta. work  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con Line Undergrade bridges      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HL Undergrade bridge work (2)        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FE09-C01D-44B0-8060-8616D537CF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648320" y="1523880"/>
            <a:ext cx="41544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nryHudson U/L TollPlaza decks $18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iborough decks-Toll Plaza/Ramp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BT Elect. System upgrad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gs Nk Anch&amp;Tower Protec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gs Nk Orthotropic deck rehab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olations Enforcement Syste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ced Automated Trf. Detec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nd Generation E-Zpass In-Lan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lt Pkwy Ramp widening desig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40384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0" y="1294920"/>
            <a:ext cx="417672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osed 2005-2009 Capital Program Amendment:         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idges and Tun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57200" y="914400"/>
          <a:ext cx="4038480" cy="38088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 Program Increases:  $142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40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4572000" y="914400"/>
          <a:ext cx="4176720" cy="380880"/>
        </p:xfrm>
        <a:graphic>
          <a:graphicData uri="http://schemas.openxmlformats.org/drawingml/2006/table">
            <a:tbl>
              <a:tblPr/>
              <a:tblGrid>
                <a:gridCol w="417672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 Program Deferrals:  $136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40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57200" y="3733920"/>
          <a:ext cx="4038480" cy="274320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7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Incre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x-Whtstne Approach Decks       $44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gs Nk Concrete Deck Repl.        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razano Approach Decks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borough Bldg 104 rehab.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BT Ventilation rehabilitation         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ens Midtown building rehabs.    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457200" y="1523880"/>
            <a:ext cx="403848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ew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rrazano Structural Steel Rprs.  $11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337D-B0DE-4AC4-82AD-F97D5C6C9C9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" y="304920"/>
            <a:ext cx="8229600" cy="76176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osed 2005-2009 Capital Program Amendment:                        Capital Construction Compan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1371600"/>
            <a:ext cx="81536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budget increases from $6.325 billion to $7.394 b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2314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s remaining $267 million from FFGA to ESA ($1.255 b added in April Board amend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2314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s FFGA’s $764 million to 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2314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cost growth identified in 2008-2013 Program is not reflected in amendment;  will be incorporated in next capital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 incorporates two projects previously approved by the board, to be funded with $37.7 million from LGA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2314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 South Ferry Terminal ($27.3 mill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2314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MTA’s share of Lower Manhattan Construction Command Center ($10.4 mill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231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RB approval will be needed to add FFGA funds, which are critical to the progression of ESA in 200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C125-345D-4D9D-8486-FAD611C30C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4T04:26:21Z</dcterms:created>
  <dc:creator>MTA</dc:creator>
  <dc:description/>
  <dc:language>en-US</dc:language>
  <cp:lastModifiedBy>MTA</cp:lastModifiedBy>
  <dcterms:modified xsi:type="dcterms:W3CDTF">2008-06-23T14:23:28Z</dcterms:modified>
  <cp:revision>264</cp:revision>
  <dc:subject/>
  <dc:title>Sizing the Core Program</dc:title>
</cp:coreProperties>
</file>