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531A-5C35-488D-9CF5-791807E8E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529-1E8D-4B27-AF2E-0D20BE45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A68-C597-4A3E-B8C1-03DDE29F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0C1-EF83-499D-9A9C-37D0521A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37F-0B16-444B-8300-D4713FD2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587-9F1F-4FDC-83BB-7C6B4550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65F-F1A4-4762-A381-DFD58CFA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B4C-3B3D-438B-9011-6B4F5279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6AA-E696-4EAE-8540-441192E3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7A2-0BE2-4E66-BEFF-A69C74A8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83B-3B10-496C-96B9-8CA8CC7D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D56-CC11-4CDE-B535-A182D6F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248-D6F5-4A3F-B69A-FB25C955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C845-2482-4B10-B5EC-F4EEA996A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0080" y="1752480"/>
            <a:ext cx="2514600" cy="176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1771560"/>
            <a:ext cx="252252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5120" y="3600360"/>
            <a:ext cx="252252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495680" y="3600360"/>
            <a:ext cx="2522520" cy="175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90640"/>
            <a:ext cx="5410080" cy="0"/>
          </a:xfrm>
          <a:prstGeom prst="line">
            <a:avLst/>
          </a:prstGeom>
          <a:ln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MTA Proposed 2005-2009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Capital Program Amend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64B-0AAB-4515-B5C4-CB6F7D190F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   Inter-Ag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366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stablishes MTA Planning Element for projects previously approved by the Board, to be funded from L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 Stadium Stations Investments ($32 mill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pan Zee Bridge EIS ($28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BF4-2A9B-48B7-917C-2FDE8153B5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submitted for discussion and inp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mendment will be brought to Finance Committee and Board in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will be submitted to CPRB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A6C-F729-42D5-9221-D3FD65D700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Programs are regularly amended, annually or semi-annually, to reflect changes in project scopes, costs or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hanges occur within the original program 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mprehensive 05-09 amendment approved by Board in  December 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CPRB approved plan March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05-09 Program were suspended during development of 2008-13 accelerated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bsence of Congestion Pricing, next program will follow original 10-14 perio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mendment reflects impacts of regional construction market conditions and new priorities since the last amen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this amendment were largely anticipated in 08-1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ncreases are offset by defer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ferred to next program will come at a higher cost than currently budg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day for consideration and comment; final amendment to be submitted at July Finance and Board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of Propose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D35-2CB9-4398-95DA-6ED0D80D29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FFGA’s for SAS and ESA previously approved b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64 million for SAS and the remaining balance of $267million for ESA (since April ‘07 Board amend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funds from discontinued LaGuardia Airport Access project in 2000-2004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LGA-funded projects previously approved by Board (South Ferry, TZ Bridge Study, LMCCC and Shea station initi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remaining LGA funds to NYCT ($80 million), LIRR ($16 million) and MNR ($11 million) to fund work that would otherwise have been in nex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B approval required for these funding changes and program elements with increases greater than 10% since last CPRB approved plan (March ’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860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297-D502-415C-AF2F-9601C6B204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in Agency Priorities and Trade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creases reflect higher project costs and new priorit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given to fund projects that maximize saf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to Fun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 projects that were likely to occur late in the program or that are experiencing delays; reprogramming early into next program minimizes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8DD-5DE1-4D7B-822F-D32B86D57B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York City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2.3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2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" y="3886200"/>
          <a:ext cx="4038480" cy="27352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 in 05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Division Cars                               164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nd Buses to Replace Artics          88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23 Stations             340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shing CBTC and WPR Signals  194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ver Viaduct                                   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Hale Depot                            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Prior Pla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7200" y="14796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 in 05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Div Growth Cars                       $200 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’l Paratransit                              33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 Control (LG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/Screens at 44 Dark Stations      47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Component Prog.             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523880"/>
            <a:ext cx="3886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 Artics                                   $54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Station Rehabs                        279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 Plants                                   385                                 Tunnel Lighting                     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 Painting Projects         57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ver Line Signals                       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BL Interlocking                          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7th Overhaul Shop                  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Depot                             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mer and Flatbush Depots          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Radio Project                         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L                                                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Track Project                            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606-A65A-49C7-B036-EEB589D07F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Island Rai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4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4267080"/>
          <a:ext cx="4038480" cy="2392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3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Fixation Track Repl,            $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T Fire &amp; Life Safe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rack Program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lon Car Was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 Fit-Out (Phase 2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. of Way Repair Facility        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523880"/>
            <a:ext cx="43434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shing/Flatbush Elevators (LGA) $1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Capacity Study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7 Hor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 Pain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ens Village Elevators          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Queens Projects (LGA)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Y Substa/Tower Reloc. Design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403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bylon to Patchogue Signals      $2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Interlocking Design             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auk Branch bridge rehabs         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way (Port Wash. Branch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0th St. (Jamaica) bridge work        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y Interlocking Reconfig Design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 Sta. Facilities &amp; Yards work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788-4D3A-4734-A53C-7AA5CC8440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-North Rail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4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on-Harmon Shop Master Plan $1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of Hudson Locomotives (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Life Remanufac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$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landt Parking– CMAQ funded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ghkeepsie Station Building       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wart Airport A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57200" y="1600200"/>
            <a:ext cx="40384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Employee Facilities Rehab.  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x Stas/Capacity Imprvmts (LGA)   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al Hat Bldg Purch. (Beacon, NY)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23880"/>
            <a:ext cx="404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2 CSR (superseded by  M-8s)    $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rytown Platform/Overpass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Leaks Remedi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ton-Harmon/Peekskill Sta. work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con Line Undergrade bridges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L Undergrade bridge work (2)      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70B-305F-4682-93D2-BEB91DCB02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523880"/>
            <a:ext cx="415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Hudson U/L TollPlaza decks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orough decks-Toll Plaza/Ram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T Elect. System upgra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Anch&amp;Tower Pro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Orthotropic deck reha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olations Enforcement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Automated Trf. 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Generation E-Zpass In-L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t Pkwy Ramp widening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767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s and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4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0" y="914400"/>
          <a:ext cx="4176720" cy="380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3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x-Whtstne Approach Decks       $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gs Nk Concrete Deck Repl.       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razano Approach Deck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borough Bldg 104 rehab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T Ventilation rehabilitation        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s Midtown building rehabs.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57200" y="1523880"/>
            <a:ext cx="4038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razano Structural Steel Rprs.  $1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1E1-86D7-413E-994E-65CF6B99EA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Capital Construction Compa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371600"/>
            <a:ext cx="815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budget increases from $6.325 billion to $7.39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emaining $267 million from FFGA to ESA ($1.255 b added in April Board amend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FFGA’s $764 million to 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st growth identified in 2008-2013 Program is not reflected in amendment;  will be incorporated in next capit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corporates two projects previously approved by the board, to be funded with $37.7 million from LG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outh Ferry Terminal ($27.3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TA’s share of Lower Manhattan Construction Command Center ($10.4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B approval will be needed to add FFGA funds, which are critical to the progression of ESA in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A1F-EB17-4D93-AAB6-89620C45BF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4:26:21Z</dcterms:created>
  <dc:creator>MTA</dc:creator>
  <dc:description/>
  <dc:language>en-US</dc:language>
  <cp:lastModifiedBy>MTA</cp:lastModifiedBy>
  <dcterms:modified xsi:type="dcterms:W3CDTF">2008-06-23T14:23:28Z</dcterms:modified>
  <cp:revision>264</cp:revision>
  <dc:subject/>
  <dc:title>Sizing the Core Program</dc:title>
</cp:coreProperties>
</file>