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EAAE0-5825-499F-98E5-BD99A423B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24E93-5E32-44B5-8A17-05B602638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B0C8F-5C81-4225-85C1-EC3B244A8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5FD2B-A2FF-471F-8B55-3BD99D650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263E7-B361-491E-A81A-A4DCB3514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1C74D-249B-4F37-883C-BB653FA5D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F9861-E400-4299-981D-A265E6359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59668-8364-4DEA-856E-9885A08AF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03B13-C3C6-4991-8226-0D3D7BB6C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ED6FF-2B13-40E5-A34C-811811C24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A194B-305E-40BA-8021-33260F88A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ECB76-CB2A-43EB-AA24-A1946DFE3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386A-054A-44FB-95C3-DE1337C72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0080" y="1752480"/>
            <a:ext cx="2514600" cy="1768680"/>
          </a:xfrm>
          <a:prstGeom prst="rect">
            <a:avLst/>
          </a:prstGeom>
          <a:ln w="0">
            <a:noFill/>
          </a:ln>
        </p:spPr>
      </p:pic>
      <p:pic>
        <p:nvPicPr>
          <p:cNvPr id="42" name="" descr=""/>
          <p:cNvPicPr/>
          <p:nvPr/>
        </p:nvPicPr>
        <p:blipFill>
          <a:blip r:embed="rId2"/>
          <a:stretch/>
        </p:blipFill>
        <p:spPr>
          <a:xfrm>
            <a:off x="4495680" y="1771560"/>
            <a:ext cx="2522520" cy="1762200"/>
          </a:xfrm>
          <a:prstGeom prst="rect">
            <a:avLst/>
          </a:prstGeom>
          <a:ln w="0">
            <a:noFill/>
          </a:ln>
        </p:spPr>
      </p:pic>
      <p:pic>
        <p:nvPicPr>
          <p:cNvPr id="43" name="" descr=""/>
          <p:cNvPicPr/>
          <p:nvPr/>
        </p:nvPicPr>
        <p:blipFill>
          <a:blip r:embed="rId3"/>
          <a:stretch/>
        </p:blipFill>
        <p:spPr>
          <a:xfrm>
            <a:off x="1905120" y="3600360"/>
            <a:ext cx="2522520" cy="1771920"/>
          </a:xfrm>
          <a:prstGeom prst="rect">
            <a:avLst/>
          </a:prstGeom>
          <a:ln w="0">
            <a:noFill/>
          </a:ln>
        </p:spPr>
      </p:pic>
      <p:pic>
        <p:nvPicPr>
          <p:cNvPr id="44" name="" descr=""/>
          <p:cNvPicPr/>
          <p:nvPr/>
        </p:nvPicPr>
        <p:blipFill>
          <a:blip r:embed="rId4"/>
          <a:stretch/>
        </p:blipFill>
        <p:spPr>
          <a:xfrm>
            <a:off x="4495680" y="3600360"/>
            <a:ext cx="2522520" cy="1752840"/>
          </a:xfrm>
          <a:prstGeom prst="rect">
            <a:avLst/>
          </a:prstGeom>
          <a:ln w="0">
            <a:noFill/>
          </a:ln>
        </p:spPr>
      </p:pic>
      <p:sp>
        <p:nvSpPr>
          <p:cNvPr id="45"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676520" y="1790640"/>
            <a:ext cx="5410080" cy="0"/>
          </a:xfrm>
          <a:prstGeom prst="line">
            <a:avLst/>
          </a:prstGeom>
          <a:ln w="104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7200" y="5913360"/>
            <a:ext cx="8229600" cy="563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57200" y="5257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bruary 2008</a:t>
            </a:r>
            <a:endParaRPr b="0" lang="en-US" sz="2000" spc="-1" strike="noStrike">
              <a:solidFill>
                <a:srgbClr val="000000"/>
              </a:solidFill>
              <a:latin typeface="Arial"/>
            </a:endParaRPr>
          </a:p>
        </p:txBody>
      </p:sp>
      <p:sp>
        <p:nvSpPr>
          <p:cNvPr id="49"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MTA Capital Program</a:t>
            </a:r>
            <a:br>
              <a:rPr sz="3200"/>
            </a:br>
            <a:r>
              <a:rPr b="0" lang="en-US" sz="2000" spc="-1" strike="noStrike">
                <a:solidFill>
                  <a:srgbClr val="a50021"/>
                </a:solidFill>
                <a:latin typeface="Arial"/>
              </a:rPr>
              <a:t>2008-201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52E5036-6B39-4ECD-9086-A00B5F5A88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274680"/>
            <a:ext cx="853452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3" name=""/>
          <p:cNvSpPr/>
          <p:nvPr/>
        </p:nvSpPr>
        <p:spPr>
          <a:xfrm>
            <a:off x="1047960" y="979560"/>
            <a:ext cx="694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e projects underway --- 30 Day Review</a:t>
            </a:r>
            <a:endParaRPr b="0" lang="en-US" sz="2400" spc="-1" strike="noStrike">
              <a:solidFill>
                <a:srgbClr val="000000"/>
              </a:solidFill>
              <a:latin typeface="Arial"/>
            </a:endParaRPr>
          </a:p>
        </p:txBody>
      </p:sp>
      <p:sp>
        <p:nvSpPr>
          <p:cNvPr id="74" name="PlaceHolder 1"/>
          <p:cNvSpPr>
            <a:spLocks noGrp="1"/>
          </p:cNvSpPr>
          <p:nvPr>
            <p:ph/>
          </p:nvPr>
        </p:nvSpPr>
        <p:spPr>
          <a:xfrm>
            <a:off x="456840" y="1752120"/>
            <a:ext cx="8381880" cy="4876920"/>
          </a:xfrm>
          <a:prstGeom prst="rect">
            <a:avLst/>
          </a:prstGeom>
          <a:noFill/>
          <a:ln w="0">
            <a:noFill/>
          </a:ln>
        </p:spPr>
        <p:txBody>
          <a:bodyPr lIns="90000" rIns="90000" tIns="46800" bIns="46800" anchor="t">
            <a:normAutofit/>
          </a:bodyPr>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Estimates Up to Date</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market conditions as we know them today</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scope chang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assumptions (e.g. allowances for indeterminants &amp; profit)</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schedule delay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Cost Increases</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the-board savings (e.g. change approach, eliminate specialty finishes, identify development/advertising opportuni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pecific savings and cost avoidance (scope change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Against Further Market Risk</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long-term inflationary uncertain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real estate related costs not built into project estimat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rol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63F5B0F-1BFE-4D79-82B6-3B148BFD39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6" name=""/>
          <p:cNvSpPr/>
          <p:nvPr/>
        </p:nvSpPr>
        <p:spPr>
          <a:xfrm>
            <a:off x="2282400" y="928800"/>
            <a:ext cx="447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Results of 30 Day Review</a:t>
            </a:r>
            <a:endParaRPr b="0" lang="en-US" sz="2800" spc="-1" strike="noStrike">
              <a:solidFill>
                <a:srgbClr val="000000"/>
              </a:solidFill>
              <a:latin typeface="Arial"/>
            </a:endParaRPr>
          </a:p>
        </p:txBody>
      </p:sp>
      <p:graphicFrame>
        <p:nvGraphicFramePr>
          <p:cNvPr id="77" name=""/>
          <p:cNvGraphicFramePr/>
          <p:nvPr/>
        </p:nvGraphicFramePr>
        <p:xfrm>
          <a:off x="1901880" y="1816200"/>
          <a:ext cx="5489280" cy="3289320"/>
        </p:xfrm>
        <a:graphic>
          <a:graphicData uri="http://schemas.openxmlformats.org/drawingml/2006/table">
            <a:tbl>
              <a:tblPr/>
              <a:tblGrid>
                <a:gridCol w="1255680"/>
                <a:gridCol w="893520"/>
                <a:gridCol w="835200"/>
                <a:gridCol w="834840"/>
                <a:gridCol w="835200"/>
                <a:gridCol w="8348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Schedu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Schedule</a:t>
                      </a:r>
                      <a:endParaRPr b="0" lang="en-US" sz="11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Funding</a:t>
                      </a:r>
                      <a:endParaRPr b="0" lang="en-US" sz="1100" spc="-1" strike="noStrike">
                        <a:solidFill>
                          <a:srgbClr val="000000"/>
                        </a:solidFill>
                        <a:latin typeface="Arial"/>
                      </a:endParaRPr>
                    </a:p>
                  </a:txBody>
                  <a:tcPr anchor="b"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lation &amp; Scope</a:t>
                      </a:r>
                      <a:endParaRPr b="0" lang="en-US" sz="11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Project Estima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ast Side A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ug-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eb-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3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94</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2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cond Avenue Subwa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4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ulton Street Transit Ce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B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0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5</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Fer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09</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1,79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513</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3,3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78" name=""/>
          <p:cNvSpPr/>
          <p:nvPr/>
        </p:nvSpPr>
        <p:spPr>
          <a:xfrm>
            <a:off x="6553080" y="52563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9C479EB8-EAE1-45EA-9265-C23D31C0C3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685800" y="1968480"/>
          <a:ext cx="7848360" cy="2984400"/>
        </p:xfrm>
        <a:graphic>
          <a:graphicData uri="http://schemas.openxmlformats.org/drawingml/2006/table">
            <a:tbl>
              <a:tblPr/>
              <a:tblGrid>
                <a:gridCol w="3047760"/>
                <a:gridCol w="1752840"/>
                <a:gridCol w="1628640"/>
                <a:gridCol w="1419120"/>
              </a:tblGrid>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capacity expansions</a:t>
                      </a:r>
                      <a:endParaRPr b="0" lang="en-US" sz="16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Current Fundin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2008-2013 Propos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Project Total</a:t>
                      </a:r>
                      <a:endParaRPr b="0" lang="en-US" sz="16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East Side Acces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3,1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7,244</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econd Avenue Subwa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3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34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7980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Fulton Street Transit Center</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9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198</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outh Ferr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51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Regional Investment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MTA Administration</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5,5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bl>
          </a:graphicData>
        </a:graphic>
      </p:graphicFrame>
      <p:sp>
        <p:nvSpPr>
          <p:cNvPr id="80" name=""/>
          <p:cNvSpPr/>
          <p:nvPr/>
        </p:nvSpPr>
        <p:spPr>
          <a:xfrm>
            <a:off x="7620120" y="51800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omplete projects underway</a:t>
            </a:r>
            <a:endParaRPr b="0" lang="en-US" sz="2800" spc="-1" strike="noStrike">
              <a:solidFill>
                <a:srgbClr val="000000"/>
              </a:solidFill>
              <a:latin typeface="Arial"/>
            </a:endParaRPr>
          </a:p>
        </p:txBody>
      </p:sp>
      <p:sp>
        <p:nvSpPr>
          <p:cNvPr id="82"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6A0593C-171C-4BA3-9382-A280096ADC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nd Market Uncertainty Fu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wide fund to ensure promised projects can be built given accelerated timeframe and market uncertain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dependent on review by Independent Engineer and MTA Office of Construction Oversight</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with schedule/scope/budget risks will undergo post-plan scope and risk review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range of costs and present to the Board</a:t>
            </a: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Fund and Contro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9B282E8-18E3-4333-B4BB-9F3A72578D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5410080"/>
            <a:ext cx="8229600" cy="106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estment in transit, widely recognized as fundamental to economic prosperity, must keep pa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106668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ions of the region are expected to experience robust population grow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438280" y="2057400"/>
            <a:ext cx="4114800" cy="2990880"/>
          </a:xfrm>
          <a:prstGeom prst="rect">
            <a:avLst/>
          </a:prstGeom>
          <a:ln w="0">
            <a:noFill/>
          </a:ln>
        </p:spPr>
      </p:pic>
      <p:sp>
        <p:nvSpPr>
          <p:cNvPr id="89" name=""/>
          <p:cNvSpPr/>
          <p:nvPr/>
        </p:nvSpPr>
        <p:spPr>
          <a:xfrm>
            <a:off x="457200" y="152280"/>
            <a:ext cx="8229600" cy="83844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er 3:  2008-2013 Capacity Expansion Investment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BEA0D34-1E3E-483B-BF5C-BC485E2589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85800" y="1620720"/>
          <a:ext cx="7467480" cy="3640320"/>
        </p:xfrm>
        <a:graphic>
          <a:graphicData uri="http://schemas.openxmlformats.org/drawingml/2006/table">
            <a:tbl>
              <a:tblPr/>
              <a:tblGrid>
                <a:gridCol w="4952880"/>
                <a:gridCol w="1143000"/>
                <a:gridCol w="1371600"/>
              </a:tblGrid>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CPRB Program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35</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ion of Existing Capacity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69</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ew Capacity Expansion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BTC Flushing and Qns. Blvd*</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econd Avenue Subway Next Phase*</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Penn Acces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Jamaica Capacity Improvement</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7 Fleet Expansion</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pacity Planning Studie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ustainability Investments</a:t>
                      </a:r>
                      <a:endParaRPr b="0" lang="en-US" sz="1400" spc="-1" strike="noStrike">
                        <a:solidFill>
                          <a:srgbClr val="000000"/>
                        </a:solidFill>
                        <a:latin typeface="Arial"/>
                      </a:endParaRPr>
                    </a:p>
                  </a:txBody>
                  <a:tcPr anchor="b" marL="90000" marR="90000">
                    <a:lnL w="288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mplementation Initiatives for Congestion Mitigation ($767 million)</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5760">
                      <a:solidFill>
                        <a:srgbClr val="000000"/>
                      </a:solidFill>
                    </a:lnB>
                    <a:noFill/>
                  </a:tcPr>
                </a:tc>
              </a:tr>
              <a:tr h="307080">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otal Core CPRB Program, Current Expansions and New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29,554</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91" name=""/>
          <p:cNvSpPr/>
          <p:nvPr/>
        </p:nvSpPr>
        <p:spPr>
          <a:xfrm>
            <a:off x="7391520" y="56372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762120" y="6019920"/>
            <a:ext cx="7696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leted over two plan peri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d for by Congestion Pricing revenues</a:t>
            </a:r>
            <a:endParaRPr b="0" lang="en-US" sz="1000" spc="-1" strike="noStrike">
              <a:solidFill>
                <a:srgbClr val="000000"/>
              </a:solidFill>
              <a:latin typeface="Arial"/>
            </a:endParaRPr>
          </a:p>
        </p:txBody>
      </p:sp>
      <p:sp>
        <p:nvSpPr>
          <p:cNvPr id="93" name=""/>
          <p:cNvSpPr/>
          <p:nvPr/>
        </p:nvSpPr>
        <p:spPr>
          <a:xfrm>
            <a:off x="457200" y="274680"/>
            <a:ext cx="83059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3:  Core Program, </a:t>
            </a:r>
            <a:br>
              <a:rPr sz="2400"/>
            </a:br>
            <a:r>
              <a:rPr b="1" lang="en-US" sz="2400" spc="-1" strike="noStrike">
                <a:solidFill>
                  <a:srgbClr val="ffffff"/>
                </a:solidFill>
                <a:latin typeface="Arial"/>
              </a:rPr>
              <a:t>Completion of Current Expansions, New Expansion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748B049-AE7B-4582-814F-65C7CED679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1523880"/>
            <a:ext cx="822960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based Train Control:  </a:t>
            </a:r>
            <a:r>
              <a:rPr b="0" lang="en-US" sz="1400" spc="-1" strike="noStrike">
                <a:solidFill>
                  <a:srgbClr val="000000"/>
                </a:solidFill>
                <a:latin typeface="Arial"/>
              </a:rPr>
              <a:t> Installs CBTC on the Flushing line and progresses CBTC on the Queens Blvd line, which would be completed in the next program, to provide more subway service to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Avenue Subway Next Phase:</a:t>
            </a:r>
            <a:r>
              <a:rPr b="0" lang="en-US" sz="1400" spc="-1" strike="noStrike">
                <a:solidFill>
                  <a:srgbClr val="000000"/>
                </a:solidFill>
                <a:latin typeface="Arial"/>
              </a:rPr>
              <a:t>  Implements a new phase of Second Avenue Subway over the next two Capital Progra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 Station Access:  </a:t>
            </a:r>
            <a:r>
              <a:rPr b="0" lang="en-US" sz="1400" spc="-1" strike="noStrike">
                <a:solidFill>
                  <a:srgbClr val="000000"/>
                </a:solidFill>
                <a:latin typeface="Arial"/>
              </a:rPr>
              <a:t>Provides for the initial phase of a new service into Penn Station for Metro-North’s Hudson and New Haven lines, including new stations in eastern Bronx and the westside of Manhatt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maica Capacity Improvements:</a:t>
            </a:r>
            <a:r>
              <a:rPr b="0" lang="en-US" sz="1400" spc="-1" strike="noStrike">
                <a:solidFill>
                  <a:srgbClr val="000000"/>
                </a:solidFill>
                <a:latin typeface="Arial"/>
              </a:rPr>
              <a:t>  Reconfigures signals and station layout to enhance service to Manhattan and Brooklyn and to support ES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 Fleet Expansion:  </a:t>
            </a:r>
            <a:r>
              <a:rPr b="0" lang="en-US" sz="1400" spc="-1" strike="noStrike">
                <a:solidFill>
                  <a:srgbClr val="000000"/>
                </a:solidFill>
                <a:latin typeface="Arial"/>
              </a:rPr>
              <a:t> Provides additional capacity between Manhattan and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Planning Studies</a:t>
            </a:r>
            <a:r>
              <a:rPr b="0" lang="en-US" sz="1400" spc="-1" strike="noStrike">
                <a:solidFill>
                  <a:srgbClr val="000000"/>
                </a:solidFill>
                <a:latin typeface="Arial"/>
              </a:rPr>
              <a:t>:   Provides for targeted studies of Queens, Bronx, Upper Westside of Manhattan, Southeastern Brooklyn, Staten Island North Shore, Long Island and West of Hudson  to guide future system expansion programs in these are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ility Investments:  </a:t>
            </a:r>
            <a:r>
              <a:rPr b="0" lang="en-US" sz="1400" spc="-1" strike="noStrike">
                <a:solidFill>
                  <a:srgbClr val="000000"/>
                </a:solidFill>
                <a:latin typeface="Arial"/>
              </a:rPr>
              <a:t>Implements MTA-wide and agency specific projects to enhance MTA’s environmental stewardshi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New Capacity Expans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1A20C15-B4F4-4155-BB57-27D38A9BDE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609480" y="152388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A plan has been presented to the Commission and a copy was provided to the MTA Board</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new and enhanced services to accommodate auto diversions and long-term improvements to existing transit service</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2013 investments total $767 mill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ity and suburban buses and subway ca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bus depots to service and support additional bus servic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way station improvement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urban buses and park and ride </a:t>
            </a:r>
            <a:endParaRPr b="0" lang="en-US" sz="2000" spc="-1" strike="noStrike">
              <a:solidFill>
                <a:srgbClr val="000000"/>
              </a:solidFill>
              <a:latin typeface="Arial"/>
            </a:endParaRPr>
          </a:p>
        </p:txBody>
      </p:sp>
      <p:sp>
        <p:nvSpPr>
          <p:cNvPr id="9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estion Pricing Implement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28AB267-98C6-496D-9398-9FCBA9F6E1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on Pricing Service Improvements</a:t>
            </a: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3962520" cy="3359160"/>
          </a:xfrm>
          <a:prstGeom prst="rect">
            <a:avLst/>
          </a:prstGeom>
          <a:ln w="0">
            <a:noFill/>
          </a:ln>
        </p:spPr>
      </p:pic>
      <p:sp>
        <p:nvSpPr>
          <p:cNvPr id="102" name=""/>
          <p:cNvSpPr/>
          <p:nvPr/>
        </p:nvSpPr>
        <p:spPr>
          <a:xfrm>
            <a:off x="762120" y="1752480"/>
            <a:ext cx="36576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new bus routes in Queens, Brookly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48 bus routes in Staten Island, Queens, Manhatta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 new bu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the 1, E, 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rains on the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focused on underserved neighborhood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FF90C3C-EE46-4502-B505-479F697659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graphicFrame>
        <p:nvGraphicFramePr>
          <p:cNvPr id="104" name=""/>
          <p:cNvGraphicFramePr/>
          <p:nvPr/>
        </p:nvGraphicFramePr>
        <p:xfrm>
          <a:off x="1066680" y="1981080"/>
          <a:ext cx="6858000" cy="3560760"/>
        </p:xfrm>
        <a:graphic>
          <a:graphicData uri="http://schemas.openxmlformats.org/drawingml/2006/table">
            <a:tbl>
              <a:tblPr/>
              <a:tblGrid>
                <a:gridCol w="5648400"/>
                <a:gridCol w="12096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Formula and Flexibl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Securit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y Funding (including MTA Bu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7</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et Sal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Guardia Reprogramm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rryover Funds from 05-09</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8</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Bonds (assumed in the MTA’s Financial Plan to be supported by new state funding and local match)</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nds based on Congestion Pric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dentified Sourc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20,24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105" name=""/>
          <p:cNvSpPr/>
          <p:nvPr/>
        </p:nvSpPr>
        <p:spPr>
          <a:xfrm>
            <a:off x="533520" y="8380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tential Funding Sourc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94C4449-4DCF-417E-9B3E-51A7B8C408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enesis of the Accelerated Program</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 statute created NYC Traffic Congestion Mitigation Commission required the MTA to submit a 2008-2013 Capital Program in March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submission allows congestion pricing discussion to continue in the context of transit nee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only being asked to approve submission to the Capital Program Review Board in Febru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be submitted for consideration to the Operating Committees, Finance and the full Board in March</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F8AF6E-A970-4666-B686-0FF7A0E8F3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Vital Fundamental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fill Commitments to Enhance Capacit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gion in Global Economy</a:t>
            </a:r>
            <a:endParaRPr b="0" lang="en-US" sz="2800" spc="-1" strike="noStrike">
              <a:solidFill>
                <a:srgbClr val="000000"/>
              </a:solidFill>
              <a:latin typeface="Arial"/>
            </a:endParaRPr>
          </a:p>
        </p:txBody>
      </p:sp>
      <p:sp>
        <p:nvSpPr>
          <p:cNvPr id="5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0492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Go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99133B2-76AB-463A-96D9-15D86A7812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447920" y="1616040"/>
          <a:ext cx="5867280" cy="3564000"/>
        </p:xfrm>
        <a:graphic>
          <a:graphicData uri="http://schemas.openxmlformats.org/drawingml/2006/table">
            <a:tbl>
              <a:tblPr/>
              <a:tblGrid>
                <a:gridCol w="4209840"/>
                <a:gridCol w="1657440"/>
              </a:tblGrid>
              <a:tr h="916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Core Program Onl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2:  Core with Current Expans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3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3:  Core, Current Expansion an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9,55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Capacit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row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Investment Compon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724B098-5E9A-481F-AC99-9B1B0908F1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1: Core Program</a:t>
            </a:r>
            <a:endParaRPr b="0" lang="en-US" sz="2400" spc="-1" strike="noStrike">
              <a:solidFill>
                <a:srgbClr val="000000"/>
              </a:solidFill>
              <a:latin typeface="Arial"/>
            </a:endParaRPr>
          </a:p>
        </p:txBody>
      </p:sp>
      <p:graphicFrame>
        <p:nvGraphicFramePr>
          <p:cNvPr id="59" name=""/>
          <p:cNvGraphicFramePr/>
          <p:nvPr/>
        </p:nvGraphicFramePr>
        <p:xfrm>
          <a:off x="609480" y="1600200"/>
          <a:ext cx="7391520" cy="2571480"/>
        </p:xfrm>
        <a:graphic>
          <a:graphicData uri="http://schemas.openxmlformats.org/drawingml/2006/table">
            <a:tbl>
              <a:tblPr/>
              <a:tblGrid>
                <a:gridCol w="5480280"/>
                <a:gridCol w="1911240"/>
              </a:tblGrid>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York City Transi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4,26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ng Island Rail 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2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o-North Rail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77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TA Bu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6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59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genc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Total Core CPRB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60" name=""/>
          <p:cNvSpPr/>
          <p:nvPr/>
        </p:nvSpPr>
        <p:spPr>
          <a:xfrm>
            <a:off x="7467480" y="47991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272A07A3-603F-4003-A3E6-E8217C7096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graphicFrame>
        <p:nvGraphicFramePr>
          <p:cNvPr id="62" name=""/>
          <p:cNvGraphicFramePr/>
          <p:nvPr/>
        </p:nvGraphicFramePr>
        <p:xfrm>
          <a:off x="533520" y="1143000"/>
          <a:ext cx="7924680" cy="5632560"/>
        </p:xfrm>
        <a:graphic>
          <a:graphicData uri="http://schemas.openxmlformats.org/drawingml/2006/table">
            <a:tbl>
              <a:tblPr/>
              <a:tblGrid>
                <a:gridCol w="2814480"/>
                <a:gridCol w="5110200"/>
              </a:tblGrid>
              <a:tr h="36828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ights: NYC Transit, LIRR and MNR</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ing Sto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0 subway car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2 NYCT buses, 484 MTA Bus buse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 commuter rail car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946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rehabilitations system-wide, including 44 comprehensive station rehabs (NYCT), 8 rehabs on the Harlem line (MNR), Babylon station rehab and Mineola intermodal expansion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clical track rehabilitation system-wid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Line corridor improvements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77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Structure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f overhead and undergrade bridges system-wide, including Atlantic Viaduct replacement Phase II (LIRR)</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CT flood control improvemen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nd Signal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modernization system-wide, including Dyre Avenue line (NYCT)</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ps and Yard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p, yards, depots and related upgrades system-wide, including Croton Harmon shop construction (MNR); MTA Bus and NYCT depo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tion modernizations and replacements system-wide, including power improvements along the Hudson/Harlem lines (MN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 name="PlaceHolder 1"/>
          <p:cNvSpPr>
            <a:spLocks noGrp="1"/>
          </p:cNvSpPr>
          <p:nvPr>
            <p:ph type="sldNum" idx="3"/>
          </p:nvPr>
        </p:nvSpPr>
        <p:spPr/>
        <p:txBody>
          <a:bodyPr/>
          <a:p>
            <a:fld id="{012E4D36-7746-476E-BD1D-27640D847C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A-Wide Core Investments</a:t>
            </a:r>
            <a:endParaRPr b="0" lang="en-US" sz="2400" spc="-1" strike="noStrike">
              <a:solidFill>
                <a:srgbClr val="000000"/>
              </a:solidFill>
              <a:latin typeface="Arial"/>
            </a:endParaRPr>
          </a:p>
        </p:txBody>
      </p:sp>
      <p:sp>
        <p:nvSpPr>
          <p:cNvPr id="64" name=""/>
          <p:cNvSpPr/>
          <p:nvPr/>
        </p:nvSpPr>
        <p:spPr>
          <a:xfrm>
            <a:off x="457200" y="1141560"/>
            <a:ext cx="8153280" cy="3965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ncludes projects that benefit all MTA agencies:</a:t>
            </a: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0M Security program </a:t>
            </a:r>
            <a:r>
              <a:rPr b="0" lang="en-US" sz="1800" spc="-1" strike="noStrike">
                <a:solidFill>
                  <a:srgbClr val="000000"/>
                </a:solidFill>
                <a:latin typeface="Arial"/>
              </a:rPr>
              <a:t>includes $318 million of projects from 05-09 Program and adds $272 million of new investment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wide security upgrades and system hardening</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unds to be pursued</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gency:</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A PD facility and communication upgrad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rehabilitation to support shared services </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studi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wide fund for project and market uncertain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A93F175-D919-48AF-8F61-03DD276AE9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219320" y="1371600"/>
          <a:ext cx="7010280" cy="2133720"/>
        </p:xfrm>
        <a:graphic>
          <a:graphicData uri="http://schemas.openxmlformats.org/drawingml/2006/table">
            <a:tbl>
              <a:tblPr/>
              <a:tblGrid>
                <a:gridCol w="4859280"/>
                <a:gridCol w="2151000"/>
              </a:tblGrid>
              <a:tr h="106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mp;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107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idges and Tunnel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sp>
        <p:nvSpPr>
          <p:cNvPr id="67" name=""/>
          <p:cNvSpPr/>
          <p:nvPr/>
        </p:nvSpPr>
        <p:spPr>
          <a:xfrm>
            <a:off x="7162920" y="28180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8" name=""/>
          <p:cNvSpPr/>
          <p:nvPr/>
        </p:nvSpPr>
        <p:spPr>
          <a:xfrm>
            <a:off x="457200" y="4419720"/>
            <a:ext cx="8153280" cy="21668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envelope reflects extraordinary investments needed to catch up on state-of-good-repair</a:t>
            </a:r>
            <a:endParaRPr b="0" lang="en-US" sz="24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mp;T not included in first two capital programs</a:t>
            </a:r>
            <a:endParaRPr b="0" lang="en-US" sz="20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not subject to CPRB review/approval</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41FC50B-9B5D-4B70-88D1-F12752A7AB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391520" y="37324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0" name=""/>
          <p:cNvSpPr/>
          <p:nvPr/>
        </p:nvSpPr>
        <p:spPr>
          <a:xfrm>
            <a:off x="228600" y="274680"/>
            <a:ext cx="87631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2:  Core Program and </a:t>
            </a:r>
            <a:br>
              <a:rPr sz="2400"/>
            </a:br>
            <a:r>
              <a:rPr b="1" lang="en-US" sz="2400" spc="-1" strike="noStrike">
                <a:solidFill>
                  <a:srgbClr val="ffffff"/>
                </a:solidFill>
                <a:latin typeface="Arial"/>
              </a:rPr>
              <a:t>Completion of Current Expansion Projects</a:t>
            </a:r>
            <a:endParaRPr b="0" lang="en-US" sz="2400" spc="-1" strike="noStrike">
              <a:solidFill>
                <a:srgbClr val="000000"/>
              </a:solidFill>
              <a:latin typeface="Arial"/>
            </a:endParaRPr>
          </a:p>
        </p:txBody>
      </p:sp>
      <p:graphicFrame>
        <p:nvGraphicFramePr>
          <p:cNvPr id="71" name=""/>
          <p:cNvGraphicFramePr/>
          <p:nvPr/>
        </p:nvGraphicFramePr>
        <p:xfrm>
          <a:off x="685800" y="2036880"/>
          <a:ext cx="7848360" cy="1468440"/>
        </p:xfrm>
        <a:graphic>
          <a:graphicData uri="http://schemas.openxmlformats.org/drawingml/2006/table">
            <a:tbl>
              <a:tblPr/>
              <a:tblGrid>
                <a:gridCol w="5886360"/>
                <a:gridCol w="1962000"/>
              </a:tblGrid>
              <a:tr h="5540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re Program Investments with Full Reserv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5396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mplete Expansion Projects Underwa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5,519</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74760">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Total Core CPRB Program and Current Expansion</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26,304</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2" name="PlaceHolder 1"/>
          <p:cNvSpPr>
            <a:spLocks noGrp="1"/>
          </p:cNvSpPr>
          <p:nvPr>
            <p:ph type="sldNum" idx="3"/>
          </p:nvPr>
        </p:nvSpPr>
        <p:spPr/>
        <p:txBody>
          <a:bodyPr/>
          <a:p>
            <a:fld id="{73FD6D4E-F8F3-4E41-B811-5CFB17E94D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4:26:21Z</dcterms:created>
  <dc:creator>MTA</dc:creator>
  <dc:description/>
  <dc:language>en-US</dc:language>
  <cp:lastModifiedBy>MTA</cp:lastModifiedBy>
  <dcterms:modified xsi:type="dcterms:W3CDTF">2008-02-27T14:47:25Z</dcterms:modified>
  <cp:revision>196</cp:revision>
  <dc:subject/>
  <dc:title>Sizing the Core Program</dc:title>
</cp:coreProperties>
</file>