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98800" y="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0808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883908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98800" y="883908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85CCC0C-E050-4F91-BD59-30B509DA3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068480" y="660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148" name=""/>
          <p:cNvSpPr/>
          <p:nvPr/>
        </p:nvSpPr>
        <p:spPr>
          <a:xfrm>
            <a:off x="290520" y="5200560"/>
            <a:ext cx="6361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68480" y="647640"/>
            <a:ext cx="4707000" cy="3530520"/>
          </a:xfrm>
          <a:prstGeom prst="rect">
            <a:avLst/>
          </a:prstGeom>
          <a:ln w="0">
            <a:noFill/>
          </a:ln>
        </p:spPr>
      </p:sp>
      <p:sp>
        <p:nvSpPr>
          <p:cNvPr id="151" name=""/>
          <p:cNvSpPr/>
          <p:nvPr/>
        </p:nvSpPr>
        <p:spPr>
          <a:xfrm>
            <a:off x="290520" y="5200560"/>
            <a:ext cx="6361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68480" y="46980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154" name=""/>
          <p:cNvSpPr/>
          <p:nvPr/>
        </p:nvSpPr>
        <p:spPr>
          <a:xfrm>
            <a:off x="290520" y="5200560"/>
            <a:ext cx="6361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068480" y="736560"/>
            <a:ext cx="4707000" cy="3530520"/>
          </a:xfrm>
          <a:prstGeom prst="rect">
            <a:avLst/>
          </a:prstGeom>
          <a:ln w="0">
            <a:noFill/>
          </a:ln>
        </p:spPr>
      </p:sp>
      <p:sp>
        <p:nvSpPr>
          <p:cNvPr id="157" name=""/>
          <p:cNvSpPr/>
          <p:nvPr/>
        </p:nvSpPr>
        <p:spPr>
          <a:xfrm>
            <a:off x="290520" y="5200560"/>
            <a:ext cx="6361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9BCE-578D-488B-BD18-DD728C4F1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8C42-2CEC-476E-979C-E6013898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9B38-A90D-40C9-926B-842B9DA1B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B27F-A4A4-4C72-8303-6BE7560BE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ECF5-4252-4DEE-8CA7-6734D907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0F03-4F92-4868-A5FA-BF65C922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7D31-B215-4DD5-ADB1-A1F7BDE2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4D2F-0023-4B83-9720-12B9A91F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61600" y="81000"/>
            <a:ext cx="800100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035B-ED82-4654-A0D1-F52C4027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280A-7C8A-4EC8-9F47-24F42A9B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B0FF-A97F-40AD-8EEF-CF8D7C7D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7005-4A39-46B3-86AD-6C083943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80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300720"/>
            <a:ext cx="8686800" cy="405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565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3888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015400" y="6496200"/>
            <a:ext cx="971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D8F6-C922-4143-B84E-9326F4AA79A9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6560" y="628956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July 2008 Financial Plan 2009-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09840" y="2540160"/>
            <a:ext cx="4267080" cy="3060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61920" y="633240"/>
            <a:ext cx="7191360" cy="17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MTA 2009 Preliminary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July Financial Plan 2009 – 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54760" y="3894120"/>
            <a:ext cx="3888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73920" y="6300720"/>
            <a:ext cx="1925640" cy="397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F4AC-83AF-4C4C-9097-A773353BA4D0}" type="slidenum">
              <a:t>1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617400" y="1498680"/>
          <a:ext cx="7967880" cy="233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498680"/>
                    <a:ext cx="796788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81000"/>
            <a:ext cx="7594560" cy="13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ith Gap Closing Actions 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E7AC-0868-4A0C-9BF0-86A46BC40A4A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609480" y="1305000"/>
          <a:ext cx="7905960" cy="383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05000"/>
                    <a:ext cx="790596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81040" y="80640"/>
            <a:ext cx="797544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Gap Closing: Internal Actions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EB22-95A4-4DCE-A118-30601B8912BF}" type="slidenum">
              <a:t>11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2200" y="80640"/>
            <a:ext cx="773748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ap Closing: 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nternal Actions Already Taken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79160" y="1285920"/>
            <a:ext cx="8219880" cy="35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gency-wide Service Enhancements Cancelled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dministrative Cost Reductions: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2286000" indent="-28584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iring Delays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2286000" indent="-28584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vel Restriction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2286000" indent="-28584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hicle Usage Reduction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usiness Developmen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1334-D3F1-41EF-BEFA-0315FACA2D42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01280" y="80640"/>
            <a:ext cx="773748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ap-Closing: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nternal Actions to be Taken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79160" y="894960"/>
            <a:ext cx="81867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Recurring Action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009 &amp; Post-2009 Agency-wide Reduction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ew Contracts Labor Contributi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usiness Service Cent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TA Reorganizati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duce Subsidy LI Bu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liminate E-ZPass Forgivenes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627D-6A1E-483C-90A1-AF4DD0F033D5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Gap-Closing: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nternal Actions to be Take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One-Time Opportunitie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ter-Agency Loa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cover Uncommitted Spending From Prior Year Surplu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A5F8-5C7B-4003-A05B-95A393F33279}" type="slidenum">
              <a:t>14</a:t>
            </a:fld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200160" y="736560"/>
          <a:ext cx="8740800" cy="46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736560"/>
                    <a:ext cx="8740800" cy="46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42880" y="81000"/>
            <a:ext cx="803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Year-to-Year Changes in Expens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8360" y="5143680"/>
            <a:ext cx="7823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ncontrollable Operating Expenses include Paratransit Service Contracts, Fuel for Buses &amp; Trains, Traction &amp; Propulsion Power, OPEB Current Payment, Health &amp; Welfare, Pensions (see note below), and  Insuran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trollable Operating Expenses include Payroll, Overtime, Claims, Other-Fringe Benefits, Reimbursable Overhead, Maintenance &amp; Other Operating Contracts, Professional Service Contracts, and Materials &amp; Supplies, Other Business Expenses, Other Expense Adjustments, and Gap Closing Act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Expense Growth includes the General Reserve and the impact of the Gap Closing Actions but excludes Debt Servi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008 Pensions exclude a one-time payment to NYCERS and MaBSTOA for refunds associated with the 55/25 retirement progra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7D64-86AA-4EB6-A596-A80A74827F66}" type="slidenum">
              <a:t>15</a:t>
            </a:fld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600120" y="1390680"/>
          <a:ext cx="7905600" cy="234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120" y="1390680"/>
                    <a:ext cx="790560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81040" y="80640"/>
            <a:ext cx="797544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Gap Closing: External Actions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066C-27C9-4CF2-B329-BCA24F43C834}" type="slidenum">
              <a:t>16</a:t>
            </a:fld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609480" y="1390680"/>
          <a:ext cx="7905960" cy="10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90680"/>
                    <a:ext cx="790596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81040" y="80640"/>
            <a:ext cx="797544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Gap Closing: Fare &amp; Toll Yield Changes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6322-78DD-4980-A150-828E9C59929A}" type="slidenum">
              <a:t>17</a:t>
            </a:fld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62000" y="1366920"/>
          <a:ext cx="8804160" cy="46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1366920"/>
                    <a:ext cx="8804160" cy="46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31440" y="81000"/>
            <a:ext cx="7851960" cy="114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losing Cash Balance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30EE-3E9E-4512-9559-6B6BBFD280CF}" type="slidenum">
              <a:t>18</a:t>
            </a:fld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1171440" y="1666800"/>
          <a:ext cx="6762960" cy="285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1440" y="1666800"/>
                    <a:ext cx="676296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4280" y="81000"/>
            <a:ext cx="831060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f External Actions Fail &amp; No New Revenue Streams are Identified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E04F-BBB1-4283-88D7-7C464727C270}" type="slidenum">
              <a:t>19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0400" y="140760"/>
            <a:ext cx="77724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rocess and Timetabl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0200" y="1300320"/>
            <a:ext cx="834696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-year financial planning process kicks off in July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e process encourages public discourse and culminates in Board approval of the 2009 Budget in Decemb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 Board action today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alanced budget required “based on reasonable assumptions and methods of estimation…”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6F04-1C10-48EC-9DA5-089D92162985}" type="slidenum">
              <a:t>2</a:t>
            </a:fld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91920" y="80640"/>
            <a:ext cx="773748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Next Step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9440" y="1590840"/>
            <a:ext cx="8186760" cy="30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ugust to November: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ublic discourse on Preliminary Budge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Late November: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nal Proposed Budget presented to MTA Board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Early December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avitch Commission issues repor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Late December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TA Board adopts Budget and schedules public hearings for changes in fares and tolls and for service reductions, if necessary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5976-CF26-4051-9957-05D6C2357993}" type="slidenum">
              <a:t>20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520" y="83880"/>
            <a:ext cx="78073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ebruary Financial Plan</a:t>
            </a:r>
            <a:br>
              <a:rPr sz="24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losing Cash Balance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49200" y="1346040"/>
          <a:ext cx="8445600" cy="44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1346040"/>
                    <a:ext cx="844560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F015-7BD4-4386-AC5A-76FBC5D09DD6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99840" y="80640"/>
            <a:ext cx="772956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pdate on Major Risk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4545000" y="3265560"/>
            <a:ext cx="4321080" cy="28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July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al Estate Market is Very So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gional Economy is We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uge Energy Price Increases due to Global Market Fo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Growth in Controllable Expenses Consistent with Budget Foreca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61920" y="914400"/>
            <a:ext cx="22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July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5240" y="1211400"/>
            <a:ext cx="3879720" cy="287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 rot="2488800">
            <a:off x="4020840" y="2487240"/>
            <a:ext cx="1768320" cy="685800"/>
          </a:xfrm>
          <a:custGeom>
            <a:avLst/>
            <a:gdLst>
              <a:gd name="textAreaLeft" fmla="*/ 276120 w 1768320"/>
              <a:gd name="textAreaRight" fmla="*/ 1432080 w 1768320"/>
              <a:gd name="textAreaTop" fmla="*/ 155880 h 685800"/>
              <a:gd name="textAreaBottom" fmla="*/ 52992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4915"/>
                </a:moveTo>
                <a:lnTo>
                  <a:pt x="14060" y="4915"/>
                </a:lnTo>
                <a:lnTo>
                  <a:pt x="14060" y="0"/>
                </a:lnTo>
                <a:lnTo>
                  <a:pt x="21600" y="10800"/>
                </a:lnTo>
                <a:lnTo>
                  <a:pt x="14060" y="21600"/>
                </a:lnTo>
                <a:lnTo>
                  <a:pt x="14060" y="16685"/>
                </a:lnTo>
                <a:lnTo>
                  <a:pt x="3375" y="16685"/>
                </a:lnTo>
                <a:close/>
              </a:path>
              <a:path w="21600" h="21600">
                <a:moveTo>
                  <a:pt x="0" y="4915"/>
                </a:moveTo>
                <a:lnTo>
                  <a:pt x="675" y="4915"/>
                </a:lnTo>
                <a:lnTo>
                  <a:pt x="675" y="16685"/>
                </a:lnTo>
                <a:lnTo>
                  <a:pt x="0" y="16685"/>
                </a:lnTo>
                <a:close/>
              </a:path>
              <a:path w="21600" h="21600">
                <a:moveTo>
                  <a:pt x="1350" y="4915"/>
                </a:moveTo>
                <a:lnTo>
                  <a:pt x="2700" y="4915"/>
                </a:lnTo>
                <a:lnTo>
                  <a:pt x="2700" y="16685"/>
                </a:lnTo>
                <a:lnTo>
                  <a:pt x="1350" y="16685"/>
                </a:ln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100000">
                <a:srgbClr val="ff7c80"/>
              </a:gs>
            </a:gsLst>
            <a:lin ang="831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530D-10C3-4299-8451-B5D8BFD50E91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6840" y="487440"/>
            <a:ext cx="868068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ignificant Changes from February Pla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(2008-2009)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1120" y="1933200"/>
            <a:ext cx="851688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Fuel and Energy Costs:                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$208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49"/>
              </a:spcBef>
              <a:spcAft>
                <a:spcPts val="975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Impact of Economic Downturn on Tax Revenues</a:t>
            </a: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49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al Estate Tax Revenues: 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$443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ate Tax Revenues:              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$60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2978-2183-49B9-90E0-14277155BC1C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7640" y="81000"/>
            <a:ext cx="78012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Energy Expense Growth 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007-2009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44520" y="1252440"/>
          <a:ext cx="8437680" cy="45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520" y="1252440"/>
                    <a:ext cx="843768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2085840" y="2525760"/>
            <a:ext cx="65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48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22600" y="1695600"/>
            <a:ext cx="655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62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18400" y="1468440"/>
            <a:ext cx="655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67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4840" y="3121200"/>
            <a:ext cx="65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62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40160" y="4422600"/>
            <a:ext cx="65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6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07160" y="2889360"/>
            <a:ext cx="65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6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21560" y="4495680"/>
            <a:ext cx="65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11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01D6-A461-4484-A78E-89526D2D0417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47840" y="80640"/>
            <a:ext cx="82296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al Estate Transaction Taxes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ctual Collections and July 2008 Plan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38120" y="1155600"/>
          <a:ext cx="8229600" cy="531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155600"/>
                    <a:ext cx="8229600" cy="53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571760" y="2112840"/>
            <a:ext cx="606240" cy="622440"/>
          </a:xfrm>
          <a:prstGeom prst="borderCallout1">
            <a:avLst>
              <a:gd name="adj1" fmla="val 18750"/>
              <a:gd name="adj2" fmla="val -8333"/>
              <a:gd name="adj3" fmla="val 561990"/>
              <a:gd name="adj4" fmla="val -64921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RT-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Star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6/197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0.25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122560"/>
            <a:ext cx="925560" cy="798480"/>
          </a:xfrm>
          <a:prstGeom prst="borderCallout1">
            <a:avLst>
              <a:gd name="adj1" fmla="val 18750"/>
              <a:gd name="adj2" fmla="val -8333"/>
              <a:gd name="adj3" fmla="val 427236"/>
              <a:gd name="adj4" fmla="val -71013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Urban T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Star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5/198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RPTT: 1.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RT: 0.625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59280" y="2111400"/>
            <a:ext cx="614160" cy="631800"/>
          </a:xfrm>
          <a:prstGeom prst="borderCallout1">
            <a:avLst>
              <a:gd name="adj1" fmla="val 18750"/>
              <a:gd name="adj2" fmla="val -8333"/>
              <a:gd name="adj3" fmla="val 430402"/>
              <a:gd name="adj4" fmla="val -166148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RT-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Star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6/198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0.25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13280" y="1459080"/>
            <a:ext cx="698760" cy="780840"/>
          </a:xfrm>
          <a:prstGeom prst="borderCallout1">
            <a:avLst>
              <a:gd name="adj1" fmla="val 18750"/>
              <a:gd name="adj2" fmla="val -8333"/>
              <a:gd name="adj3" fmla="val 143087"/>
              <a:gd name="adj4" fmla="val 150907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RT-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R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crea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7/2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0.3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B2D3-8D1A-4911-83B4-02E987086121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920" y="80640"/>
            <a:ext cx="885348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al Estate Transaction Tax Receipt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ncern for More Than A Year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00160" y="2220840"/>
          <a:ext cx="4132080" cy="26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2220840"/>
                    <a:ext cx="4132080" cy="26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466560" y="4232160"/>
            <a:ext cx="1184400" cy="7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059280" y="3657240"/>
            <a:ext cx="1196640" cy="46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013200" y="2596680"/>
            <a:ext cx="1320480" cy="1049400"/>
            <a:chOff x="3013200" y="2596680"/>
            <a:chExt cx="1320480" cy="1049400"/>
          </a:xfrm>
        </p:grpSpPr>
        <p:sp>
          <p:nvSpPr>
            <p:cNvPr id="92" name=""/>
            <p:cNvSpPr/>
            <p:nvPr/>
          </p:nvSpPr>
          <p:spPr>
            <a:xfrm>
              <a:off x="3013200" y="2597400"/>
              <a:ext cx="659880" cy="104868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673800" y="2596320"/>
              <a:ext cx="659880" cy="104868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22280" y="3363840"/>
            <a:ext cx="1201680" cy="814320"/>
            <a:chOff x="422280" y="3363840"/>
            <a:chExt cx="1201680" cy="814320"/>
          </a:xfrm>
        </p:grpSpPr>
        <p:sp>
          <p:nvSpPr>
            <p:cNvPr id="95" name=""/>
            <p:cNvSpPr/>
            <p:nvPr/>
          </p:nvSpPr>
          <p:spPr>
            <a:xfrm>
              <a:off x="422280" y="3364200"/>
              <a:ext cx="600480" cy="81396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1023480" y="3363840"/>
              <a:ext cx="600480" cy="81360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01480" y="3130560"/>
            <a:ext cx="93960" cy="1141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0040" y="2992320"/>
            <a:ext cx="100080" cy="119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7040" y="2957400"/>
            <a:ext cx="252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lects increase in projection, in real dolla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7040" y="3097080"/>
            <a:ext cx="271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lects decrease in projection, in real dolla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2347920"/>
            <a:ext cx="228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flation Adjustment: 1982 – 1984 = 100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2960" y="1865160"/>
            <a:ext cx="404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djusted f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Inflation, MRT-2 Implementation Date &amp; MRT-1 Rate Increase($ in m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97280" y="2224080"/>
          <a:ext cx="4104000" cy="26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97280" y="2224080"/>
                    <a:ext cx="410400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4930920" y="1874880"/>
            <a:ext cx="386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ual Collections and July 2007 Financial Plan ($ in m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45040" y="3260880"/>
            <a:ext cx="93600" cy="1141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43600" y="3122640"/>
            <a:ext cx="100080" cy="119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70600" y="3087720"/>
            <a:ext cx="252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lects increase in proje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70600" y="3227400"/>
            <a:ext cx="271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lects decrease in proje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1360" y="5176800"/>
            <a:ext cx="87980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July 2007 Financial Pl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f 2008 receipts are identical to 2004 receipts, then $1,167 million drops out of the plan through 2011 ($309 million in 2008)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4200" y="1279440"/>
            <a:ext cx="8677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pril 2007 Finance Committ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al Estate Transaction Taxes, What If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5120" y="1362240"/>
            <a:ext cx="8712360" cy="351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5120" y="5254560"/>
            <a:ext cx="8712360" cy="8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6D62-8B14-4395-ACCB-513FDBE90840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228600" y="914400"/>
          <a:ext cx="8699400" cy="53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699400" cy="53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8880" y="81000"/>
            <a:ext cx="86850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hanges from the Februar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D0C9-0487-491B-AB52-33D73BFB46F9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David E. Keller</cp:lastModifiedBy>
  <cp:lastPrinted>2004-07-16T15:55:26Z</cp:lastPrinted>
  <dcterms:modified xsi:type="dcterms:W3CDTF">2008-07-22T18:58:03Z</dcterms:modified>
  <cp:revision>1172</cp:revision>
  <dc:subject/>
  <dc:title>Preliminary 2005 Budget and Financial Plan</dc:title>
</cp:coreProperties>
</file>