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3BD2E5-C7B5-4022-8675-1C2411100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0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62000" y="660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13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EDF-4A4A-468C-B0C3-B43E9080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8BF-E4E6-4774-B93D-38D5EB97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ED4-1C4D-4C2E-8E5E-5A6FB5D0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799-8BA4-4435-94A7-1ABF191D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E4A-3089-4B44-A38C-41BB21DF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ACF-B018-477B-987C-742EE115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0DD-5219-45A1-919D-EAD37465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349-67C2-4A54-B201-4481FF75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61600" y="81000"/>
            <a:ext cx="800100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F61-75FF-4E8E-9F04-E9371AC3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B48-8228-43FF-963C-6E8B932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36C-4970-46CC-AAD0-FF309FDA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787-CAFE-4266-9192-7E977A9F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80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00720"/>
            <a:ext cx="8686800" cy="40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5652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3888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15400" y="6496200"/>
            <a:ext cx="971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071B-DCDF-4837-AE80-F9768288B739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6560" y="628956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09840" y="2540160"/>
            <a:ext cx="426708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1920" y="633240"/>
            <a:ext cx="719136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Spe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Finance Committ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ee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54760" y="3894120"/>
            <a:ext cx="388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73920" y="6300720"/>
            <a:ext cx="1925640" cy="39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77760" y="5637240"/>
            <a:ext cx="7191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v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8DF-3FAC-4F47-8209-F8CD3F08487E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3640" y="1625760"/>
          <a:ext cx="7175520" cy="283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625760"/>
                    <a:ext cx="71755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 and Solutions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563-D60F-445C-87E3-EB4579BCDD19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600" y="80640"/>
            <a:ext cx="8001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urrent Economic Condi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920" y="774720"/>
          <a:ext cx="430848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59480" y="774720"/>
          <a:ext cx="4308480" cy="24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9480" y="7747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3440" y="3451320"/>
          <a:ext cx="4308480" cy="24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4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68840" y="3451320"/>
          <a:ext cx="4308480" cy="24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8840" y="3451320"/>
                    <a:ext cx="4308480" cy="2498760"/>
                  </a:xfrm>
                  <a:prstGeom prst="rect">
                    <a:avLst/>
                  </a:prstGeom>
                  <a:ln w="1908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E8C-897F-4AFE-8E22-60C8C44937CF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81000"/>
            <a:ext cx="80294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orecast of Economic Conditions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U.S. Gross Domestic Product, in Real Dollars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9960" y="1003320"/>
          <a:ext cx="832644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03320"/>
                    <a:ext cx="8326440" cy="483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176800" y="4511520"/>
            <a:ext cx="1776600" cy="70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9, the October Forecast is 3.2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13640" y="2712960"/>
            <a:ext cx="181764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10, the October Forecast is 3.6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9440" y="5834160"/>
            <a:ext cx="5464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GDP in 2000 Doll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 Global Insigh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00160" y="3344760"/>
            <a:ext cx="1814400" cy="550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2008, the October Forecast is 0.8% lower than the January Foreca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E72-06E0-434A-94C0-BED7C0A3BE41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YS Taxes: Corporate Surcharge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ounts for almost 50% of MMTOA</a:t>
            </a:r>
            <a:br>
              <a:rPr sz="24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19040" y="1081080"/>
          <a:ext cx="843300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081080"/>
                    <a:ext cx="8433000" cy="4889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42960" y="3849840"/>
          <a:ext cx="3591000" cy="113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49840"/>
                    <a:ext cx="3591000" cy="113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3B5-4D45-4354-9E5B-7281025378D9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al Estate Transaction Taxes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5760" y="1077840"/>
            <a:ext cx="8204040" cy="4759200"/>
            <a:chOff x="455760" y="1077840"/>
            <a:chExt cx="8204040" cy="4759200"/>
          </a:xfrm>
        </p:grpSpPr>
        <p:graphicFrame>
          <p:nvGraphicFramePr>
            <p:cNvPr id="84" name=""/>
            <p:cNvGraphicFramePr/>
            <p:nvPr/>
          </p:nvGraphicFramePr>
          <p:xfrm>
            <a:off x="455760" y="1077840"/>
            <a:ext cx="8204040" cy="475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5760" y="1077840"/>
                      <a:ext cx="8204040" cy="4759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15756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6240" y="515592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4360" y="514800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u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81320" y="51591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49720" y="5168880"/>
              <a:ext cx="47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18480" y="5160960"/>
              <a:ext cx="47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621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7560" y="555300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8040" y="5556240"/>
              <a:ext cx="158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24120" y="554040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4600" y="5533920"/>
              <a:ext cx="47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43640" y="5546520"/>
              <a:ext cx="47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4524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76840" y="133812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346040"/>
            <a:ext cx="0" cy="3857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9000" y="1346040"/>
            <a:ext cx="0" cy="386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342-5B4C-4A21-A38C-3B36D2F61624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863640" y="1447920"/>
          <a:ext cx="7188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447920"/>
                    <a:ext cx="7188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81000"/>
            <a:ext cx="7594560" cy="13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at got better? What got worse?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367-5816-4D34-BE4D-6DB43EA1FF17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600" y="81000"/>
            <a:ext cx="80010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ovember Solu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ditional 1% Fare/Toll Yield Increase - $29M (6/09 Start) ; $50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gency 1% Reductions - $44M (7/09) ; $87M annu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63A-CA8D-47E8-9B8D-55C73C03DE59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1920" y="80640"/>
            <a:ext cx="77374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December Opportuniti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800" y="1590840"/>
            <a:ext cx="82504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avitch Commission report released on December 5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 Executive Budget released on December 16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-112680">
              <a:spcBef>
                <a:spcPts val="601"/>
              </a:spcBef>
              <a:spcAft>
                <a:spcPts val="9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TA Board Budget Adoption in December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1126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85F-F3B8-452E-A535-C549E541A2C6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MTA</dc:creator>
  <dc:description/>
  <dc:language>en-US</dc:language>
  <cp:lastModifiedBy>David E. Keller</cp:lastModifiedBy>
  <cp:lastPrinted>2004-07-16T15:55:26Z</cp:lastPrinted>
  <dcterms:modified xsi:type="dcterms:W3CDTF">2008-11-07T22:23:41Z</dcterms:modified>
  <cp:revision>1209</cp:revision>
  <dc:subject/>
  <dc:title>Preliminary 2005 Budget and Financial Plan</dc:title>
</cp:coreProperties>
</file>