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808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9880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3CC068-A89A-45AB-938F-B808FA3D1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6848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68480" y="64764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8480" y="46980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68480" y="73656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290520" y="5200560"/>
            <a:ext cx="636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317-83DD-4203-B8E8-CC129D26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B93-255C-45B4-9D8D-84EF5F3A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60E-A1DC-4802-9F48-E056C490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873-3A3B-4DCE-BAE7-5471D77E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6DC-C781-401D-B05D-A8DB70D9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3B6-AC21-4D10-9E66-CCCB6B3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A2C-CDB7-44BB-AD30-1C5175CF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98A-069C-4D70-BBD8-F064E036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D05-AE00-40C9-B818-0099ED2F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4D-9E45-435C-802A-227CF42C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1809-A3F5-4AB9-904A-13782E4C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C9B-8F6A-4879-A6F2-62CDAEA1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F68-DE35-4940-9E9B-223B5C3498F4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July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9 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July Financial Plan 2009 –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798-7126-4525-AAE9-45517321021F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498680"/>
          <a:ext cx="7967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498680"/>
                    <a:ext cx="7967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Gap Closing Actions 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FD9-BAA6-4A75-B50C-268D3E5ECC81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305000"/>
          <a:ext cx="790596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5000"/>
                    <a:ext cx="79059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In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9B1-0233-4C98-B54B-4D1E8BEA13EC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200" y="80640"/>
            <a:ext cx="77374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 Closing: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Already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9160" y="1285920"/>
            <a:ext cx="821988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cy-wide Service Enhancements Cancell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istrative Cost Reductions: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iring Delay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vel Restri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2286000" indent="-28584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hicle Usag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655-662B-4430-91A1-24D6520740E2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01280" y="80640"/>
            <a:ext cx="773748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9160" y="894960"/>
            <a:ext cx="8186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urring A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009 &amp; Post-2009 Agency-wide Reduction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w Contracts Labor Contribu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siness Service Cent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duce Subsidy LI B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iminate E-ZPass Forgivenes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CF4-5A03-4E0C-95D2-78586E0FF2B4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-Closing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ternal Actions to be Take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ne-Time Opportunitie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-Agency Loa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ver Uncommitted Spending From Prior Year Surplu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580-70EE-4358-B8FE-1BAE701537DA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00160" y="736560"/>
          <a:ext cx="8740800" cy="46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36560"/>
                    <a:ext cx="8740800" cy="46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42880" y="81000"/>
            <a:ext cx="803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Year-to-Year Changes in Expens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8360" y="5143680"/>
            <a:ext cx="7823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controllable Operating Expenses include Paratransit Service Contracts, Fuel for Buses &amp; Trains, Traction &amp; Propulsion Power, OPEB Current Payment, Health &amp; Welfare, Pensions (see note below), and  Insura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able Operating Expenses include Payroll, Overtime, Claims, Other-Fringe Benefits, Reimbursable Overhead, Maintenance &amp; Other Operating Contracts, Professional Service Contracts, and Materials &amp; Supplies, Other Business Expenses, Other Expense Adjustments, and Gap Closing A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tal Expense Growth includes the General Reserve and the impact of the Gap Closing Actions but excludes Debt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008 Pensions exclude a one-time payment to NYCERS and MaBSTOA for refunds associated with the 55/25 retirement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539-3866-4848-99CE-79C40A33E017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00120" y="1390680"/>
          <a:ext cx="790560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390680"/>
                    <a:ext cx="7905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External Ac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785-714B-4849-96CA-1C763B6600F7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609480" y="1390680"/>
          <a:ext cx="790596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90680"/>
                    <a:ext cx="79059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80640"/>
            <a:ext cx="7975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ap Closing: Fare &amp; Toll Yield Chang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E0D-4C0F-4D27-BEE4-E5E33735DD5F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2000" y="1366920"/>
          <a:ext cx="88041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366920"/>
                    <a:ext cx="88041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1440" y="81000"/>
            <a:ext cx="7851960" cy="11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D26-6B10-47D2-A7FC-EB909A15B5BC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171440" y="1666800"/>
          <a:ext cx="676296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666800"/>
                    <a:ext cx="6762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4280" y="81000"/>
            <a:ext cx="8310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xternal Actions Fail &amp; No New Revenue Streams are Identified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145-64D2-4CC1-B0AA-F4C92F43F436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14076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cess and Timetab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0200" y="1300320"/>
            <a:ext cx="834696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ur-year financial planning process kicks off in Jul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process encourages public discourse and culminates in Board approval of the 2009 Budget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Board action today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lanced budget required “based on reasonable assumptions and methods of estimation…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F3F-A6A7-446B-B5A5-9648BBB3AC92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xt Step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9440" y="1590840"/>
            <a:ext cx="8186760" cy="30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ugust to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blic discourse on Preliminary Budge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November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l Proposed Budget presented to MTA Board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arly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avitch Commission issues repor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ate December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TA Board adopts Budget and schedules public hearings for changes in fares and tolls and for service reductions, if necessary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6A8-2E7D-489D-87DE-CBBFFDEEAF1A}" type="slidenum">
              <a:t>20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83880"/>
            <a:ext cx="78073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4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49200" y="1346040"/>
          <a:ext cx="84456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346040"/>
                    <a:ext cx="84456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1C3-C000-4B00-96AA-77F8658FCB94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80640"/>
            <a:ext cx="772956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pdate on Major Ris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4545000" y="3265560"/>
            <a:ext cx="4321080" cy="28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l Estate Market is Very 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gional Economy is W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uge Energy Price Increases due to Global Market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rowth in Controllable Expenses Consistent with Budget Foreca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1920" y="914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5240" y="1211400"/>
            <a:ext cx="387972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 rot="2488800">
            <a:off x="4020840" y="2487240"/>
            <a:ext cx="1768320" cy="685800"/>
          </a:xfrm>
          <a:custGeom>
            <a:avLst/>
            <a:gdLst>
              <a:gd name="textAreaLeft" fmla="*/ 276120 w 1768320"/>
              <a:gd name="textAreaRight" fmla="*/ 1432080 w 1768320"/>
              <a:gd name="textAreaTop" fmla="*/ 155880 h 685800"/>
              <a:gd name="textAreaBottom" fmla="*/ 52992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4915"/>
                </a:moveTo>
                <a:lnTo>
                  <a:pt x="14060" y="4915"/>
                </a:lnTo>
                <a:lnTo>
                  <a:pt x="14060" y="0"/>
                </a:lnTo>
                <a:lnTo>
                  <a:pt x="21600" y="10800"/>
                </a:lnTo>
                <a:lnTo>
                  <a:pt x="14060" y="21600"/>
                </a:lnTo>
                <a:lnTo>
                  <a:pt x="14060" y="16685"/>
                </a:lnTo>
                <a:lnTo>
                  <a:pt x="3375" y="16685"/>
                </a:lnTo>
                <a:close/>
              </a:path>
              <a:path w="21600" h="21600">
                <a:moveTo>
                  <a:pt x="0" y="4915"/>
                </a:moveTo>
                <a:lnTo>
                  <a:pt x="675" y="4915"/>
                </a:lnTo>
                <a:lnTo>
                  <a:pt x="675" y="16685"/>
                </a:lnTo>
                <a:lnTo>
                  <a:pt x="0" y="16685"/>
                </a:lnTo>
                <a:close/>
              </a:path>
              <a:path w="21600" h="21600">
                <a:moveTo>
                  <a:pt x="1350" y="4915"/>
                </a:moveTo>
                <a:lnTo>
                  <a:pt x="2700" y="4915"/>
                </a:lnTo>
                <a:lnTo>
                  <a:pt x="2700" y="16685"/>
                </a:lnTo>
                <a:lnTo>
                  <a:pt x="1350" y="16685"/>
                </a:ln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100000">
                <a:srgbClr val="ff7c80"/>
              </a:gs>
            </a:gsLst>
            <a:lin ang="83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E02-E05C-44D0-866E-9D0F316D13F4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6840" y="487440"/>
            <a:ext cx="86806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gnificant Changes from February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2008-2009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933200"/>
            <a:ext cx="85168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Fuel and Energy Costs: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208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49"/>
              </a:spcBef>
              <a:spcAft>
                <a:spcPts val="975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mpact of Economic Downturn on Tax Revenues</a:t>
            </a: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49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Estate Tax Revenues: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443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Tax Revenues: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$6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13A-B6DE-43EE-A3D2-2923EC7E9E7B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81000"/>
            <a:ext cx="78012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nergy Expense Growth 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007-2009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1252440"/>
          <a:ext cx="84376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1252440"/>
                    <a:ext cx="84376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085840" y="252576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48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2600" y="1695600"/>
            <a:ext cx="65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8400" y="1468440"/>
            <a:ext cx="655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67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4840" y="3121200"/>
            <a:ext cx="65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0160" y="442260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7160" y="288936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21560" y="4495680"/>
            <a:ext cx="65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EA3-1177-41D8-BD55-2CD8E542B8B4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8064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ual Collections and July 2008 Plan</a:t>
            </a:r>
            <a:br>
              <a:rPr sz="1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8120" y="1155600"/>
          <a:ext cx="8229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155600"/>
                    <a:ext cx="8229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571760" y="2112840"/>
            <a:ext cx="606240" cy="622440"/>
          </a:xfrm>
          <a:prstGeom prst="borderCallout1">
            <a:avLst>
              <a:gd name="adj1" fmla="val 18750"/>
              <a:gd name="adj2" fmla="val -8333"/>
              <a:gd name="adj3" fmla="val 561990"/>
              <a:gd name="adj4" fmla="val -64921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7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122560"/>
            <a:ext cx="925560" cy="798480"/>
          </a:xfrm>
          <a:prstGeom prst="borderCallout1">
            <a:avLst>
              <a:gd name="adj1" fmla="val 18750"/>
              <a:gd name="adj2" fmla="val -8333"/>
              <a:gd name="adj3" fmla="val 427236"/>
              <a:gd name="adj4" fmla="val -7101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rban T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5/198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PTT: 1.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: 0.6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9280" y="2111400"/>
            <a:ext cx="614160" cy="631800"/>
          </a:xfrm>
          <a:prstGeom prst="borderCallout1">
            <a:avLst>
              <a:gd name="adj1" fmla="val 18750"/>
              <a:gd name="adj2" fmla="val -8333"/>
              <a:gd name="adj3" fmla="val 430402"/>
              <a:gd name="adj4" fmla="val -166148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tar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6/198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25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3280" y="1459080"/>
            <a:ext cx="698760" cy="780840"/>
          </a:xfrm>
          <a:prstGeom prst="borderCallout1">
            <a:avLst>
              <a:gd name="adj1" fmla="val 18750"/>
              <a:gd name="adj2" fmla="val -8333"/>
              <a:gd name="adj3" fmla="val 143087"/>
              <a:gd name="adj4" fmla="val 150907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RT-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7/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0.3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841-F9FA-44F6-AD87-46A039AEB02E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920" y="80640"/>
            <a:ext cx="8853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 Receip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ncern for More Than A Year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0160" y="2220840"/>
          <a:ext cx="4132080" cy="26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220840"/>
                    <a:ext cx="4132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66560" y="4232160"/>
            <a:ext cx="1184400" cy="7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59280" y="3657240"/>
            <a:ext cx="1196640" cy="4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013200" y="2596680"/>
            <a:ext cx="1320480" cy="1049400"/>
            <a:chOff x="3013200" y="2596680"/>
            <a:chExt cx="1320480" cy="1049400"/>
          </a:xfrm>
        </p:grpSpPr>
        <p:sp>
          <p:nvSpPr>
            <p:cNvPr id="92" name=""/>
            <p:cNvSpPr/>
            <p:nvPr/>
          </p:nvSpPr>
          <p:spPr>
            <a:xfrm>
              <a:off x="3013200" y="259740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73800" y="2596320"/>
              <a:ext cx="659880" cy="104868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2280" y="3363840"/>
            <a:ext cx="1201680" cy="814320"/>
            <a:chOff x="422280" y="3363840"/>
            <a:chExt cx="1201680" cy="814320"/>
          </a:xfrm>
        </p:grpSpPr>
        <p:sp>
          <p:nvSpPr>
            <p:cNvPr id="95" name=""/>
            <p:cNvSpPr/>
            <p:nvPr/>
          </p:nvSpPr>
          <p:spPr>
            <a:xfrm>
              <a:off x="422280" y="3364200"/>
              <a:ext cx="600480" cy="81396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480" y="3363840"/>
              <a:ext cx="600480" cy="813600"/>
            </a:xfrm>
            <a:custGeom>
              <a:avLst/>
              <a:gdLst/>
              <a:ahLst/>
              <a:rect l="l" t="t" r="r" b="b"/>
              <a:pathLst>
                <a:path w="746" h="1481">
                  <a:moveTo>
                    <a:pt x="0" y="1481"/>
                  </a:moveTo>
                  <a:cubicBezTo>
                    <a:pt x="57" y="1477"/>
                    <a:pt x="115" y="1473"/>
                    <a:pt x="170" y="1363"/>
                  </a:cubicBezTo>
                  <a:cubicBezTo>
                    <a:pt x="225" y="1253"/>
                    <a:pt x="273" y="1002"/>
                    <a:pt x="329" y="823"/>
                  </a:cubicBezTo>
                  <a:cubicBezTo>
                    <a:pt x="385" y="644"/>
                    <a:pt x="448" y="412"/>
                    <a:pt x="505" y="288"/>
                  </a:cubicBezTo>
                  <a:cubicBezTo>
                    <a:pt x="562" y="164"/>
                    <a:pt x="630" y="124"/>
                    <a:pt x="670" y="76"/>
                  </a:cubicBezTo>
                  <a:cubicBezTo>
                    <a:pt x="710" y="28"/>
                    <a:pt x="728" y="14"/>
                    <a:pt x="746" y="0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01480" y="3130560"/>
            <a:ext cx="9396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299232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7040" y="2957400"/>
            <a:ext cx="252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7040" y="309708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, in real dolla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347920"/>
            <a:ext cx="22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lation Adjustment: 1982 – 1984 = 10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2960" y="1865160"/>
            <a:ext cx="404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justed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Inflation, MRT-2 Implementation Date &amp; MRT-1 Rate Increase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97280" y="2224080"/>
          <a:ext cx="410400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2224080"/>
                    <a:ext cx="41040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930920" y="1874880"/>
            <a:ext cx="386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ual Collections and July 2007 Financial Plan ($ in m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45040" y="3260880"/>
            <a:ext cx="93600" cy="114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3600" y="3122640"/>
            <a:ext cx="100080" cy="119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0600" y="308772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in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70600" y="3227400"/>
            <a:ext cx="271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lects decrease in proje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360" y="5176800"/>
            <a:ext cx="879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July 2007 Financial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f 2008 receipts are identical to 2004 receipts, then $1,167 million drops out of the plan through 2011 ($309 million in 2008)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200" y="1279440"/>
            <a:ext cx="8677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pril 2007 Finance Committ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al Estate Transaction Taxes, What If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1362240"/>
            <a:ext cx="8712360" cy="351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5254560"/>
            <a:ext cx="871236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50E-869B-46BF-9A83-F80CFDD1B562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8600" y="914400"/>
          <a:ext cx="869940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9940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86850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hanges from the 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2A6-24C7-481D-95BB-417AB92DDFBA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07-22T18:58:03Z</dcterms:modified>
  <cp:revision>1172</cp:revision>
  <dc:subject/>
  <dc:title>Preliminary 2005 Budget and Financial Plan</dc:title>
</cp:coreProperties>
</file>