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3900240" y="0"/>
            <a:ext cx="2981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A9D72-3FC2-4116-872F-CBFB1486B04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106640" y="685440"/>
            <a:ext cx="4673520" cy="3505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17640" y="4419360"/>
            <a:ext cx="5046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0" y="8839080"/>
            <a:ext cx="2982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3900240" y="8839080"/>
            <a:ext cx="2981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2EDC8-BA1F-40D1-AAC3-23F9C926FD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900600" y="8839080"/>
            <a:ext cx="2981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F4BFA-CAA1-4CA8-A736-9B4D9F6C8E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40968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7640" y="4419360"/>
            <a:ext cx="5046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900600" y="8839080"/>
            <a:ext cx="2981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D961B-AF9B-461E-A0D8-42E84B7A24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066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7640" y="4419360"/>
            <a:ext cx="5046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900600" y="8839080"/>
            <a:ext cx="2981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E3AEC-1567-44C5-B926-E7A59C4B12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06640" y="39996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7640" y="4419360"/>
            <a:ext cx="5046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900600" y="8839080"/>
            <a:ext cx="2981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68143-554D-4DFE-9D4E-6A883CC04D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066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7640" y="4419360"/>
            <a:ext cx="5046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900600" y="8839080"/>
            <a:ext cx="2981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379CD-1987-4D3D-9C95-2F3621B5E1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7640" y="4419360"/>
            <a:ext cx="5046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065240" y="228600"/>
            <a:ext cx="4707000" cy="3530520"/>
          </a:xfrm>
          <a:prstGeom prst="rect">
            <a:avLst/>
          </a:prstGeom>
          <a:ln w="0">
            <a:noFill/>
          </a:ln>
        </p:spPr>
      </p:sp>
      <p:sp>
        <p:nvSpPr>
          <p:cNvPr id="154" name=""/>
          <p:cNvSpPr/>
          <p:nvPr/>
        </p:nvSpPr>
        <p:spPr>
          <a:xfrm>
            <a:off x="290520" y="5200560"/>
            <a:ext cx="6362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rot="19212600">
            <a:off x="253800" y="5086080"/>
            <a:ext cx="55832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7640" y="4419360"/>
            <a:ext cx="5046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063800" y="228600"/>
            <a:ext cx="4706640" cy="3530520"/>
          </a:xfrm>
          <a:prstGeom prst="rect">
            <a:avLst/>
          </a:prstGeom>
          <a:ln w="0">
            <a:noFill/>
          </a:ln>
        </p:spPr>
      </p:sp>
      <p:sp>
        <p:nvSpPr>
          <p:cNvPr id="158" name=""/>
          <p:cNvSpPr/>
          <p:nvPr/>
        </p:nvSpPr>
        <p:spPr>
          <a:xfrm>
            <a:off x="290520" y="5200560"/>
            <a:ext cx="6362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rot="19212600">
            <a:off x="253800" y="5086080"/>
            <a:ext cx="55832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7640" y="4419360"/>
            <a:ext cx="5046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063800" y="228600"/>
            <a:ext cx="4706640" cy="3530520"/>
          </a:xfrm>
          <a:prstGeom prst="rect">
            <a:avLst/>
          </a:prstGeom>
          <a:ln w="0">
            <a:noFill/>
          </a:ln>
        </p:spPr>
      </p:sp>
      <p:sp>
        <p:nvSpPr>
          <p:cNvPr id="162" name=""/>
          <p:cNvSpPr/>
          <p:nvPr/>
        </p:nvSpPr>
        <p:spPr>
          <a:xfrm>
            <a:off x="290520" y="5200560"/>
            <a:ext cx="6362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rot="19212600">
            <a:off x="253800" y="5086080"/>
            <a:ext cx="55832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7640" y="4419360"/>
            <a:ext cx="5046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076400" y="660240"/>
            <a:ext cx="4707000" cy="3530880"/>
          </a:xfrm>
          <a:prstGeom prst="rect">
            <a:avLst/>
          </a:prstGeom>
          <a:ln w="0">
            <a:noFill/>
          </a:ln>
        </p:spPr>
      </p:sp>
      <p:sp>
        <p:nvSpPr>
          <p:cNvPr id="133" name="Line 3"/>
          <p:cNvSpPr/>
          <p:nvPr/>
        </p:nvSpPr>
        <p:spPr>
          <a:xfrm>
            <a:off x="290520" y="5200560"/>
            <a:ext cx="6362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7640" y="4419360"/>
            <a:ext cx="5046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900600" y="8839080"/>
            <a:ext cx="2981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F5698-E564-4BE6-9C69-1268E23A1D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06640" y="34308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17640" y="4419360"/>
            <a:ext cx="5046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5BED2-140D-4086-B0AA-9C13EB7AA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5857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1EBBB-000D-4A34-90CF-780B6B4AB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5857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54151-FA72-4946-BF48-29E2AEF01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5857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08C4B-91E3-4CBF-B674-F6C3FB608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857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68FAF-F65C-4D66-AE9E-E5A01C70D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5857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3F730-F14E-4996-B9C5-A17084319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5857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BC5B4-595B-495D-8CDD-E93491F12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5857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172BD-2C8C-4E5A-8C4B-CB8CAB989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40804-71C4-4BE3-A411-1EA2243CB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857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C3B49-24F5-4B2B-B33B-3AEC62D98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857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3E22A-1851-4635-9204-A17454539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857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D31BE-859B-4EE8-9650-B27186F4D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B27EC-D976-4E21-9F2B-0CD0DEDA72D6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7DB0D795-C2D3-4026-B701-76847DA471F5}" type="datetime10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2:45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12"/>
          <p:cNvSpPr/>
          <p:nvPr/>
        </p:nvSpPr>
        <p:spPr>
          <a:xfrm>
            <a:off x="228600" y="6248520"/>
            <a:ext cx="8686800" cy="45720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3"/>
          <p:cNvSpPr/>
          <p:nvPr/>
        </p:nvSpPr>
        <p:spPr>
          <a:xfrm>
            <a:off x="879840" y="6324480"/>
            <a:ext cx="2937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Metropolitan Transportation</a:t>
            </a: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Author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14" descr=""/>
          <p:cNvPicPr/>
          <p:nvPr/>
        </p:nvPicPr>
        <p:blipFill>
          <a:blip r:embed="rId2"/>
          <a:stretch/>
        </p:blipFill>
        <p:spPr>
          <a:xfrm>
            <a:off x="380880" y="6307200"/>
            <a:ext cx="301680" cy="333360"/>
          </a:xfrm>
          <a:prstGeom prst="rect">
            <a:avLst/>
          </a:prstGeom>
          <a:ln w="0">
            <a:noFill/>
          </a:ln>
        </p:spPr>
      </p:pic>
      <p:sp>
        <p:nvSpPr>
          <p:cNvPr id="7" name="Text Box 18"/>
          <p:cNvSpPr/>
          <p:nvPr/>
        </p:nvSpPr>
        <p:spPr>
          <a:xfrm>
            <a:off x="6472080" y="6245280"/>
            <a:ext cx="2498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November 2008 Financial Plan 2009-201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860960" y="6462720"/>
            <a:ext cx="971640" cy="2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F3573-6C25-4506-92B5-06A59FD27EA5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Date Placeholder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E63E9-389C-41F6-803A-7D819108ABAF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0A1D9538-1164-48AF-971C-7E7EBA1E5F96}" type="datetime10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2:45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7910640" y="6462720"/>
            <a:ext cx="971280" cy="2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CA399-2858-4F97-AE5F-71B67A1B9BDB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8"/>
          <p:cNvSpPr/>
          <p:nvPr/>
        </p:nvSpPr>
        <p:spPr>
          <a:xfrm>
            <a:off x="217440" y="228600"/>
            <a:ext cx="8686800" cy="22860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13"/>
          <p:cNvSpPr/>
          <p:nvPr/>
        </p:nvSpPr>
        <p:spPr>
          <a:xfrm>
            <a:off x="228600" y="6248520"/>
            <a:ext cx="8686800" cy="45720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14"/>
          <p:cNvSpPr/>
          <p:nvPr/>
        </p:nvSpPr>
        <p:spPr>
          <a:xfrm>
            <a:off x="891000" y="6354720"/>
            <a:ext cx="2937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Metropolitan Transportation</a:t>
            </a: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Author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15" descr=""/>
          <p:cNvPicPr/>
          <p:nvPr/>
        </p:nvPicPr>
        <p:blipFill>
          <a:blip r:embed="rId1"/>
          <a:stretch/>
        </p:blipFill>
        <p:spPr>
          <a:xfrm>
            <a:off x="317520" y="6286680"/>
            <a:ext cx="301680" cy="333360"/>
          </a:xfrm>
          <a:prstGeom prst="rect">
            <a:avLst/>
          </a:prstGeom>
          <a:ln w="0">
            <a:noFill/>
          </a:ln>
        </p:spPr>
      </p:pic>
      <p:sp>
        <p:nvSpPr>
          <p:cNvPr id="58" name="Text Box 18"/>
          <p:cNvSpPr/>
          <p:nvPr/>
        </p:nvSpPr>
        <p:spPr>
          <a:xfrm>
            <a:off x="252360" y="5511960"/>
            <a:ext cx="86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November 20, 200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0"/>
          <p:cNvSpPr/>
          <p:nvPr/>
        </p:nvSpPr>
        <p:spPr>
          <a:xfrm>
            <a:off x="344520" y="614520"/>
            <a:ext cx="8534520" cy="19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00"/>
                </a:solidFill>
                <a:latin typeface="Arial Black"/>
              </a:rPr>
              <a:t>MTA 2009</a:t>
            </a:r>
            <a:br>
              <a:rPr sz="4800"/>
            </a:br>
            <a:r>
              <a:rPr b="0" lang="en-US" sz="4800" spc="-1" strike="noStrike">
                <a:solidFill>
                  <a:srgbClr val="006600"/>
                </a:solidFill>
                <a:latin typeface="Arial Black"/>
              </a:rPr>
              <a:t>Final Proposed Budge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baseline="4000">
                <a:solidFill>
                  <a:srgbClr val="006600"/>
                </a:solidFill>
                <a:latin typeface="Arial"/>
              </a:rPr>
              <a:t>November Financial Plan 2009-201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1"/>
          <p:cNvSpPr/>
          <p:nvPr/>
        </p:nvSpPr>
        <p:spPr>
          <a:xfrm>
            <a:off x="6111720" y="3965400"/>
            <a:ext cx="389160" cy="2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4d4d4d"/>
                </a:solidFill>
                <a:latin typeface="Arial Narrow"/>
              </a:rPr>
              <a:t>DJC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2274840" y="2251080"/>
            <a:ext cx="4570560" cy="3276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B69C7-66DE-4B35-B48F-C5998C123A40}" type="slidenum">
              <a:t>1</a:t>
            </a:fld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3"/>
          <p:cNvSpPr/>
          <p:nvPr/>
        </p:nvSpPr>
        <p:spPr>
          <a:xfrm>
            <a:off x="244440" y="241200"/>
            <a:ext cx="8623440" cy="8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ong Island Rail Road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Additional Actions for Budget Ba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587840" y="1574640"/>
            <a:ext cx="436896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09: 173 positions, $36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10: 327 positions, $53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ice reduced on weekends and off-pea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nceled and combined trai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intenance cycles will be selectively exte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duced ticket selling posi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duced station mainten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letion of gap remediation exte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-374760" y="1374840"/>
          <a:ext cx="5859720" cy="35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74760" y="1374840"/>
                    <a:ext cx="5859720" cy="35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3296C-1C26-49B2-A6F6-EC4B95402049}" type="slidenum">
              <a:t>10</a:t>
            </a:fld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3"/>
          <p:cNvSpPr/>
          <p:nvPr/>
        </p:nvSpPr>
        <p:spPr>
          <a:xfrm>
            <a:off x="244440" y="241200"/>
            <a:ext cx="8623440" cy="8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Metro North Railroad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Additional Actions for Budget Ba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494240" y="1601640"/>
            <a:ext cx="446076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09: 88 positions, $35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10: 88 positions, $35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ading guidelines increased and trains shortened on East and West of Hudson serv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creased train serv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duction in car and station clea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duced ticket selling posi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CT restoration efforts slowed and maintenance of terminal reduc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0" y="1039680"/>
          <a:ext cx="5859360" cy="3567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039680"/>
                    <a:ext cx="5859360" cy="356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6B41F-90FD-49C2-924E-2C9E29741875}" type="slidenum">
              <a:t>11</a:t>
            </a:fld>
          </a:p>
        </p:txBody>
      </p:sp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3"/>
          <p:cNvSpPr/>
          <p:nvPr/>
        </p:nvSpPr>
        <p:spPr>
          <a:xfrm>
            <a:off x="244440" y="241200"/>
            <a:ext cx="8623440" cy="8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Bridges &amp; Tunnels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Additional Agency Reduction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0" y="1025640"/>
          <a:ext cx="5850000" cy="356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025640"/>
                    <a:ext cx="5850000" cy="356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"/>
          <p:cNvSpPr/>
          <p:nvPr/>
        </p:nvSpPr>
        <p:spPr>
          <a:xfrm>
            <a:off x="4613400" y="1611360"/>
            <a:ext cx="431316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09: 28 positions, $17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10: 28 positions, $24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limination of Cross Bay Bridge rebate progr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duction in number of cash lanes during low traffic perio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 assignments reprioritized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paper billing statements instead of bi-month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crease in dedicated resources for truck enforc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A73D0-885C-4B1E-8CAE-6EE801FF980C}" type="slidenum">
              <a:t>12</a:t>
            </a:fld>
          </a:p>
        </p:txBody>
      </p:sp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3"/>
          <p:cNvSpPr/>
          <p:nvPr/>
        </p:nvSpPr>
        <p:spPr>
          <a:xfrm>
            <a:off x="244440" y="241200"/>
            <a:ext cx="8623440" cy="8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MTA Bus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Additional Actions for Budget Ba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-461880" y="984240"/>
          <a:ext cx="6302160" cy="383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461880" y="984240"/>
                    <a:ext cx="6302160" cy="383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"/>
          <p:cNvSpPr/>
          <p:nvPr/>
        </p:nvSpPr>
        <p:spPr>
          <a:xfrm>
            <a:off x="4587840" y="1441440"/>
            <a:ext cx="455616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09: 249 positions, $17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10: 249 positions, $24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alignment of peak period express bus serv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ontinuation of low ridership express and local rout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press bus fare increase from $5 to $7.5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52A81-DC51-42C0-A1FC-D075E0025CC0}" type="slidenum">
              <a:t>13</a:t>
            </a:fld>
          </a:p>
        </p:txBody>
      </p:sp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3"/>
          <p:cNvSpPr/>
          <p:nvPr/>
        </p:nvSpPr>
        <p:spPr>
          <a:xfrm>
            <a:off x="244440" y="241200"/>
            <a:ext cx="8623440" cy="8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ong Island Bus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Reduction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-582480" y="709560"/>
          <a:ext cx="5840280" cy="355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582480" y="709560"/>
                    <a:ext cx="5840280" cy="355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4054320" y="1312920"/>
            <a:ext cx="5089680" cy="308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630360" indent="-165240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ditional Actions for Budget Bal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0360" indent="-1652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09: 21 positions, $5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0360" indent="-1652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10: 21 positions, $6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0360" indent="-1652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 ridership routes eliminated or reduc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0360" indent="-1652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duce managerial workfo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0360" indent="-1652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rease employee health &amp; welfare    contribution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0360" indent="-1652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47760" y="3975120"/>
            <a:ext cx="8389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1880" y="4078440"/>
            <a:ext cx="8166240" cy="22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630360" indent="-165240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ther LI Bus Gap Closing Measu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0360" indent="-1652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rease local bus farebox yield by 20% in addition to general across-the-board incre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0360" indent="-1652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rease Paratransit fare to double the regular far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0360" indent="-1652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the alternative fuel excise tax credit extends beyond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0360" indent="-1652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037E1-539A-4F3D-A5D5-C415E86B53EA}" type="slidenum">
              <a:t>14</a:t>
            </a:fld>
          </a:p>
        </p:txBody>
      </p:sp>
    </p:spTree>
  </p:cSld>
  <p:transition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64880" y="55440"/>
            <a:ext cx="8794440" cy="13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roposed Fare &amp; Toll Yield Increase</a:t>
            </a:r>
            <a:br>
              <a:rPr sz="2800"/>
            </a:b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23% Beginning June 1, 2009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($ in millions)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81000" y="1241280"/>
          <a:ext cx="8985240" cy="475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1000" y="1241280"/>
                    <a:ext cx="8985240" cy="475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"/>
          <p:cNvSpPr/>
          <p:nvPr/>
        </p:nvSpPr>
        <p:spPr>
          <a:xfrm>
            <a:off x="2600280" y="1676520"/>
            <a:ext cx="752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$6,16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391440" y="1422360"/>
            <a:ext cx="752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$6,66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03D18-B805-4E11-A73E-25CDBB9AB743}" type="slidenum">
              <a:t>15</a:t>
            </a:fld>
          </a:p>
        </p:txBody>
      </p:sp>
    </p:spTree>
  </p:cSld>
  <p:transition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64880" y="55440"/>
            <a:ext cx="8794440" cy="13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NYCT Fare Operating Ratios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66600" y="774720"/>
          <a:ext cx="8985240" cy="475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600" y="774720"/>
                    <a:ext cx="8985240" cy="475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" name=""/>
          <p:cNvSpPr/>
          <p:nvPr/>
        </p:nvSpPr>
        <p:spPr>
          <a:xfrm>
            <a:off x="1200240" y="5362560"/>
            <a:ext cx="297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urr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962600" y="5353200"/>
            <a:ext cx="36576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fter Gap Closing Acti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cl: PEGs, Additional Actions, Fare Increas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04920" y="5896080"/>
            <a:ext cx="8505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arebox Operating Ratio excludes depreciation, OPEB and Environmental Remediation adjustments, and interest on long-term debt.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B4FB0-28D2-44F8-B924-B7EC9F75A7F4}" type="slidenum">
              <a:t>16</a:t>
            </a:fld>
          </a:p>
        </p:txBody>
      </p:sp>
    </p:spTree>
  </p:cSld>
  <p:transition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64880" y="55440"/>
            <a:ext cx="8794440" cy="13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mmuter Rail Fare Operating Ratios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66600" y="774720"/>
          <a:ext cx="8985240" cy="475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600" y="774720"/>
                    <a:ext cx="8985240" cy="475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" name=""/>
          <p:cNvSpPr/>
          <p:nvPr/>
        </p:nvSpPr>
        <p:spPr>
          <a:xfrm>
            <a:off x="905040" y="5362560"/>
            <a:ext cx="297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urr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210280" y="5353200"/>
            <a:ext cx="36576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fter Gap Closing Acti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cl: PEGs, Additional Actions, Fare Increas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04920" y="5896080"/>
            <a:ext cx="8505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arebox Operating Ratio excludes depreciation, OPEB and Environmental Remediation adjustments, and interest on long-term debt.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6802A-D006-4FEE-B1F4-3A112D9A3733}" type="slidenum">
              <a:t>17</a:t>
            </a:fld>
          </a:p>
        </p:txBody>
      </p:sp>
    </p:spTree>
  </p:cSld>
  <p:transition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7" name="Rectangle 3"/>
          <p:cNvGraphicFramePr/>
          <p:nvPr/>
        </p:nvGraphicFramePr>
        <p:xfrm>
          <a:off x="0" y="1252440"/>
          <a:ext cx="8804160" cy="465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52440"/>
                    <a:ext cx="8804160" cy="465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" name="Rectangle 3"/>
          <p:cNvSpPr/>
          <p:nvPr/>
        </p:nvSpPr>
        <p:spPr>
          <a:xfrm>
            <a:off x="244440" y="241200"/>
            <a:ext cx="8623440" cy="8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eficit after Gap Closing</a:t>
            </a:r>
            <a:br>
              <a:rPr sz="2400"/>
            </a:b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($ in million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8BE73-408E-438D-A1DD-00FE1E6BBE22}" type="slidenum">
              <a:t>18</a:t>
            </a:fld>
          </a:p>
        </p:txBody>
      </p:sp>
    </p:spTree>
  </p:cSld>
  <p:transition>
    <p:fade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69800" y="1285920"/>
            <a:ext cx="8250480" cy="44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2680" indent="-112680">
              <a:spcBef>
                <a:spcPts val="6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da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TA Board Authorization for public hear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2680" indent="-112680">
              <a:spcBef>
                <a:spcPts val="6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mainder of 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put from board members, elected officials, &amp; public on Final Proposed 2009 budg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ease of Ravitch Commission report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09 Budget Ado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2680" indent="-112680">
              <a:spcBef>
                <a:spcPts val="6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nu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 hearings for June 1, 2009 tariff and service chang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2680" indent="0">
              <a:spcBef>
                <a:spcPts val="6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2680" indent="0">
              <a:spcBef>
                <a:spcPts val="6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2680" indent="0">
              <a:spcBef>
                <a:spcPts val="6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2680" indent="0">
              <a:spcBef>
                <a:spcPts val="6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2680" indent="0">
              <a:spcBef>
                <a:spcPts val="6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2680" indent="0">
              <a:spcBef>
                <a:spcPts val="6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2680" indent="0">
              <a:spcBef>
                <a:spcPts val="6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2680" indent="0">
              <a:spcBef>
                <a:spcPts val="6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2680" indent="0"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2680" indent="0"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3"/>
          <p:cNvSpPr/>
          <p:nvPr/>
        </p:nvSpPr>
        <p:spPr>
          <a:xfrm>
            <a:off x="244440" y="241200"/>
            <a:ext cx="8623440" cy="8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rocess Going Forw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E5819-37BE-4DF8-A928-E28CAF2AA665}" type="slidenum">
              <a:t>19</a:t>
            </a:fld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244440" y="241200"/>
            <a:ext cx="8623440" cy="8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July Financial Plan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losing Cash Balance</a:t>
            </a:r>
            <a:br>
              <a:rPr sz="2400"/>
            </a:b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($ in million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" name="Rectangle 3"/>
          <p:cNvGraphicFramePr/>
          <p:nvPr/>
        </p:nvGraphicFramePr>
        <p:xfrm>
          <a:off x="88920" y="1425600"/>
          <a:ext cx="8791560" cy="465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8920" y="1425600"/>
                    <a:ext cx="8791560" cy="465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31C0E-9E9B-4FD6-8335-C5786CC1A2FA}" type="slidenum">
              <a:t>2</a:t>
            </a:fld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Object 2"/>
          <p:cNvGraphicFramePr/>
          <p:nvPr/>
        </p:nvGraphicFramePr>
        <p:xfrm>
          <a:off x="770040" y="1219320"/>
          <a:ext cx="7677000" cy="4833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0040" y="1219320"/>
                    <a:ext cx="7677000" cy="483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40960" y="228240"/>
            <a:ext cx="7327800" cy="88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What got better? What got worse?</a:t>
            </a:r>
            <a:br>
              <a:rPr sz="2800"/>
            </a:b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($ in millions)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74BAC-CBC6-4831-9826-B11EB9BEEA1A}" type="slidenum">
              <a:t>3</a:t>
            </a:fld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1041480" y="201600"/>
            <a:ext cx="7327800" cy="8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eficit Prior to Gap Closing</a:t>
            </a:r>
            <a:br>
              <a:rPr sz="2800"/>
            </a:b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($ in million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130320" y="1306440"/>
          <a:ext cx="8665920" cy="4208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0320" y="1306440"/>
                    <a:ext cx="8665920" cy="420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F2C42-6E08-4644-82EC-C116545A913C}" type="slidenum">
              <a:t>4</a:t>
            </a:fld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3"/>
          <p:cNvSpPr/>
          <p:nvPr/>
        </p:nvSpPr>
        <p:spPr>
          <a:xfrm>
            <a:off x="1041480" y="201600"/>
            <a:ext cx="7327800" cy="8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Gap Closing Actions </a:t>
            </a:r>
            <a:br>
              <a:rPr sz="2800"/>
            </a:b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($ in million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58680" y="1349280"/>
          <a:ext cx="8823240" cy="3570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680" y="1349280"/>
                    <a:ext cx="8823240" cy="357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2389A-C2B8-4889-A804-8B4795881F6A}" type="slidenum">
              <a:t>5</a:t>
            </a:fld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50720" y="948960"/>
            <a:ext cx="8245440" cy="53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2680" indent="0"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nternal Action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2680" indent="-112680">
              <a:spcBef>
                <a:spcPts val="499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09 &amp; Post-2009 Agency-wide Redu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2680" indent="-112680">
              <a:spcBef>
                <a:spcPts val="499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w Contracts Labor Con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2680" indent="-112680">
              <a:spcBef>
                <a:spcPts val="499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siness Service Ce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2680" indent="-112680">
              <a:spcBef>
                <a:spcPts val="499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TA Reorgan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2680" indent="-112680">
              <a:spcBef>
                <a:spcPts val="499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duce Subsidy LI B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2680" indent="-112680">
              <a:spcBef>
                <a:spcPts val="499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iminate E-ZPass Forgive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2680" indent="0">
              <a:spcBef>
                <a:spcPts val="49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2680" indent="0"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xternal Action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2680" indent="-112680">
              <a:spcBef>
                <a:spcPts val="499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deral Legislative 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2680" indent="-112680">
              <a:spcBef>
                <a:spcPts val="499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te Legislative Actions (Tax Statute Revisio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"/>
          <p:cNvSpPr/>
          <p:nvPr/>
        </p:nvSpPr>
        <p:spPr>
          <a:xfrm>
            <a:off x="1222200" y="228600"/>
            <a:ext cx="6946920" cy="8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July P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469C3-0C0F-4370-A265-0788974E854E}" type="slidenum">
              <a:t>6</a:t>
            </a:fld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262080" y="241200"/>
            <a:ext cx="8623080" cy="8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MTA-Wide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Positions* by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2200" y="5896080"/>
            <a:ext cx="8505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* Non-reimbursable and Reimbursable positions. Includes vacancies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685800" y="1063800"/>
          <a:ext cx="7772400" cy="480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063800"/>
                    <a:ext cx="7772400" cy="48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8A347-6DFF-4C4D-BEEA-ACDEFACDDBC8}" type="slidenum">
              <a:t>7</a:t>
            </a:fld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-36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2680" indent="0">
              <a:spcBef>
                <a:spcPts val="901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12680" indent="0"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2680" indent="0"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2680" indent="0">
              <a:spcBef>
                <a:spcPts val="6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3"/>
          <p:cNvSpPr/>
          <p:nvPr/>
        </p:nvSpPr>
        <p:spPr>
          <a:xfrm>
            <a:off x="244440" y="241200"/>
            <a:ext cx="8623440" cy="8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Managerial Cuts and Other Actions for Budget Balance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52320" y="701640"/>
            <a:ext cx="8186760" cy="663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5120" indent="-349200">
              <a:lnSpc>
                <a:spcPct val="100000"/>
              </a:lnSpc>
              <a:spcBef>
                <a:spcPts val="901"/>
              </a:spcBef>
              <a:spcAft>
                <a:spcPts val="1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65120" indent="-349200">
              <a:lnSpc>
                <a:spcPct val="100000"/>
              </a:lnSpc>
              <a:spcBef>
                <a:spcPts val="6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ximize administrative overhead redu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55600" indent="-361800">
              <a:lnSpc>
                <a:spcPct val="100000"/>
              </a:lnSpc>
              <a:spcBef>
                <a:spcPts val="499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nagerial reductions greater than 5%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5120" indent="-349200">
              <a:lnSpc>
                <a:spcPct val="100000"/>
              </a:lnSpc>
              <a:spcBef>
                <a:spcPts val="6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sure safety, security, and reli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5120" indent="-349200">
              <a:lnSpc>
                <a:spcPct val="100000"/>
              </a:lnSpc>
              <a:spcBef>
                <a:spcPts val="6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lfill fundamental mission of getting people where they need to g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5120" indent="-349200">
              <a:lnSpc>
                <a:spcPct val="100000"/>
              </a:lnSpc>
              <a:spcBef>
                <a:spcPts val="6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9DB0F-C0EB-45A7-928E-ED0330966BAB}" type="slidenum">
              <a:t>8</a:t>
            </a:fld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3"/>
          <p:cNvSpPr/>
          <p:nvPr/>
        </p:nvSpPr>
        <p:spPr>
          <a:xfrm>
            <a:off x="244440" y="241200"/>
            <a:ext cx="8623440" cy="8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New York City Transit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Additional Actions for Budget Ba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52320" y="1136520"/>
            <a:ext cx="8186760" cy="49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12680" indent="-112680">
              <a:lnSpc>
                <a:spcPct val="100000"/>
              </a:lnSpc>
              <a:spcBef>
                <a:spcPts val="901"/>
              </a:spcBef>
              <a:spcAft>
                <a:spcPts val="1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651200" y="1592280"/>
            <a:ext cx="417852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09: 2,269 positions, $155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10: 2,279 positions, $280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bway Service reductions: route alterations, loading guideline changes, station booth closings and other station agent redu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s Service reduction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Aft>
                <a:spcPts val="524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ductions in low ridership and duplicate 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in express bus fare from $5 to $7.50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transit reductions: increase in fare and revised customer cancellation and no-show polic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Rectangle 3"/>
          <p:cNvGraphicFramePr/>
          <p:nvPr/>
        </p:nvGraphicFramePr>
        <p:xfrm>
          <a:off x="-291960" y="1255680"/>
          <a:ext cx="5822640" cy="354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291960" y="1255680"/>
                    <a:ext cx="5822640" cy="354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0A8F7-79D2-4F22-9ACF-F5D5EE0C7BFD}" type="slidenum">
              <a:t>9</a:t>
            </a:fld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4T18:18:55Z</dcterms:created>
  <dc:creator>David Keller</dc:creator>
  <dc:description/>
  <dc:language>en-US</dc:language>
  <cp:lastModifiedBy>David E. Keller</cp:lastModifiedBy>
  <cp:lastPrinted>2004-07-16T15:55:26Z</cp:lastPrinted>
  <dcterms:modified xsi:type="dcterms:W3CDTF">2008-11-20T16:24:36Z</dcterms:modified>
  <cp:revision>727</cp:revision>
  <dc:subject/>
  <dc:title>Preliminary 2005 Budget and Financial Plan</dc:title>
</cp:coreProperties>
</file>