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8D6E29-5CA0-47F8-B038-4E73EC24F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0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084-9CF4-4DD0-BED8-498A77B5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30A-A0E6-4F61-81B9-5EA4BAF2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8C6-0122-42BF-ABB7-8D97DF8A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5BA-2DC5-4A73-A6AC-85AFBEE2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567-9C75-411E-B7E2-1966EF60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875-4B20-450E-937D-C73F9E79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6A8-A5D2-4CA1-809B-FB3EEF9E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992-EA14-4707-B896-B4CF1B76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E3F-DD1B-4359-97AD-E75589B1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1AB-FE01-4D27-808A-787E1A13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1A5-1040-40E9-AAA0-6D8996EA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2A3-551E-4474-A122-E49A8FC8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A2A6-A1B5-4ECC-B758-CE34FCA8A2E1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10,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Spe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Finance Committ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ee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77760" y="5637240"/>
            <a:ext cx="7191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vember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CA6-9E4A-4692-A66D-8E413BC73D34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3640" y="1625760"/>
          <a:ext cx="7175520" cy="28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625760"/>
                    <a:ext cx="717552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 and Solu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62C-CA36-4D5B-8D35-3E903B07132F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urrent Economic Condi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9920" y="774720"/>
          <a:ext cx="430848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59480" y="774720"/>
          <a:ext cx="4308480" cy="24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948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63440" y="3451320"/>
          <a:ext cx="4308480" cy="24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34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668840" y="3451320"/>
          <a:ext cx="4308480" cy="24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88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4CBF-A6B1-4F46-925D-485196C66468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81000"/>
            <a:ext cx="80294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orecast of Economic Conditions</a:t>
            </a:r>
            <a:br>
              <a:rPr sz="28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U.S. Gross Domestic Product, in Real Dollars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9960" y="1003320"/>
          <a:ext cx="832644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003320"/>
                    <a:ext cx="8326440" cy="483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176800" y="4511520"/>
            <a:ext cx="1776600" cy="703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9, the October Forecast is 3.2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13640" y="2712960"/>
            <a:ext cx="181764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10, the October Forecast is 3.6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9440" y="5834160"/>
            <a:ext cx="546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DP in 2000 Doll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 Global Insigh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00160" y="3344760"/>
            <a:ext cx="181440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8, the October Forecast is 0.8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049-3DC7-4200-AD17-856908F91F7A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YS Taxes: Corporate Surcharge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ounts for almost 50% of MMTOA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19040" y="1081080"/>
          <a:ext cx="84330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081080"/>
                    <a:ext cx="8433000" cy="4889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42960" y="3849840"/>
          <a:ext cx="3591000" cy="113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3849840"/>
                    <a:ext cx="3591000" cy="113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5B1-8707-4B49-9572-1C830826FE5F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5760" y="1077840"/>
            <a:ext cx="8204040" cy="4759200"/>
            <a:chOff x="455760" y="1077840"/>
            <a:chExt cx="8204040" cy="4759200"/>
          </a:xfrm>
        </p:grpSpPr>
        <p:graphicFrame>
          <p:nvGraphicFramePr>
            <p:cNvPr id="84" name=""/>
            <p:cNvGraphicFramePr/>
            <p:nvPr/>
          </p:nvGraphicFramePr>
          <p:xfrm>
            <a:off x="455760" y="1077840"/>
            <a:ext cx="8204040" cy="475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5760" y="1077840"/>
                      <a:ext cx="8204040" cy="47592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15756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6240" y="515592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4360" y="514800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8132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9720" y="516888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18480" y="51609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621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575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8040" y="555624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24120" y="554040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84600" y="5533920"/>
              <a:ext cx="47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43640" y="554652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64524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6840" y="133812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134604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900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BA69-32C0-4D0D-87BB-337493F55142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63640" y="1447920"/>
          <a:ext cx="71881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447920"/>
                    <a:ext cx="7188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BBE-4C78-4039-B25B-AA5DF2DB1A88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ovember Solu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dditional 1% Fare/Toll Yield Increase - $29M (6/09 Start) ; $50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gency 1% Reductions - $44M (7/09) ; $87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36C-32FC-4FD5-8741-B4A381091E79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December Opportuniti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avitch Commission report released on December 5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Executive Budget released on December 16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TA Board Budget Adoption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DE4-DD11-4296-B62B-BA60C348ABDB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MTA</dc:creator>
  <dc:description/>
  <dc:language>en-US</dc:language>
  <cp:lastModifiedBy>David E. Keller</cp:lastModifiedBy>
  <cp:lastPrinted>2004-07-16T15:55:26Z</cp:lastPrinted>
  <dcterms:modified xsi:type="dcterms:W3CDTF">2008-11-07T22:23:41Z</dcterms:modified>
  <cp:revision>1209</cp:revision>
  <dc:subject/>
  <dc:title>Preliminary 2005 Budget and Financial Plan</dc:title>
</cp:coreProperties>
</file>