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9880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808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9880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127C72-169E-4EF0-9DD3-C617D510A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6848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48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68480" y="64764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1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68480" y="46980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068480" y="73656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7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6D2-531C-4DC7-B66A-EEEF6CE9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D667-D124-4480-8728-19288D69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CDE3-46DF-473D-BBC8-BF2C2E9C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84B0-2119-4A2D-ACD8-729AE75C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B44-E339-46DA-947D-495BAE99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DE6-231E-4B97-B3C9-23A63F0A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E22-322F-4161-9150-C2FCFBA0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F2BF-253A-4E0D-BB6F-BEFAB985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010-BB69-4740-AFC7-2AE7A33A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CA34-E33A-44A1-BACF-6A173019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783-9546-4A28-B12A-ADAD64A4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8F6-9EE4-487A-808B-39DA3DD9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DDA4-5D03-418C-A304-1D81C1D38931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July 2008 Financial Plan 2009-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9840" y="2540160"/>
            <a:ext cx="426708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61920" y="633240"/>
            <a:ext cx="7191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09 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ly Financial Plan 2009 –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4760" y="3894120"/>
            <a:ext cx="388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491C-5A6E-4325-9C89-9F9358F68D41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498680"/>
          <a:ext cx="7967880" cy="233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498680"/>
                    <a:ext cx="7967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ith Gap Closing Actions 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ADE4-A435-48DF-AB25-D09E99CFFD36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09480" y="1305000"/>
          <a:ext cx="7905960" cy="38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05000"/>
                    <a:ext cx="79059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Internal Ac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759B-B036-480E-84F3-62B9F6AD84DA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200" y="80640"/>
            <a:ext cx="773748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 Closing: 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ternal Actions Already Take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9160" y="1285920"/>
            <a:ext cx="8219880" cy="35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gency-wide Service Enhancements Cancell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dministrative Cost Reductions: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ring Delay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vel Restri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hicle Usage Redu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usiness Developmen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7B00-66F6-48CA-82D4-C88EEB9C2B7D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1280" y="80640"/>
            <a:ext cx="773748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-Closing: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ternal Actions to be Take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9160" y="894960"/>
            <a:ext cx="81867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Recurring A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009 &amp; Post-2009 Agency-wide Redu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Contracts Labor Contribu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usiness Service Cent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TA Reorgan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duce Subsidy LI Bu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iminate E-ZPass Forgivenes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343F-D17A-4C63-B419-BB9ACAD69652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-Closing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nternal Actions to be Take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One-Time Opportuniti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-Agency Loa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ver Uncommitted Spending From Prior Year Surplu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0F1-B881-4D32-A466-C5A52C06ADCF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00160" y="736560"/>
          <a:ext cx="87408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736560"/>
                    <a:ext cx="87408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8360" y="5143680"/>
            <a:ext cx="7823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ncontrollable Operating Expenses include Paratransit Service Contracts, Fuel for Buses &amp; Trains, Traction &amp; Propulsion Power, OPEB Current Payment, Health &amp; Welfare, Pensions (see note below), and  Insuran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rollable Operating Expenses 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Expense Growth includes the General Reserve and the impact of the Gap Closing Actions but excludes Debt Ser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8 Pensions exclude a one-time payment to NYCERS and MaBSTOA for refunds associated with the 55/25 retirement progra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AA2-36DF-4DCD-BDB6-07AA157B3BBE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00120" y="1390680"/>
          <a:ext cx="7905600" cy="23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1390680"/>
                    <a:ext cx="79056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External Ac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D241-D3DF-4414-8CAC-03E977477BFF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09480" y="1390680"/>
          <a:ext cx="7905960" cy="10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90680"/>
                    <a:ext cx="79059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Fare &amp; Toll Yield Change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8C7-8A53-47A6-8626-7060A9D162D0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62000" y="1366920"/>
          <a:ext cx="88041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366920"/>
                    <a:ext cx="88041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1440" y="81000"/>
            <a:ext cx="7851960" cy="11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4213-468B-42EC-A95C-D9B65F8388AF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171440" y="1666800"/>
          <a:ext cx="6762960" cy="28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1440" y="1666800"/>
                    <a:ext cx="676296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4280" y="81000"/>
            <a:ext cx="8310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f External Actions Fail &amp; No New Revenue Streams are Identified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E265-6183-40B2-96C3-38D1BE1B5D2D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140760"/>
            <a:ext cx="77724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cess and Timetab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0200" y="1300320"/>
            <a:ext cx="834696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-year financial planning process kicks off in Jul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process encourages public discourse and culminates in Board approval of the 2009 Budget in Dece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Board action toda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lanced budget required “based on reasonable assumptions and methods of estimation…”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0A4-58F6-489C-A448-AF033A905D5C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91920" y="80640"/>
            <a:ext cx="77374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ext Step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9440" y="1590840"/>
            <a:ext cx="8186760" cy="30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ugust to November: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blic discourse on Preliminary Budge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ate November: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nal Proposed Budget presented to MTA Board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Early December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avitch Commission issues repor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ate December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TA Board adopts Budget and schedules public hearings for changes in fares and tolls and for service reductions, if necessar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F0B-1929-45E4-B9BD-07540A4D651B}" type="slidenum">
              <a:t>20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520" y="83880"/>
            <a:ext cx="78073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4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49200" y="1346040"/>
          <a:ext cx="844560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1346040"/>
                    <a:ext cx="844560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7FE-FD50-4BC1-B336-4110BC287F6F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pdate on Major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4545000" y="3265560"/>
            <a:ext cx="432108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July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al Estate Market is Very 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gional Economy is W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uge Energy Price Increases due to Global Market Fo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rowth in Controllable Expenses Consistent with Budget Foreca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61920" y="91440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July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5240" y="1211400"/>
            <a:ext cx="3879720" cy="28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 rot="2488800">
            <a:off x="4020840" y="2487240"/>
            <a:ext cx="1768320" cy="685800"/>
          </a:xfrm>
          <a:custGeom>
            <a:avLst/>
            <a:gdLst>
              <a:gd name="textAreaLeft" fmla="*/ 276120 w 1768320"/>
              <a:gd name="textAreaRight" fmla="*/ 1432080 w 1768320"/>
              <a:gd name="textAreaTop" fmla="*/ 155880 h 685800"/>
              <a:gd name="textAreaBottom" fmla="*/ 52992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4915"/>
                </a:moveTo>
                <a:lnTo>
                  <a:pt x="14060" y="4915"/>
                </a:lnTo>
                <a:lnTo>
                  <a:pt x="14060" y="0"/>
                </a:lnTo>
                <a:lnTo>
                  <a:pt x="21600" y="10800"/>
                </a:lnTo>
                <a:lnTo>
                  <a:pt x="14060" y="21600"/>
                </a:lnTo>
                <a:lnTo>
                  <a:pt x="14060" y="16685"/>
                </a:lnTo>
                <a:lnTo>
                  <a:pt x="3375" y="16685"/>
                </a:lnTo>
                <a:close/>
              </a:path>
              <a:path w="21600" h="21600">
                <a:moveTo>
                  <a:pt x="0" y="4915"/>
                </a:moveTo>
                <a:lnTo>
                  <a:pt x="675" y="4915"/>
                </a:lnTo>
                <a:lnTo>
                  <a:pt x="675" y="16685"/>
                </a:lnTo>
                <a:lnTo>
                  <a:pt x="0" y="16685"/>
                </a:lnTo>
                <a:close/>
              </a:path>
              <a:path w="21600" h="21600">
                <a:moveTo>
                  <a:pt x="1350" y="4915"/>
                </a:moveTo>
                <a:lnTo>
                  <a:pt x="2700" y="4915"/>
                </a:lnTo>
                <a:lnTo>
                  <a:pt x="2700" y="16685"/>
                </a:lnTo>
                <a:lnTo>
                  <a:pt x="1350" y="16685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ff7c80"/>
              </a:gs>
            </a:gsLst>
            <a:lin ang="831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AD9-EAD3-4BE4-9C4A-4DA2B69A1066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6840" y="487440"/>
            <a:ext cx="86806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gnificant Changes from February Pla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(2008-2009)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1120" y="1933200"/>
            <a:ext cx="851688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Fuel and Energy Costs:  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208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49"/>
              </a:spcBef>
              <a:spcAft>
                <a:spcPts val="97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Impact of Economic Downturn on Tax Revenues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al Estate Tax Revenues: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443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e Tax Revenues: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6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FA4A-9772-40D4-8838-33BEDFBC9B1C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81000"/>
            <a:ext cx="78012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nergy Expense Growth 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007-2009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44520" y="1252440"/>
          <a:ext cx="843768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252440"/>
                    <a:ext cx="84376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085840" y="2525760"/>
            <a:ext cx="65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4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22600" y="1695600"/>
            <a:ext cx="655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6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18400" y="1468440"/>
            <a:ext cx="655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6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4840" y="3121200"/>
            <a:ext cx="65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2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0160" y="442260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7160" y="288936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21560" y="449568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B40-3C13-4904-B9D3-7635AB561B7F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7840" y="80640"/>
            <a:ext cx="82296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e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ctual Collections and July 2008 Plan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38120" y="1155600"/>
          <a:ext cx="8229600" cy="53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155600"/>
                    <a:ext cx="822960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571760" y="2112840"/>
            <a:ext cx="606240" cy="622440"/>
          </a:xfrm>
          <a:prstGeom prst="borderCallout1">
            <a:avLst>
              <a:gd name="adj1" fmla="val 18750"/>
              <a:gd name="adj2" fmla="val -8333"/>
              <a:gd name="adj3" fmla="val 561990"/>
              <a:gd name="adj4" fmla="val -64921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/197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122560"/>
            <a:ext cx="925560" cy="798480"/>
          </a:xfrm>
          <a:prstGeom prst="borderCallout1">
            <a:avLst>
              <a:gd name="adj1" fmla="val 18750"/>
              <a:gd name="adj2" fmla="val -8333"/>
              <a:gd name="adj3" fmla="val 427236"/>
              <a:gd name="adj4" fmla="val -71013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Urban T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5/198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PTT: 1.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: 0.6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9280" y="2111400"/>
            <a:ext cx="614160" cy="631800"/>
          </a:xfrm>
          <a:prstGeom prst="borderCallout1">
            <a:avLst>
              <a:gd name="adj1" fmla="val 18750"/>
              <a:gd name="adj2" fmla="val -8333"/>
              <a:gd name="adj3" fmla="val 430402"/>
              <a:gd name="adj4" fmla="val -166148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/19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13280" y="1459080"/>
            <a:ext cx="698760" cy="780840"/>
          </a:xfrm>
          <a:prstGeom prst="borderCallout1">
            <a:avLst>
              <a:gd name="adj1" fmla="val 18750"/>
              <a:gd name="adj2" fmla="val -8333"/>
              <a:gd name="adj3" fmla="val 143087"/>
              <a:gd name="adj4" fmla="val 150907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7/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3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5E6-9C98-4B4F-B166-43CAD34ADD15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920" y="80640"/>
            <a:ext cx="8853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 Receip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ncern for More Than A Year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0160" y="2220840"/>
          <a:ext cx="4132080" cy="26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2220840"/>
                    <a:ext cx="413208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66560" y="4232160"/>
            <a:ext cx="1184400" cy="7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059280" y="3657240"/>
            <a:ext cx="1196640" cy="4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013200" y="2596680"/>
            <a:ext cx="1320480" cy="1049400"/>
            <a:chOff x="3013200" y="2596680"/>
            <a:chExt cx="1320480" cy="1049400"/>
          </a:xfrm>
        </p:grpSpPr>
        <p:sp>
          <p:nvSpPr>
            <p:cNvPr id="92" name=""/>
            <p:cNvSpPr/>
            <p:nvPr/>
          </p:nvSpPr>
          <p:spPr>
            <a:xfrm>
              <a:off x="3013200" y="2597400"/>
              <a:ext cx="659880" cy="104868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673800" y="2596320"/>
              <a:ext cx="659880" cy="104868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22280" y="3363840"/>
            <a:ext cx="1201680" cy="814320"/>
            <a:chOff x="422280" y="3363840"/>
            <a:chExt cx="1201680" cy="814320"/>
          </a:xfrm>
        </p:grpSpPr>
        <p:sp>
          <p:nvSpPr>
            <p:cNvPr id="95" name=""/>
            <p:cNvSpPr/>
            <p:nvPr/>
          </p:nvSpPr>
          <p:spPr>
            <a:xfrm>
              <a:off x="422280" y="3364200"/>
              <a:ext cx="600480" cy="81396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023480" y="3363840"/>
              <a:ext cx="600480" cy="81360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01480" y="3130560"/>
            <a:ext cx="93960" cy="114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0040" y="2992320"/>
            <a:ext cx="100080" cy="119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7040" y="2957400"/>
            <a:ext cx="252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increase in projection, in real doll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7040" y="3097080"/>
            <a:ext cx="271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 in projection, in real doll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347920"/>
            <a:ext cx="228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lation Adjustment: 1982 – 1984 = 10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2960" y="1865160"/>
            <a:ext cx="404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djusted f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flation, MRT-2 Implementation Date &amp; MRT-1 Rate Increase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97280" y="2224080"/>
          <a:ext cx="4104000" cy="26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97280" y="2224080"/>
                    <a:ext cx="41040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930920" y="1874880"/>
            <a:ext cx="386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 Collections and July 2007 Financial Plan 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45040" y="3260880"/>
            <a:ext cx="93600" cy="114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43600" y="3122640"/>
            <a:ext cx="100080" cy="119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70600" y="3087720"/>
            <a:ext cx="25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increase in proj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70600" y="3227400"/>
            <a:ext cx="271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 in proj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1360" y="5176800"/>
            <a:ext cx="87980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July 2007 Financial P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f 2008 receipts are identical to 2004 receipts, then $1,167 million drops out of the plan through 2011 ($309 million in 2008)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4200" y="1279440"/>
            <a:ext cx="8677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pril 2007 Finance Committ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 Estate Transaction Taxes, What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5120" y="1362240"/>
            <a:ext cx="8712360" cy="351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5254560"/>
            <a:ext cx="8712360" cy="8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0AFC-F487-44EB-B299-54B9F8AE8220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28600" y="914400"/>
          <a:ext cx="869940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69940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3D6-D3A2-4B19-B594-2224EF4545FC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8-07-22T18:58:03Z</dcterms:modified>
  <cp:revision>1172</cp:revision>
  <dc:subject/>
  <dc:title>Preliminary 2005 Budget and Financial Plan</dc:title>
</cp:coreProperties>
</file>