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900240" y="0"/>
            <a:ext cx="2981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FCABB-E484-4339-9EB6-E223F60000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06640" y="685440"/>
            <a:ext cx="46735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8839080"/>
            <a:ext cx="298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900240" y="8839080"/>
            <a:ext cx="2981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056B5-0257-4F4D-8778-E9D65E269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900600" y="8839080"/>
            <a:ext cx="298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AADF9-1289-4347-943F-23A8180E6D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40968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900600" y="8839080"/>
            <a:ext cx="298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F0EA7-3A0B-4334-B70D-E80B213BCA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066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900600" y="8839080"/>
            <a:ext cx="298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4ED22-FC47-4C50-BB32-40C5FA9D5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06640" y="39996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900600" y="8839080"/>
            <a:ext cx="298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0F095-15FE-4A09-A9E4-782E260E63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066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900600" y="8839080"/>
            <a:ext cx="298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94722-415E-44E8-B68D-BD5219D3E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065240" y="228600"/>
            <a:ext cx="4707000" cy="3530520"/>
          </a:xfrm>
          <a:prstGeom prst="rect">
            <a:avLst/>
          </a:prstGeom>
          <a:ln w="0">
            <a:noFill/>
          </a:ln>
        </p:spPr>
      </p:sp>
      <p:sp>
        <p:nvSpPr>
          <p:cNvPr id="154" name=""/>
          <p:cNvSpPr/>
          <p:nvPr/>
        </p:nvSpPr>
        <p:spPr>
          <a:xfrm>
            <a:off x="290520" y="5200560"/>
            <a:ext cx="6362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9212600">
            <a:off x="253800" y="5086080"/>
            <a:ext cx="55832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063800" y="228600"/>
            <a:ext cx="4706640" cy="3530520"/>
          </a:xfrm>
          <a:prstGeom prst="rect">
            <a:avLst/>
          </a:prstGeom>
          <a:ln w="0">
            <a:noFill/>
          </a:ln>
        </p:spPr>
      </p:sp>
      <p:sp>
        <p:nvSpPr>
          <p:cNvPr id="158" name=""/>
          <p:cNvSpPr/>
          <p:nvPr/>
        </p:nvSpPr>
        <p:spPr>
          <a:xfrm>
            <a:off x="290520" y="5200560"/>
            <a:ext cx="6362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9212600">
            <a:off x="253800" y="5086080"/>
            <a:ext cx="55832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063800" y="228600"/>
            <a:ext cx="4706640" cy="3530520"/>
          </a:xfrm>
          <a:prstGeom prst="rect">
            <a:avLst/>
          </a:prstGeom>
          <a:ln w="0">
            <a:noFill/>
          </a:ln>
        </p:spPr>
      </p:sp>
      <p:sp>
        <p:nvSpPr>
          <p:cNvPr id="162" name=""/>
          <p:cNvSpPr/>
          <p:nvPr/>
        </p:nvSpPr>
        <p:spPr>
          <a:xfrm>
            <a:off x="290520" y="5200560"/>
            <a:ext cx="6362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19212600">
            <a:off x="253800" y="5086080"/>
            <a:ext cx="55832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076400" y="660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133" name="Line 3"/>
          <p:cNvSpPr/>
          <p:nvPr/>
        </p:nvSpPr>
        <p:spPr>
          <a:xfrm>
            <a:off x="290520" y="5200560"/>
            <a:ext cx="6362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900600" y="8839080"/>
            <a:ext cx="298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31E4F-B296-487A-8539-C643BB9F3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06640" y="34308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EE93-7A65-4252-B1D9-217E985F8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57CD-FFD4-4C17-A296-85F569951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6806-4C2B-4D16-904A-ADD7C0943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D1E5-8AE1-43B5-A8D4-4DA7E06EB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6A9C-5FE3-4048-A139-A32399127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F1C8-A1DE-4B8D-A0EE-01FBCD993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7CCB-131E-4BD1-9692-4A5169733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8FEF-2694-4F0B-B0C1-2BAB5D83A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FF0D-EFC9-4AF3-9433-75B1404BC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4332-5724-4356-9C46-665F731B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3FB8-1D4B-4F74-9873-9290467C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50C7-52FC-48CE-A149-E2B28AA6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C2D60-6AF9-46B3-B333-10AB8F46195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4C7DDC0A-1350-4F7F-93E0-FD7B3B90C8D9}" type="datetime10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2:4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12"/>
          <p:cNvSpPr/>
          <p:nvPr/>
        </p:nvSpPr>
        <p:spPr>
          <a:xfrm>
            <a:off x="228600" y="6248520"/>
            <a:ext cx="8686800" cy="4572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3"/>
          <p:cNvSpPr/>
          <p:nvPr/>
        </p:nvSpPr>
        <p:spPr>
          <a:xfrm>
            <a:off x="879840" y="632448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4" descr=""/>
          <p:cNvPicPr/>
          <p:nvPr/>
        </p:nvPicPr>
        <p:blipFill>
          <a:blip r:embed="rId2"/>
          <a:stretch/>
        </p:blipFill>
        <p:spPr>
          <a:xfrm>
            <a:off x="380880" y="6307200"/>
            <a:ext cx="301680" cy="333360"/>
          </a:xfrm>
          <a:prstGeom prst="rect">
            <a:avLst/>
          </a:prstGeom>
          <a:ln w="0">
            <a:noFill/>
          </a:ln>
        </p:spPr>
      </p:pic>
      <p:sp>
        <p:nvSpPr>
          <p:cNvPr id="7" name="Text Box 18"/>
          <p:cNvSpPr/>
          <p:nvPr/>
        </p:nvSpPr>
        <p:spPr>
          <a:xfrm>
            <a:off x="6472080" y="6245280"/>
            <a:ext cx="249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November 2008 Financial Plan 2009-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860960" y="6462720"/>
            <a:ext cx="97164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0966C-1795-4807-9D6A-5EF2581B8DF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0B4F-2894-4C4A-BD5B-754A94CE864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FEF9376D-4840-49FF-ABAD-A0512F49BBC1}" type="datetime10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2:4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7910640" y="6462720"/>
            <a:ext cx="97128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DA9E-A0FB-4CD2-B32B-B7301B21C22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217440" y="228600"/>
            <a:ext cx="8686800" cy="2286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3"/>
          <p:cNvSpPr/>
          <p:nvPr/>
        </p:nvSpPr>
        <p:spPr>
          <a:xfrm>
            <a:off x="228600" y="6248520"/>
            <a:ext cx="8686800" cy="4572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891000" y="635472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5" descr=""/>
          <p:cNvPicPr/>
          <p:nvPr/>
        </p:nvPicPr>
        <p:blipFill>
          <a:blip r:embed="rId1"/>
          <a:stretch/>
        </p:blipFill>
        <p:spPr>
          <a:xfrm>
            <a:off x="317520" y="6286680"/>
            <a:ext cx="301680" cy="3333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8"/>
          <p:cNvSpPr/>
          <p:nvPr/>
        </p:nvSpPr>
        <p:spPr>
          <a:xfrm>
            <a:off x="252360" y="551196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November 20,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0"/>
          <p:cNvSpPr/>
          <p:nvPr/>
        </p:nvSpPr>
        <p:spPr>
          <a:xfrm>
            <a:off x="344520" y="614520"/>
            <a:ext cx="8534520" cy="19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Arial Black"/>
              </a:rPr>
              <a:t>MTA 2009</a:t>
            </a:r>
            <a:br>
              <a:rPr sz="4800"/>
            </a:br>
            <a:r>
              <a:rPr b="0" lang="en-US" sz="4800" spc="-1" strike="noStrike">
                <a:solidFill>
                  <a:srgbClr val="006600"/>
                </a:solidFill>
                <a:latin typeface="Arial Black"/>
              </a:rPr>
              <a:t>Final Proposed Budg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4000">
                <a:solidFill>
                  <a:srgbClr val="006600"/>
                </a:solidFill>
                <a:latin typeface="Arial"/>
              </a:rPr>
              <a:t>November Financial Plan 2009-20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1"/>
          <p:cNvSpPr/>
          <p:nvPr/>
        </p:nvSpPr>
        <p:spPr>
          <a:xfrm>
            <a:off x="6111720" y="3965400"/>
            <a:ext cx="38916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d4d4d"/>
                </a:solidFill>
                <a:latin typeface="Arial Narrow"/>
              </a:rPr>
              <a:t>DJC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274840" y="2251080"/>
            <a:ext cx="4570560" cy="3276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6B27-BB9F-4B65-A883-CEFF8DC8EE37}" type="slidenum">
              <a:t>1</a:t>
            </a:fld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ng Island Rail Road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Additional Actions for Budget 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87840" y="1574640"/>
            <a:ext cx="43689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9: 173 positions, $36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0: 327 positions, $53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ice reduced on weekends and off-pe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celed and combined tra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tenance cycles will be selectively exte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ticket selling pos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station mainte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tion of gap remediation exte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-374760" y="1374840"/>
          <a:ext cx="5859720" cy="35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74760" y="1374840"/>
                    <a:ext cx="5859720" cy="35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33D9-EB28-4F52-B094-0B5B422EF3DC}" type="slidenum">
              <a:t>10</a:t>
            </a:fld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etro North Railroad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Additional Actions for Budget 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94240" y="1601640"/>
            <a:ext cx="44607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9: 88 positions, $35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0: 88 positions, $35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ding guidelines increased and trains shortened on East and West of Hudson 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reased train 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tion in car and station clea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ticket selling pos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CT restoration efforts slowed and maintenance of terminal reduc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0" y="1039680"/>
          <a:ext cx="5859360" cy="35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39680"/>
                    <a:ext cx="5859360" cy="35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5303-DD4A-4EFE-A3D3-2D24C740CDF0}" type="slidenum">
              <a:t>11</a:t>
            </a:fld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ridges &amp; Tunnel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dditional Agency Reduction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0" y="1025640"/>
          <a:ext cx="5850000" cy="356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25640"/>
                    <a:ext cx="5850000" cy="35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4613400" y="1611360"/>
            <a:ext cx="4313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9: 28 positions, $17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0: 28 positions, $24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imination of Cross Bay Bridge rebate pr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tion in number of cash lanes during low traffic perio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 assignments reprioritize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paper billing statements instead of bi-month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rease in dedicated resources for truck enforc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A4D3-8F34-4DE1-9F24-242FF31F7C10}" type="slidenum">
              <a:t>12</a:t>
            </a:fld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TA Bu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Additional Actions for Budget 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-461880" y="984240"/>
          <a:ext cx="6302160" cy="38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61880" y="984240"/>
                    <a:ext cx="6302160" cy="38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4587840" y="1441440"/>
            <a:ext cx="4556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9: 249 positions, $17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0: 249 positions, $24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lignment of peak period express bus 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ontinuation of low ridership express and local rout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ress bus fare increase from $5 to $7.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6D8C-D2F6-4039-8969-7E7DD13CF6AC}" type="slidenum">
              <a:t>13</a:t>
            </a:fld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ng Island Bu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Reduction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-582480" y="709560"/>
          <a:ext cx="5840280" cy="355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82480" y="709560"/>
                    <a:ext cx="5840280" cy="35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4054320" y="1312920"/>
            <a:ext cx="5089680" cy="30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0360" indent="-1652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itional Actions for Budget Bal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652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9: 21 positions, $5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652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0: 21 positions, $6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652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 ridership routes eliminated or reduc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652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 managerial workfo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652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 employee health &amp; welfare    contribution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65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7760" y="3975120"/>
            <a:ext cx="8389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1880" y="4078440"/>
            <a:ext cx="8166240" cy="22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0360" indent="-1652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 LI Bus Gap Closing Meas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652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 local bus farebox yield by 20% in addition to general across-the-board incr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652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 Paratransit fare to double the regular fa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652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the alternative fuel excise tax credit extends beyond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65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F99C-35D0-4039-8E76-8FF964C9F705}" type="slidenum">
              <a:t>14</a:t>
            </a:fld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4880" y="55440"/>
            <a:ext cx="8794440" cy="13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posed Fare &amp; Toll Yield Increase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23% Beginning June 1, 2009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81000" y="1241280"/>
          <a:ext cx="898524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000" y="1241280"/>
                    <a:ext cx="898524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2600280" y="1676520"/>
            <a:ext cx="75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$6,1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391440" y="1422360"/>
            <a:ext cx="75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$6,66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C7ED-D5AE-4B9D-9C00-A0B471DB7249}" type="slidenum">
              <a:t>15</a:t>
            </a:fld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4880" y="55440"/>
            <a:ext cx="8794440" cy="13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YCT Fare Operating Ratio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6600" y="774720"/>
          <a:ext cx="898524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600" y="774720"/>
                    <a:ext cx="898524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1200240" y="536256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62600" y="5353200"/>
            <a:ext cx="36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fter Gap Closing A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cl: PEGs, Additional Actions, Fare Increa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5896080"/>
            <a:ext cx="8505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rebox Operating Ratio excludes depreciation, OPEB and Environmental Remediation adjustments, and interest on long-term debt.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7A30-FC85-483D-8DF4-5BFEC48793D1}" type="slidenum">
              <a:t>16</a:t>
            </a:fld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4880" y="55440"/>
            <a:ext cx="8794440" cy="13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mmuter Rail Fare Operating Ratio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6600" y="774720"/>
          <a:ext cx="898524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600" y="774720"/>
                    <a:ext cx="898524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905040" y="536256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210280" y="5353200"/>
            <a:ext cx="36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fter Gap Closing A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cl: PEGs, Additional Actions, Fare Increa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5896080"/>
            <a:ext cx="8505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rebox Operating Ratio excludes depreciation, OPEB and Environmental Remediation adjustments, and interest on long-term debt.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4B02-C90A-49BA-A056-BC8ECCE7CE21}" type="slidenum">
              <a:t>17</a:t>
            </a:fld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Rectangle 3"/>
          <p:cNvGraphicFramePr/>
          <p:nvPr/>
        </p:nvGraphicFramePr>
        <p:xfrm>
          <a:off x="0" y="1252440"/>
          <a:ext cx="8804160" cy="465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52440"/>
                    <a:ext cx="8804160" cy="46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eficit after Gap Closing</a:t>
            </a: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96EB-6BD2-48D7-BAB9-2268E7E9A13E}" type="slidenum">
              <a:t>18</a:t>
            </a:fld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9800" y="1285920"/>
            <a:ext cx="825048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TA Board Authorization for public hear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ainder of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from board members, elected officials, &amp; public on Final Proposed 2009 budg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ease of Ravitch Commission repor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9 Budget Ado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nu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hearings for June 1, 2009 tariff and service chan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cess Going For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54EF-23F5-4A37-884F-DE01DD1FB342}" type="slidenum">
              <a:t>19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osing Cash Balance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Rectangle 3"/>
          <p:cNvGraphicFramePr/>
          <p:nvPr/>
        </p:nvGraphicFramePr>
        <p:xfrm>
          <a:off x="88920" y="1425600"/>
          <a:ext cx="8791560" cy="465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1425600"/>
                    <a:ext cx="8791560" cy="46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F02D-5012-4A4F-8FF8-668D126C3A5D}" type="slidenum">
              <a:t>2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2"/>
          <p:cNvGraphicFramePr/>
          <p:nvPr/>
        </p:nvGraphicFramePr>
        <p:xfrm>
          <a:off x="770040" y="1219320"/>
          <a:ext cx="7677000" cy="483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0040" y="1219320"/>
                    <a:ext cx="7677000" cy="48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40960" y="228240"/>
            <a:ext cx="7327800" cy="88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What got better? What got worse?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9846-3927-451D-AC6B-30AAB5B23B49}" type="slidenum">
              <a:t>3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041480" y="201600"/>
            <a:ext cx="73278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eficit Prior to Gap Closing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($ in mill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30320" y="1306440"/>
          <a:ext cx="8665920" cy="4208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320" y="1306440"/>
                    <a:ext cx="8665920" cy="42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B908-EE89-49C2-A94B-2180A9901BCD}" type="slidenum">
              <a:t>4</a:t>
            </a:fld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041480" y="201600"/>
            <a:ext cx="73278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Gap Closing Actions 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($ in mill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58680" y="1349280"/>
          <a:ext cx="8823240" cy="357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80" y="1349280"/>
                    <a:ext cx="8823240" cy="357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9E5C-0A06-492D-B05A-A585EAC2106D}" type="slidenum">
              <a:t>5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0720" y="948960"/>
            <a:ext cx="824544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ternal Ac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9 &amp; Post-2009 Agency-wide Redu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Contracts Labor Con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siness Service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TA Re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duce Subsidy LI B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iminate E-ZPass Forgiv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ternal Ac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deral Legisla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e Legislative Actions (Tax Statute Revis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1222200" y="228600"/>
            <a:ext cx="694692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uly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A991-B6C3-4694-B4B1-3F5D5748E557}" type="slidenum">
              <a:t>6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262080" y="241200"/>
            <a:ext cx="862308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TA-Wide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ositions* by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2200" y="5896080"/>
            <a:ext cx="8505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Non-reimbursable and Reimbursable positions. Includes vacancies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85800" y="1063800"/>
          <a:ext cx="7772400" cy="480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063800"/>
                    <a:ext cx="7772400" cy="48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D293-B170-4DBE-81A4-62FE28C78729}" type="slidenum">
              <a:t>7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-3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2680" indent="0">
              <a:spcBef>
                <a:spcPts val="9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anagerial Cuts and Other Actions for Budget Balan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52320" y="701640"/>
            <a:ext cx="8186760" cy="66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5120" indent="-349200">
              <a:lnSpc>
                <a:spcPct val="100000"/>
              </a:lnSpc>
              <a:spcBef>
                <a:spcPts val="901"/>
              </a:spcBef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3492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ximize administrative overhead red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5600" indent="-361800">
              <a:lnSpc>
                <a:spcPct val="100000"/>
              </a:lnSpc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gerial reductions greater than 5%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3492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sure safety, security, and reli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3492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fill fundamental mission of getting people where they need to g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3492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8960-FFDD-467A-8C86-9FAEE84CF247}" type="slidenum">
              <a:t>8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w York City Transit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dditional Actions for Budget 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2320" y="1136520"/>
            <a:ext cx="8186760" cy="49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2680" indent="-112680">
              <a:lnSpc>
                <a:spcPct val="100000"/>
              </a:lnSpc>
              <a:spcBef>
                <a:spcPts val="901"/>
              </a:spcBef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51200" y="1592280"/>
            <a:ext cx="41785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9: 2,269 positions, $155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0: 2,279 positions, $280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way Service reductions: route alterations, loading guideline changes, station booth closings and other station agent redu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 Service reduct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ductions in low ridership and duplicate 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in express bus fare from $5 to $7.5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transit reductions: increase in fare and revised customer cancellation and no-show poli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Rectangle 3"/>
          <p:cNvGraphicFramePr/>
          <p:nvPr/>
        </p:nvGraphicFramePr>
        <p:xfrm>
          <a:off x="-291960" y="1255680"/>
          <a:ext cx="5822640" cy="35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91960" y="1255680"/>
                    <a:ext cx="5822640" cy="35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323F-CE2C-4778-9E0B-8AC23D451F87}" type="slidenum">
              <a:t>9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8:18:55Z</dcterms:created>
  <dc:creator>David Keller</dc:creator>
  <dc:description/>
  <dc:language>en-US</dc:language>
  <cp:lastModifiedBy>David E. Keller</cp:lastModifiedBy>
  <cp:lastPrinted>2004-07-16T15:55:26Z</cp:lastPrinted>
  <dcterms:modified xsi:type="dcterms:W3CDTF">2008-11-20T16:24:36Z</dcterms:modified>
  <cp:revision>727</cp:revision>
  <dc:subject/>
  <dc:title>Preliminary 2005 Budget and Financial Plan</dc:title>
</cp:coreProperties>
</file>