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46BDFB-99DB-423D-B55D-BBA095619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3F9-B25D-4E40-BF30-3519623C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787-DE3C-4CA7-BEEC-AC7C09B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B90-5535-4887-8B22-5A7D1B3D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464-9499-470E-B026-2C7AD2A0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AEA-B582-4D25-8411-5A7F4260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A04-0EF0-4644-AF7F-9ABB34AF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EE3-1F82-4AC0-80D9-D58DF249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BC0-E00B-4184-BE0E-27FB5C0B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093-B8D4-444D-A214-B3EBB7D7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252-DCE5-4307-B998-21C53068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1E4-E694-459B-8A30-A0962CD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AFF-D5DF-4F11-B616-FC0AD47C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686F-F76E-4C7E-BCA8-4D02A054C38F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Spe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Finance Committ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ee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7760" y="5637240"/>
            <a:ext cx="7191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v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6A0-9D4C-4A86-B033-1900848A819B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3640" y="1625760"/>
          <a:ext cx="7175520" cy="28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625760"/>
                    <a:ext cx="71755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 and Solu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3DA-89A1-42B8-82E7-7624DEB1C9AB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urrent Economic Condi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9920" y="774720"/>
          <a:ext cx="430848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59480" y="774720"/>
          <a:ext cx="430848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3440" y="3451320"/>
          <a:ext cx="4308480" cy="24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34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68840" y="3451320"/>
          <a:ext cx="4308480" cy="24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88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2F9-F4B5-4915-A38C-12C04061C53F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81000"/>
            <a:ext cx="80294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orecast of Economic Conditions</a:t>
            </a:r>
            <a:br>
              <a:rPr sz="28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U.S. Gross Domestic Product, in Real Dollars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1003320"/>
          <a:ext cx="832644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03320"/>
                    <a:ext cx="8326440" cy="483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176800" y="4511520"/>
            <a:ext cx="1776600" cy="70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9, the October Forecast is 3.2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13640" y="2712960"/>
            <a:ext cx="181764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10, the October Forecast is 3.6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440" y="5834160"/>
            <a:ext cx="546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DP in 2000 Doll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 Global Insigh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0160" y="3344760"/>
            <a:ext cx="181440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8, the October Forecast is 0.8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EA9-005F-4344-9857-E45473C6A6BC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YS Taxes: Corporate Surcharge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ounts for almost 50% of MMTOA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9040" y="1081080"/>
          <a:ext cx="84330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081080"/>
                    <a:ext cx="8433000" cy="4889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42960" y="3849840"/>
          <a:ext cx="3591000" cy="113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849840"/>
                    <a:ext cx="3591000" cy="113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533-B5CA-4B54-AEB8-A4E62A9CA0DD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5760" y="1077840"/>
            <a:ext cx="8204040" cy="4759200"/>
            <a:chOff x="455760" y="1077840"/>
            <a:chExt cx="8204040" cy="4759200"/>
          </a:xfrm>
        </p:grpSpPr>
        <p:graphicFrame>
          <p:nvGraphicFramePr>
            <p:cNvPr id="84" name=""/>
            <p:cNvGraphicFramePr/>
            <p:nvPr/>
          </p:nvGraphicFramePr>
          <p:xfrm>
            <a:off x="455760" y="1077840"/>
            <a:ext cx="8204040" cy="47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5760" y="1077840"/>
                      <a:ext cx="8204040" cy="4759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15756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6240" y="515592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4360" y="514800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8132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9720" y="516888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18480" y="51609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21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75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8040" y="555624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4120" y="554040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4600" y="5533920"/>
              <a:ext cx="47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3640" y="554652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4524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6840" y="133812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34604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900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39C-A644-4AFD-9C76-48A52581F8B5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63640" y="1447920"/>
          <a:ext cx="7188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447920"/>
                    <a:ext cx="718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3BD-DA30-4CF9-A783-0B04D5451647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ovember Solu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dditional 1% Fare/Toll Yield Increase - $29M (6/09 Start) ; $50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gency 1% Reductions - $44M (7/09) ; $87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876-4A0D-46A9-AF89-655D2CBD1CCB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December Opportuniti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vitch Commission report released on December 5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Executive Budget released on December 16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TA Board Budget Adoption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745-D102-49CE-AE1C-18C93E1A1B2A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MTA</dc:creator>
  <dc:description/>
  <dc:language>en-US</dc:language>
  <cp:lastModifiedBy>David E. Keller</cp:lastModifiedBy>
  <cp:lastPrinted>2004-07-16T15:55:26Z</cp:lastPrinted>
  <dcterms:modified xsi:type="dcterms:W3CDTF">2008-11-07T22:23:41Z</dcterms:modified>
  <cp:revision>1209</cp:revision>
  <dc:subject/>
  <dc:title>Preliminary 2005 Budget and Financial Plan</dc:title>
</cp:coreProperties>
</file>