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808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880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756E72-58B3-4246-9664-91BA1FF84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6848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68480" y="64764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8480" y="46980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68480" y="73656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049-DF67-4DA3-81FB-8ED7FD7A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2B9-58DD-4F81-AB1B-AE693EC7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32C-D145-4744-B145-9D3C98CA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258-4225-446A-A5A3-0D7AE561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B9B-6975-43E8-BFB9-E3A6EAA0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384-47C5-4ACF-AE31-D6A54D03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C91-10D6-4B99-A7F9-E1A068D8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579-0ECC-4899-8C70-7BE104FC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17D-78DC-4148-A6EE-ED1E52D8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E89-6F72-4F5F-A106-5CD13400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A76-A8E6-4BB8-ABFE-EFDE7F48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5EC-7AAD-4861-80F7-D5EEB5D2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32F3-9A7D-4209-BE9A-A2978E5EB1B3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9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09 –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DAF-C7CE-4EA8-A0B9-A0EF9E19F719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498680"/>
          <a:ext cx="7967880" cy="23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498680"/>
                    <a:ext cx="7967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Gap Closing Actions 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4C9-AD6B-4E52-B332-89A79C14A21C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1305000"/>
          <a:ext cx="7905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05000"/>
                    <a:ext cx="7905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In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952-8AE2-47A6-A8D1-6B4599EF7872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200" y="80640"/>
            <a:ext cx="773748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: 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Already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9160" y="1285920"/>
            <a:ext cx="821988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cy-wide Service Enhancements Cancell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ministrative Cost Reductions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ring Delay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vel Restri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hicle Usag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usiness Developm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C2C-FA62-422F-8C02-35E9858D58B0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1280" y="80640"/>
            <a:ext cx="77374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9160" y="894960"/>
            <a:ext cx="81867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ecurring A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09 &amp; Post-2009 Agency-wid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Contracts Labor Contribu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siness Service Cen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duce Subsidy LI B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iminate E-ZPass Forgiven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8D0-B53F-48F7-B7D5-54FFF091A748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One-Time Opportunit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-Agency Lo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ver Uncommitted Spending From Prior Year Surpl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3EC-A5BB-4996-9498-84BF0BB191F1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00160" y="736560"/>
          <a:ext cx="87408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36560"/>
                    <a:ext cx="87408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8360" y="5143680"/>
            <a:ext cx="7823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controllable Operating Expenses include Paratransit Service Contracts, Fuel for Buses &amp; Trains, Traction &amp; Propulsion Power, OPEB Current Payment, Health &amp; Welfare, Pensions (see note below), and  Insura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lable Operating Expenses 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Expense Growth includes the General Reserve and the impact of the Gap Closing Actions but excludes Debt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8 Pensions exclude a one-time payment to NYCERS and MaBSTOA for refunds associated with the 55/25 retirement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BDA-C946-4DE6-BD7E-A9274098D3A3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00120" y="1390680"/>
          <a:ext cx="7905600" cy="23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390680"/>
                    <a:ext cx="7905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Ex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252-41C4-4D0A-A44D-FF4009E01CFD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1390680"/>
          <a:ext cx="790596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79059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Fare &amp; Toll Yield Chang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17A-D8EC-46BE-BB01-6DD5DDC8FDA5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2000" y="1366920"/>
          <a:ext cx="88041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366920"/>
                    <a:ext cx="88041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440" y="81000"/>
            <a:ext cx="785196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3F2-A30E-41E3-81B9-17F3FB4B73CE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171440" y="1666800"/>
          <a:ext cx="676296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666800"/>
                    <a:ext cx="6762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280" y="81000"/>
            <a:ext cx="8310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xternal Actions Fail &amp; No New Revenue Streams are Identified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F9F-7420-4B42-A80C-18744B6D217F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14076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cess and Timetab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0200" y="1300320"/>
            <a:ext cx="83469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-year financial planning process kicks off in Ju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process encourages public discourse and culminates in Board approval of the 2009 Budget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Board action toda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d budget required “based on reasonable assumptions and methods of estimation…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457-5A67-4BA6-A42F-89597CB63809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9440" y="1590840"/>
            <a:ext cx="818676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ugust to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blic discourse on Preliminary Budg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l Proposed Budget presented to MTA Boar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arly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vitch Commission issues repo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TA Board adopts Budget and schedules public hearings for changes in fares and tolls and for service reductions, if necessa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FAC-904C-45E8-8B3C-12F846CFBABC}" type="slidenum">
              <a:t>20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00" y="1346040"/>
          <a:ext cx="84456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346040"/>
                    <a:ext cx="84456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244-8B28-4739-82CD-4E87311123A0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pdate on Major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4545000" y="3265560"/>
            <a:ext cx="432108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l Estate Market is Very 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gional Economy is W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uge Energy Price Increases due to Global Market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rowth in Controllable Expenses Consistent with Budget Forec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1920" y="9144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5240" y="1211400"/>
            <a:ext cx="3879720" cy="28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 rot="2488800">
            <a:off x="4020840" y="2487240"/>
            <a:ext cx="1768320" cy="685800"/>
          </a:xfrm>
          <a:custGeom>
            <a:avLst/>
            <a:gdLst>
              <a:gd name="textAreaLeft" fmla="*/ 276120 w 1768320"/>
              <a:gd name="textAreaRight" fmla="*/ 1432080 w 1768320"/>
              <a:gd name="textAreaTop" fmla="*/ 155880 h 685800"/>
              <a:gd name="textAreaBottom" fmla="*/ 52992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4915"/>
                </a:moveTo>
                <a:lnTo>
                  <a:pt x="14060" y="4915"/>
                </a:lnTo>
                <a:lnTo>
                  <a:pt x="14060" y="0"/>
                </a:lnTo>
                <a:lnTo>
                  <a:pt x="21600" y="10800"/>
                </a:lnTo>
                <a:lnTo>
                  <a:pt x="14060" y="21600"/>
                </a:lnTo>
                <a:lnTo>
                  <a:pt x="14060" y="16685"/>
                </a:lnTo>
                <a:lnTo>
                  <a:pt x="3375" y="16685"/>
                </a:lnTo>
                <a:close/>
              </a:path>
              <a:path w="21600" h="21600">
                <a:moveTo>
                  <a:pt x="0" y="4915"/>
                </a:moveTo>
                <a:lnTo>
                  <a:pt x="675" y="4915"/>
                </a:lnTo>
                <a:lnTo>
                  <a:pt x="675" y="16685"/>
                </a:lnTo>
                <a:lnTo>
                  <a:pt x="0" y="16685"/>
                </a:lnTo>
                <a:close/>
              </a:path>
              <a:path w="21600" h="21600">
                <a:moveTo>
                  <a:pt x="1350" y="4915"/>
                </a:moveTo>
                <a:lnTo>
                  <a:pt x="2700" y="4915"/>
                </a:lnTo>
                <a:lnTo>
                  <a:pt x="2700" y="16685"/>
                </a:lnTo>
                <a:lnTo>
                  <a:pt x="1350" y="16685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7c80"/>
              </a:gs>
            </a:gsLst>
            <a:lin ang="83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D51-8021-4616-8114-16DA0A6BE51D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6840" y="487440"/>
            <a:ext cx="86806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gnificant Changes from February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2008-2009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120" y="1933200"/>
            <a:ext cx="85168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uel and Energy Costs: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208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49"/>
              </a:spcBef>
              <a:spcAft>
                <a:spcPts val="9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mpact of Economic Downturn on Tax Revenue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l Estate Tax Revenues: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443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Tax Revenues: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6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3A4-9107-46A7-9E36-E00AC7660C46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81000"/>
            <a:ext cx="78012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nergy Expense Growth 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007-2009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44520" y="1252440"/>
          <a:ext cx="84376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52440"/>
                    <a:ext cx="84376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085840" y="252576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4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2600" y="1695600"/>
            <a:ext cx="65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8400" y="1468440"/>
            <a:ext cx="655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4840" y="312120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2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0160" y="442260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7160" y="288936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21560" y="449568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8B4-1E22-48C3-A63B-C7CC34A0FE5B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7840" y="8064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ual Collections and July 2008 Plan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8120" y="1155600"/>
          <a:ext cx="8229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155600"/>
                    <a:ext cx="8229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571760" y="2112840"/>
            <a:ext cx="606240" cy="622440"/>
          </a:xfrm>
          <a:prstGeom prst="borderCallout1">
            <a:avLst>
              <a:gd name="adj1" fmla="val 18750"/>
              <a:gd name="adj2" fmla="val -8333"/>
              <a:gd name="adj3" fmla="val 561990"/>
              <a:gd name="adj4" fmla="val -64921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7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122560"/>
            <a:ext cx="925560" cy="798480"/>
          </a:xfrm>
          <a:prstGeom prst="borderCallout1">
            <a:avLst>
              <a:gd name="adj1" fmla="val 18750"/>
              <a:gd name="adj2" fmla="val -8333"/>
              <a:gd name="adj3" fmla="val 427236"/>
              <a:gd name="adj4" fmla="val -7101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Urban 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5/19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PTT: 1.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: 0.6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9280" y="2111400"/>
            <a:ext cx="614160" cy="631800"/>
          </a:xfrm>
          <a:prstGeom prst="borderCallout1">
            <a:avLst>
              <a:gd name="adj1" fmla="val 18750"/>
              <a:gd name="adj2" fmla="val -8333"/>
              <a:gd name="adj3" fmla="val 430402"/>
              <a:gd name="adj4" fmla="val -166148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3280" y="1459080"/>
            <a:ext cx="698760" cy="780840"/>
          </a:xfrm>
          <a:prstGeom prst="borderCallout1">
            <a:avLst>
              <a:gd name="adj1" fmla="val 18750"/>
              <a:gd name="adj2" fmla="val -8333"/>
              <a:gd name="adj3" fmla="val 143087"/>
              <a:gd name="adj4" fmla="val 150907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/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3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48D-3D8C-457F-A027-66329D0887C1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ncern for More Than A Year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0160" y="2220840"/>
          <a:ext cx="4132080" cy="26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220840"/>
                    <a:ext cx="41320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66560" y="4232160"/>
            <a:ext cx="1184400" cy="7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59280" y="3657240"/>
            <a:ext cx="1196640" cy="4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13200" y="2596680"/>
            <a:ext cx="1320480" cy="1049400"/>
            <a:chOff x="3013200" y="2596680"/>
            <a:chExt cx="1320480" cy="1049400"/>
          </a:xfrm>
        </p:grpSpPr>
        <p:sp>
          <p:nvSpPr>
            <p:cNvPr id="92" name=""/>
            <p:cNvSpPr/>
            <p:nvPr/>
          </p:nvSpPr>
          <p:spPr>
            <a:xfrm>
              <a:off x="3013200" y="259740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73800" y="259632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2280" y="3363840"/>
            <a:ext cx="1201680" cy="814320"/>
            <a:chOff x="422280" y="3363840"/>
            <a:chExt cx="1201680" cy="814320"/>
          </a:xfrm>
        </p:grpSpPr>
        <p:sp>
          <p:nvSpPr>
            <p:cNvPr id="95" name=""/>
            <p:cNvSpPr/>
            <p:nvPr/>
          </p:nvSpPr>
          <p:spPr>
            <a:xfrm>
              <a:off x="422280" y="3364200"/>
              <a:ext cx="600480" cy="8139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480" y="3363840"/>
              <a:ext cx="600480" cy="81360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01480" y="3130560"/>
            <a:ext cx="9396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040" y="299232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" y="2957400"/>
            <a:ext cx="25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7040" y="309708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347920"/>
            <a:ext cx="22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lation Adjustment: 1982 – 1984 = 10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960" y="186516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justed 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flation, MRT-2 Implementation Date &amp; MRT-1 Rate Increase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97280" y="2224080"/>
          <a:ext cx="4104000" cy="26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2224080"/>
                    <a:ext cx="4104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30920" y="1874880"/>
            <a:ext cx="38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 Collections and July 2007 Financial Plan 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5040" y="3260880"/>
            <a:ext cx="9360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3600" y="312264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0600" y="3087720"/>
            <a:ext cx="25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0600" y="322740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360" y="5176800"/>
            <a:ext cx="87980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July 2007 Financial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f 2008 receipts are identical to 2004 receipts, then $1,167 million drops out of the plan through 2011 ($309 million in 2008)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200" y="1279440"/>
            <a:ext cx="8677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pril 2007 Finance Committ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 Estate Transaction Taxes, What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1362240"/>
            <a:ext cx="8712360" cy="351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5254560"/>
            <a:ext cx="871236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892-2157-499F-AB15-D02740B95957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8600" y="914400"/>
          <a:ext cx="86994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994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14A-89C1-41F3-9380-4429157FD6E8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07-22T18:58:03Z</dcterms:modified>
  <cp:revision>1172</cp:revision>
  <dc:subject/>
  <dc:title>Preliminary 2005 Budget and Financial Plan</dc:title>
</cp:coreProperties>
</file>