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00240" y="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6E17-211D-4048-9A1E-5EE01D8494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66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0024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E0F8-70C9-4924-A4FB-166555223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05ED-A010-4F5C-8899-C6C455152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4096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93AD-2E28-431F-B8E2-9241406D4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F37B-973E-4204-BDC9-8EABC16E1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39996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A2BE-2B8E-488F-BF86-3E5CF7E56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D7CD-2265-4121-A85A-4044B7358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5240" y="22860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0764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33" name="Line 3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4DB2-BFDE-4112-AB6E-D8EFD891E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3430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EE1-FB21-436E-83FA-0BEBDA48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B56-ADC3-445B-ADF4-BC86CBD5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1B0-17A6-47F9-B974-4ECAF630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A028-2D5D-4141-927F-5ABFB839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63E-6022-4AD4-829E-96958FEF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69B-6CC6-40F6-B601-807212D6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4EAA-3B02-47E8-9619-C92688EF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7DE-8D61-43B9-8C8B-EDE788F4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6796-7A6F-4112-8805-B9436EFC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CFF5-CF20-46D6-9622-F5338CB0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70F-FD04-4FF0-8CB9-B168F3B8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DCA-D210-4264-927C-25242BD6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1510-CE1F-4250-8C06-3125C6CFE33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6803428-1722-401E-9AA9-9B126CB26203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:5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8"/>
          <p:cNvSpPr/>
          <p:nvPr/>
        </p:nvSpPr>
        <p:spPr>
          <a:xfrm>
            <a:off x="6472080" y="6245280"/>
            <a:ext cx="24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60960" y="646272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0682-E858-4D6A-851C-1C8BFB95466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013B-F724-4912-B68B-E6A94F31554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64443E4-1626-4736-AD3B-DC3409D6D7F0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:5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910640" y="646272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FD51-8272-4A00-AE8D-C070007E14C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891000" y="63547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5" descr=""/>
          <p:cNvPicPr/>
          <p:nvPr/>
        </p:nvPicPr>
        <p:blipFill>
          <a:blip r:embed="rId1"/>
          <a:stretch/>
        </p:blipFill>
        <p:spPr>
          <a:xfrm>
            <a:off x="317520" y="62866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8"/>
          <p:cNvSpPr/>
          <p:nvPr/>
        </p:nvSpPr>
        <p:spPr>
          <a:xfrm>
            <a:off x="252360" y="55119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20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9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9-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74840" y="2251080"/>
            <a:ext cx="457056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AD3-26DC-4EA9-AC42-9473590C3C52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Rail 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87840" y="1574640"/>
            <a:ext cx="4368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173 positions, $3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327 positions, $53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reduced on weekends and off-p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ed and combined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 cycles will be selectively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station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gap remediation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374760" y="1374840"/>
          <a:ext cx="5859720" cy="35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4760" y="1374840"/>
                    <a:ext cx="5859720" cy="35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7145-BD10-45DC-B2EC-5F9D37CCC866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tro North Rail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4240" y="1601640"/>
            <a:ext cx="4460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ing guidelines increased and trains shortened on East and West of Hudso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d trai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car and station cl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CT restoration efforts slowed and maintenance of terminal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039680"/>
          <a:ext cx="5859360" cy="35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9680"/>
                    <a:ext cx="585936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E0A-4546-48C8-8ACD-A1A263178D0A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idges &amp; Tunnel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gency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025640"/>
          <a:ext cx="5850000" cy="35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5640"/>
                    <a:ext cx="585000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613400" y="1611360"/>
            <a:ext cx="4313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8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8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ion of Cross Bay Bridge rebate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number of cash lanes during low traffic peri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 assignments reprioritiz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paper billing statements instead of bi-mont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 in dedicated resources for truck enforc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ED8-B06F-4F32-92BA-EB61B8D8387E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1880" y="984240"/>
          <a:ext cx="630216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1880" y="984240"/>
                    <a:ext cx="63021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587840" y="1441440"/>
            <a:ext cx="4556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49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49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ignment of peak period express bus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ntinuation of low ridership express and local ro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 bus fare increase from $5 to $7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C35-7934-4464-BEBC-5791E7EEF04E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-582480" y="709560"/>
          <a:ext cx="5840280" cy="35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82480" y="709560"/>
                    <a:ext cx="584028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054320" y="1312920"/>
            <a:ext cx="50896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Actions for Budget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1 positions, $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1 positions, $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ridership routes eliminated or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managerial work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employee health &amp; welfare    contribu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7760" y="3975120"/>
            <a:ext cx="838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1880" y="4078440"/>
            <a:ext cx="8166240" cy="22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LI Bus Gap Closing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local bus farebox yield by 20% in addition to general across-the-board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Paratransit fare to double the regular f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the alternative fuel excise tax credit extends beyond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69F-4951-4317-BC03-BAE2A2BA5E07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posed Fare &amp; Toll Yield Increas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3% Beginning June 1, 2009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1000" y="124128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00" y="124128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600280" y="167652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1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91440" y="14223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6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0E2-2048-429F-8188-507452AC7903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YCT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2002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6260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CD9A-3813-4510-B471-0179F48FB65A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uter Rail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9050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1028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8F4-5394-4EC6-89D6-961964B293F4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Rectangle 3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after Gap Closing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E410-7042-44E7-85F4-BA1ADC88FF89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9800" y="128592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A Board Authorization for public h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der of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from board members, elected officials, &amp; public on Final Proposed 2009 bud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of Ravitch Commission repo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 Budget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hearings for June 1, 2009 tariff and service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ss Going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FC0-3348-4A67-8C7E-59317EFBEFB3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osing Cash Balance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Rectangle 3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C79-1A5F-4E97-8C66-450EF0943210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770040" y="1219320"/>
          <a:ext cx="76770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219320"/>
                    <a:ext cx="76770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0960" y="228240"/>
            <a:ext cx="73278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E9D-4ACD-45F2-9064-A75443ACAD64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Prior to Gap Closing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0320" y="1306440"/>
          <a:ext cx="8665920" cy="42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306440"/>
                    <a:ext cx="866592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A78-DA39-4BF0-96BA-DC9C50DC0559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ap Closing Actions 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8680" y="1349280"/>
          <a:ext cx="8823240" cy="357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1349280"/>
                    <a:ext cx="8823240" cy="35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D82-A6F2-42EF-B29B-0101932B6DF1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0720" y="948960"/>
            <a:ext cx="824544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&amp; Post-2009 Agency-wide R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tracts Labor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Servic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A Re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 Subsidy LI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e E-ZPass Forg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deral Legisla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Legislative Actions (Tax Statute Revi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222200" y="228600"/>
            <a:ext cx="69469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C0BB-7A47-47C3-8333-3C31AF1497E4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2080" y="241200"/>
            <a:ext cx="86230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-Wid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sitions* b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2200" y="5896080"/>
            <a:ext cx="850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Non-reimbursable and Reimbursable positions. Includes vacanci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063800"/>
          <a:ext cx="7772400" cy="48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3800"/>
                    <a:ext cx="7772400" cy="48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6CFF-6A69-44AF-9DC2-88253CCF50CA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nagerial Cuts and Other Actions for Budget Bal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2320" y="701640"/>
            <a:ext cx="8186760" cy="66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34920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ze administrative overhead re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5600" indent="-36180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ial reductions greater than 5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safety, security, and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fill fundamental mission of getting people where they need to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492-98C2-4DCA-8BA9-BD025D1DA899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w York City Transit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2320" y="1136520"/>
            <a:ext cx="818676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1200" y="1592280"/>
            <a:ext cx="4178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,269 positions, $15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,279 positions, $28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way Service reductions: route alterations, loading guideline changes, station booth closings and other station agent re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 Service redu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tions in low ridership and duplicat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in express bus fare from $5 to $7.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transit reductions: increase in fare and revised customer cancellation and no-show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Rectangle 3"/>
          <p:cNvGraphicFramePr/>
          <p:nvPr/>
        </p:nvGraphicFramePr>
        <p:xfrm>
          <a:off x="-291960" y="1255680"/>
          <a:ext cx="582264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1960" y="1255680"/>
                    <a:ext cx="582264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9D6-B7E0-44EC-96EA-51FD0EF7FF04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11-20T16:24:36Z</dcterms:modified>
  <cp:revision>727</cp:revision>
  <dc:subject/>
  <dc:title>Preliminary 2005 Budget and Financial Plan</dc:title>
</cp:coreProperties>
</file>