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259347-AE29-4BB2-B26F-CD82F438F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0620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10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620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13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9CE-C61B-433A-AC3D-60CADA79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7D89-AE79-42C1-A975-D6575F08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E6E8-4EBF-47CF-983D-B823899F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3A97-E719-4F50-8910-2F189EE9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2D5-ADD2-40F9-8E4A-9191B18B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8381-4F7E-4457-A372-734AD332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F371-9D4E-4438-ABB9-CD2097A5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7A8C-88B8-46F5-A4C3-661DC3B1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5B9-21D3-4B36-9D70-1AA9B380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73B6-9CC9-4653-987C-50E12E95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EFA-A195-4A53-9E9A-AC27DA7E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09E-5557-4A06-B4A8-9157C0D9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BC48-6CA7-44CA-8927-B0F58B5011A8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10,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9840" y="2540160"/>
            <a:ext cx="426708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61920" y="633240"/>
            <a:ext cx="719136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Spe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Finance Committ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ee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4760" y="3894120"/>
            <a:ext cx="388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77760" y="5637240"/>
            <a:ext cx="7191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vember 10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9CC6-8256-48A5-A525-7E44AAB93C69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63640" y="1625760"/>
          <a:ext cx="7175520" cy="28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625760"/>
                    <a:ext cx="717552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 and Solu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C84-CDAE-4348-98BD-1283A95D763E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600" y="80640"/>
            <a:ext cx="8001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urrent Economic Condi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9920" y="774720"/>
          <a:ext cx="430848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7747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59480" y="774720"/>
          <a:ext cx="4308480" cy="24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9480" y="7747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63440" y="3451320"/>
          <a:ext cx="4308480" cy="24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3440" y="34513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668840" y="3451320"/>
          <a:ext cx="4308480" cy="24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68840" y="34513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A2B-6FB5-4DF0-BD83-8257378C3D1F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81000"/>
            <a:ext cx="80294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orecast of Economic Conditions</a:t>
            </a:r>
            <a:br>
              <a:rPr sz="28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U.S. Gross Domestic Product, in Real Dollars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9960" y="1003320"/>
          <a:ext cx="8326440" cy="48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003320"/>
                    <a:ext cx="8326440" cy="4834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176800" y="4511520"/>
            <a:ext cx="1776600" cy="703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09, the October Forecast is 3.2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13640" y="2712960"/>
            <a:ext cx="1817640" cy="550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10, the October Forecast is 3.6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9440" y="5834160"/>
            <a:ext cx="546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GDP in 2000 Doll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 Global Insight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00160" y="3344760"/>
            <a:ext cx="1814400" cy="550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08, the October Forecast is 0.8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AB2-3565-46DE-91DA-0C31055A23C1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YS Taxes: Corporate Surcharge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ounts for almost 50% of MMTOA</a:t>
            </a:r>
            <a:br>
              <a:rPr sz="24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19040" y="1081080"/>
          <a:ext cx="843300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081080"/>
                    <a:ext cx="8433000" cy="4889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42960" y="3849840"/>
          <a:ext cx="3591000" cy="1130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3849840"/>
                    <a:ext cx="3591000" cy="113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3DD-C862-4B4F-A8E8-39336DC9928C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es</a:t>
            </a:r>
            <a:br>
              <a:rPr sz="2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5760" y="1077840"/>
            <a:ext cx="8204040" cy="4759200"/>
            <a:chOff x="455760" y="1077840"/>
            <a:chExt cx="8204040" cy="4759200"/>
          </a:xfrm>
        </p:grpSpPr>
        <p:graphicFrame>
          <p:nvGraphicFramePr>
            <p:cNvPr id="84" name=""/>
            <p:cNvGraphicFramePr/>
            <p:nvPr/>
          </p:nvGraphicFramePr>
          <p:xfrm>
            <a:off x="455760" y="1077840"/>
            <a:ext cx="8204040" cy="475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5760" y="1077840"/>
                      <a:ext cx="8204040" cy="47592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157560" y="51591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16240" y="5155920"/>
              <a:ext cx="47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94360" y="514800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81320" y="51591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9720" y="5168880"/>
              <a:ext cx="47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18480" y="51609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62160" y="555300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57560" y="555300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8040" y="555624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24120" y="5540400"/>
              <a:ext cx="47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84600" y="5533920"/>
              <a:ext cx="47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43640" y="5546520"/>
              <a:ext cx="47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645240" y="1346040"/>
            <a:ext cx="0" cy="38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76840" y="1338120"/>
            <a:ext cx="0" cy="385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1346040"/>
            <a:ext cx="0" cy="385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9000" y="1346040"/>
            <a:ext cx="0" cy="38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7438-00BA-4125-A0DA-298B9FEEA9CF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863640" y="1447920"/>
          <a:ext cx="71881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447920"/>
                    <a:ext cx="7188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at got better? What got worse?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0F8B-4447-45EF-8EB2-58052C3D3AF0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ovember Solu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69800" y="1590840"/>
            <a:ext cx="825048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dditional 1% Fare/Toll Yield Increase - $29M (6/09 Start) ; $50M ann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gency 1% Reductions - $44M (7/09) ; $87M ann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DC35-745E-41D4-9C7B-D283A63AD34C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1920" y="80640"/>
            <a:ext cx="77374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December Opportuniti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9800" y="1590840"/>
            <a:ext cx="82504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avitch Commission report released on December 5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e Executive Budget released on December 16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TA Board Budget Adoption in Dece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4F6-0640-4063-818D-B2E78DF83E6D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MTA</dc:creator>
  <dc:description/>
  <dc:language>en-US</dc:language>
  <cp:lastModifiedBy>David E. Keller</cp:lastModifiedBy>
  <cp:lastPrinted>2004-07-16T15:55:26Z</cp:lastPrinted>
  <dcterms:modified xsi:type="dcterms:W3CDTF">2008-11-07T22:23:41Z</dcterms:modified>
  <cp:revision>1209</cp:revision>
  <dc:subject/>
  <dc:title>Preliminary 2005 Budget and Financial Plan</dc:title>
</cp:coreProperties>
</file>