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00240" y="0"/>
            <a:ext cx="2981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5A65-8F60-463F-905E-1299837F2C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0664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883908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90024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3811-C67B-4553-B1E7-9D309EFD2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4408-B0BA-4FE9-A627-E195B2A91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40968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B1B0-4CC1-4716-8ACE-C3D4BE939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131F-FD3C-4AA3-8ECF-7259FB3AB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6640" y="39996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C965-D6F3-4BB8-9EE1-BF49A5ED0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66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D60D-E73E-4C9D-9093-038BC48DF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65240" y="228600"/>
            <a:ext cx="4707000" cy="3530520"/>
          </a:xfrm>
          <a:prstGeom prst="rect">
            <a:avLst/>
          </a:prstGeom>
          <a:ln w="0">
            <a:noFill/>
          </a:ln>
        </p:spPr>
      </p:sp>
      <p:sp>
        <p:nvSpPr>
          <p:cNvPr id="154" name=""/>
          <p:cNvSpPr/>
          <p:nvPr/>
        </p:nvSpPr>
        <p:spPr>
          <a:xfrm>
            <a:off x="290520" y="5200560"/>
            <a:ext cx="6362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9212600">
            <a:off x="253800" y="5086080"/>
            <a:ext cx="5583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63800" y="228600"/>
            <a:ext cx="4706640" cy="3530520"/>
          </a:xfrm>
          <a:prstGeom prst="rect">
            <a:avLst/>
          </a:prstGeom>
          <a:ln w="0">
            <a:noFill/>
          </a:ln>
        </p:spPr>
      </p:sp>
      <p:sp>
        <p:nvSpPr>
          <p:cNvPr id="158" name=""/>
          <p:cNvSpPr/>
          <p:nvPr/>
        </p:nvSpPr>
        <p:spPr>
          <a:xfrm>
            <a:off x="290520" y="5200560"/>
            <a:ext cx="6362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9212600">
            <a:off x="253800" y="5086080"/>
            <a:ext cx="5583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063800" y="228600"/>
            <a:ext cx="4706640" cy="3530520"/>
          </a:xfrm>
          <a:prstGeom prst="rect">
            <a:avLst/>
          </a:prstGeom>
          <a:ln w="0">
            <a:noFill/>
          </a:ln>
        </p:spPr>
      </p:sp>
      <p:sp>
        <p:nvSpPr>
          <p:cNvPr id="162" name=""/>
          <p:cNvSpPr/>
          <p:nvPr/>
        </p:nvSpPr>
        <p:spPr>
          <a:xfrm>
            <a:off x="290520" y="5200560"/>
            <a:ext cx="6362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9212600">
            <a:off x="253800" y="5086080"/>
            <a:ext cx="5583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076400" y="660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33" name="Line 3"/>
          <p:cNvSpPr/>
          <p:nvPr/>
        </p:nvSpPr>
        <p:spPr>
          <a:xfrm>
            <a:off x="290520" y="5200560"/>
            <a:ext cx="6362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97DE-6004-4013-A894-55A908A3D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6640" y="34308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9361-E3A9-4AF3-8D86-8B2CD7174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917F-C9A2-43A4-8A37-3DFCB759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BA3F-AEBD-440B-8814-B477C495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D6FD-567E-46FC-95D0-D3484784B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D36E-2A27-407B-8E53-F4D75792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9A2D-1370-4BCC-8850-D4844A62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128F-4A9E-49E0-98F2-D5DF13FC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8B8E-6250-403F-84B9-220AD3AD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0F24-9946-4D10-8462-2FD172C7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9B17-15FA-499D-B7BF-1790BE00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8DA3-E4D0-4B1A-BD74-82CD2118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30FE-6AF9-4D0B-98F8-EC6BD5D5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5E91-6419-469C-B1AC-B7B21D3AD3D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1DC6310-ED40-4E2C-9681-1A47AFEF454D}" type="datetime10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:2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3"/>
          <p:cNvSpPr/>
          <p:nvPr/>
        </p:nvSpPr>
        <p:spPr>
          <a:xfrm>
            <a:off x="879840" y="632448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4" descr=""/>
          <p:cNvPicPr/>
          <p:nvPr/>
        </p:nvPicPr>
        <p:blipFill>
          <a:blip r:embed="rId2"/>
          <a:stretch/>
        </p:blipFill>
        <p:spPr>
          <a:xfrm>
            <a:off x="380880" y="630720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Text Box 18"/>
          <p:cNvSpPr/>
          <p:nvPr/>
        </p:nvSpPr>
        <p:spPr>
          <a:xfrm>
            <a:off x="6472080" y="6245280"/>
            <a:ext cx="249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November 2008 Financial Plan 2009-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860960" y="6462720"/>
            <a:ext cx="97164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A612-DD1D-4671-961F-59321FEF284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35AF-04C9-47E8-972E-31183724CAF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356C481-01EE-4A3F-B8DB-45591289FE2F}" type="datetime10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:2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7910640" y="6462720"/>
            <a:ext cx="9712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03BE-52AB-4413-8837-A72723BFEFA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891000" y="63547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5" descr=""/>
          <p:cNvPicPr/>
          <p:nvPr/>
        </p:nvPicPr>
        <p:blipFill>
          <a:blip r:embed="rId1"/>
          <a:stretch/>
        </p:blipFill>
        <p:spPr>
          <a:xfrm>
            <a:off x="317520" y="62866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8"/>
          <p:cNvSpPr/>
          <p:nvPr/>
        </p:nvSpPr>
        <p:spPr>
          <a:xfrm>
            <a:off x="252360" y="55119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November 20,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344520" y="614520"/>
            <a:ext cx="853452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Arial Black"/>
              </a:rPr>
              <a:t>MTA 2009</a:t>
            </a:r>
            <a:br>
              <a:rPr sz="4800"/>
            </a:br>
            <a:r>
              <a:rPr b="0" lang="en-US" sz="4800" spc="-1" strike="noStrike">
                <a:solidFill>
                  <a:srgbClr val="006600"/>
                </a:solidFill>
                <a:latin typeface="Arial Black"/>
              </a:rPr>
              <a:t>Final Proposed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4000">
                <a:solidFill>
                  <a:srgbClr val="006600"/>
                </a:solidFill>
                <a:latin typeface="Arial"/>
              </a:rPr>
              <a:t>November Financial Plan 2009-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6111720" y="3965400"/>
            <a:ext cx="38916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d4d4d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74840" y="2251080"/>
            <a:ext cx="4570560" cy="327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1DAC-DDF5-4660-BDA1-BF8F0EE38166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ng Island Rail Road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Additional Actions for Budge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87840" y="1574640"/>
            <a:ext cx="4368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173 positions, $36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327 positions, $53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 reduced on weekends and off-pe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celed and combined tr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enance cycles will be selectively exte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ticket selling pos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station 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ion of gap remediation exte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-374760" y="1374840"/>
          <a:ext cx="5859720" cy="35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74760" y="1374840"/>
                    <a:ext cx="5859720" cy="35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42F0-7C04-4227-84F5-105059F9DBE9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etro North Railroad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Additional Actions for Budge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4240" y="1601640"/>
            <a:ext cx="44607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88 positions, $35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88 positions, $35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ing guidelines increased and trains shortened on East and West of Hudson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reased train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tion in car and station clea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ticket selling pos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CT restoration efforts slowed and maintenance of terminal redu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1039680"/>
          <a:ext cx="5859360" cy="35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39680"/>
                    <a:ext cx="5859360" cy="35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D463-90BB-483B-86D1-F62A288B280C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ridges &amp; Tunnel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dditional Agency Reduction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1025640"/>
          <a:ext cx="5850000" cy="35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25640"/>
                    <a:ext cx="5850000" cy="35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4613400" y="1611360"/>
            <a:ext cx="4313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28 positions, $17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28 positions, $24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imination of Cross Bay Bridge rebate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tion in number of cash lanes during low traffic perio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 assignments reprioritize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paper billing statements instead of bi-month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rease in dedicated resources for truck enforc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3F63-1E9A-481A-9D6F-1E94137C3FE0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TA Bu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Additional Actions for Budge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-461880" y="984240"/>
          <a:ext cx="6302160" cy="38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61880" y="984240"/>
                    <a:ext cx="630216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4587840" y="1441440"/>
            <a:ext cx="4556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249 positions, $17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249 positions, $24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lignment of peak period express bus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ontinuation of low ridership express and local rou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ress bus fare increase from $5 to $7.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3645-5AFA-492B-9CAB-6C6411C51D16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ng Island Bu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Reduction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-582480" y="709560"/>
          <a:ext cx="5840280" cy="35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82480" y="709560"/>
                    <a:ext cx="5840280" cy="35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4054320" y="1312920"/>
            <a:ext cx="508968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0360" indent="-1652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Actions for Budget Bal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21 positions, $5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21 positions, $6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ridership routes eliminated or redu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managerial workfo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employee health &amp; welfare    contributi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7760" y="3975120"/>
            <a:ext cx="8389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1880" y="4078440"/>
            <a:ext cx="8166240" cy="22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0360" indent="-1652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LI Bus Gap Closing Meas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local bus farebox yield by 20% in addition to general across-the-board incr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Paratransit fare to double the regular f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the alternative fuel excise tax credit extends beyond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1E88-837E-4E46-A611-123AF5ACAC60}" type="slidenum">
              <a:t>14</a:t>
            </a:fld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4880" y="55440"/>
            <a:ext cx="8794440" cy="13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posed Fare &amp; Toll Yield Increase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23% Beginning June 1, 2009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81000" y="1241280"/>
          <a:ext cx="898524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000" y="1241280"/>
                    <a:ext cx="898524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2600280" y="1676520"/>
            <a:ext cx="75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$6,1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91440" y="1422360"/>
            <a:ext cx="75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$6,66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ACD2-FD34-4DFD-BECF-D15292E74CBD}" type="slidenum">
              <a:t>15</a:t>
            </a:fld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4880" y="55440"/>
            <a:ext cx="8794440" cy="13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YCT Fare Operating Rati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6600" y="774720"/>
          <a:ext cx="898524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00" y="774720"/>
                    <a:ext cx="898524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200240" y="536256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62600" y="5353200"/>
            <a:ext cx="36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fter Gap Closing 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cl: PEGs, Additional Actions, Fare Increa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5896080"/>
            <a:ext cx="8505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box Operating Ratio excludes depreciation, OPEB and Environmental Remediation adjustments, and interest on long-term debt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1465-D637-440B-995F-1B1D4F93D399}" type="slidenum">
              <a:t>16</a:t>
            </a:fld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4880" y="55440"/>
            <a:ext cx="8794440" cy="13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muter Rail Fare Operating Rati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6600" y="774720"/>
          <a:ext cx="898524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00" y="774720"/>
                    <a:ext cx="898524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905040" y="536256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10280" y="5353200"/>
            <a:ext cx="36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fter Gap Closing 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cl: PEGs, Additional Actions, Fare Increa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5896080"/>
            <a:ext cx="8505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box Operating Ratio excludes depreciation, OPEB and Environmental Remediation adjustments, and interest on long-term debt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59BA-883F-45AD-8FBD-DEF7E3BC6721}" type="slidenum">
              <a:t>17</a:t>
            </a:fld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Rectangle 3"/>
          <p:cNvGraphicFramePr/>
          <p:nvPr/>
        </p:nvGraphicFramePr>
        <p:xfrm>
          <a:off x="0" y="1252440"/>
          <a:ext cx="8804160" cy="465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52440"/>
                    <a:ext cx="8804160" cy="46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eficit after Gap Closing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1F7A-C515-45FA-ABEB-15A044A23850}" type="slidenum">
              <a:t>18</a:t>
            </a:fld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9800" y="1285920"/>
            <a:ext cx="82504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A Board Authorization for public hea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ainder of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from board members, elected officials, &amp; public on Final Proposed 2009 bud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 of Ravitch Commission repor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 Budget Ad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hearings for June 1, 2009 tariff and service chan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cess Going 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D7AE-AA45-4607-91CD-774B4E4F19D0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osing Cash Balance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Rectangle 3"/>
          <p:cNvGraphicFramePr/>
          <p:nvPr/>
        </p:nvGraphicFramePr>
        <p:xfrm>
          <a:off x="88920" y="1425600"/>
          <a:ext cx="8791560" cy="46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425600"/>
                    <a:ext cx="8791560" cy="46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FD18-BF53-4BFC-AA37-1BD588624FA6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770040" y="1219320"/>
          <a:ext cx="7677000" cy="48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1219320"/>
                    <a:ext cx="7677000" cy="48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0960" y="228240"/>
            <a:ext cx="732780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at got better? What got worse?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BA4B-F3AF-41BA-9B49-BFEC755A3366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041480" y="201600"/>
            <a:ext cx="7327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eficit Prior to Gap Closing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($ in mill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30320" y="1306440"/>
          <a:ext cx="8665920" cy="420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" y="1306440"/>
                    <a:ext cx="866592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8C80-81BE-440D-A7D0-4BF17B0F2C45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041480" y="201600"/>
            <a:ext cx="7327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ap Closing Actions 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($ in mill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8680" y="1349280"/>
          <a:ext cx="8823240" cy="357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80" y="1349280"/>
                    <a:ext cx="8823240" cy="35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2A0E-BD49-41F1-A9F6-2688EBFFB041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0720" y="948960"/>
            <a:ext cx="824544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ernal Ac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9 &amp; Post-2009 Agency-wide Red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Contracts Labor Con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Service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TA Re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e Subsidy LI 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iminate E-ZPass Forg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ternal Ac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deral Legisla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 Legislative Actions (Tax Statute Revis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1222200" y="228600"/>
            <a:ext cx="69469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uly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FA18-337F-4F4A-9B42-BC997D015F2C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62080" y="241200"/>
            <a:ext cx="86230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TA-Wid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sitions* by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2200" y="5896080"/>
            <a:ext cx="850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Non-reimbursable and Reimbursable positions. Includes vacancie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5800" y="1063800"/>
          <a:ext cx="7772400" cy="480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3800"/>
                    <a:ext cx="7772400" cy="48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FAB7-5466-4DB2-91AA-016D6166E905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0">
              <a:spcBef>
                <a:spcPts val="9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nagerial Cuts and Other Actions for Budget Balan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2320" y="701640"/>
            <a:ext cx="8186760" cy="66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5120" indent="-349200">
              <a:lnSpc>
                <a:spcPct val="100000"/>
              </a:lnSpc>
              <a:spcBef>
                <a:spcPts val="901"/>
              </a:spcBef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349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imize administrative overhead red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5600" indent="-36180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rial reductions greater than 5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349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sure safety, security, and re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349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fill fundamental mission of getting people where they need to g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349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00F8-36A3-467A-AF34-B65283B7332A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w York City Transit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dditional Actions for Budge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2320" y="1136520"/>
            <a:ext cx="818676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2680" indent="-112680">
              <a:lnSpc>
                <a:spcPct val="100000"/>
              </a:lnSpc>
              <a:spcBef>
                <a:spcPts val="901"/>
              </a:spcBef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51200" y="1592280"/>
            <a:ext cx="4178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2,269 positions, $155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2,279 positions, $280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way Service reductions: route alterations, loading guideline changes, station booth closings and other station agent redu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 Service reduc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uctions in low ridership and duplicate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in express bus fare from $5 to $7.5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transit reductions: increase in fare and revised customer cancellation and no-show poli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Rectangle 3"/>
          <p:cNvGraphicFramePr/>
          <p:nvPr/>
        </p:nvGraphicFramePr>
        <p:xfrm>
          <a:off x="-291960" y="1255680"/>
          <a:ext cx="5822640" cy="35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91960" y="1255680"/>
                    <a:ext cx="5822640" cy="35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68D3-3400-4580-8CE5-BF242B056A71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8-11-20T16:24:36Z</dcterms:modified>
  <cp:revision>727</cp:revision>
  <dc:subject/>
  <dc:title>Preliminary 2005 Budget and Financial Plan</dc:title>
</cp:coreProperties>
</file>