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A1D7B9-594E-49A5-A715-AACAB5E14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0620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10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620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13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E24F-B964-48C1-816C-EB131B42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D9B1-172D-47BE-9AA0-8C058C04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588-19DB-4B56-9781-C6D28972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9151-80E9-4585-881D-AEFAE4D9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7CCD-1641-42D6-87C2-F939CB87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24BD-7F80-4814-893C-54AAA388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7596-5D29-40D3-B1C7-2E3A0EE0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1AE-E7B5-4C2A-B08B-2C5569FA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1A12-F920-43CB-813C-01DEA456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949-7EAD-44D1-96D4-F5E7705E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4F6-2DF3-4682-AA0E-EFA0EC89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DA01-F287-416B-8B28-4E6247A8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FEE7-147F-43F8-967A-CD00F9553B29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10,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9840" y="2540160"/>
            <a:ext cx="426708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61920" y="633240"/>
            <a:ext cx="719136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Spe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Finance Committ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ee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4760" y="3894120"/>
            <a:ext cx="388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77760" y="5637240"/>
            <a:ext cx="7191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vember 10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B1C4-22FD-4719-974C-FD8E3687B869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63640" y="1625760"/>
          <a:ext cx="7175520" cy="28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625760"/>
                    <a:ext cx="717552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 and Solu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BF4-9984-496C-9566-3589C00E6118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600" y="80640"/>
            <a:ext cx="8001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urrent Economic Condi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9920" y="774720"/>
          <a:ext cx="430848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7747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59480" y="774720"/>
          <a:ext cx="4308480" cy="24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9480" y="7747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63440" y="3451320"/>
          <a:ext cx="4308480" cy="24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3440" y="34513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668840" y="3451320"/>
          <a:ext cx="4308480" cy="24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68840" y="34513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AB27-18EA-4501-AA55-7786AF65A074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81000"/>
            <a:ext cx="80294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orecast of Economic Conditions</a:t>
            </a:r>
            <a:br>
              <a:rPr sz="28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U.S. Gross Domestic Product, in Real Dollars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9960" y="1003320"/>
          <a:ext cx="8326440" cy="48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003320"/>
                    <a:ext cx="8326440" cy="4834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176800" y="4511520"/>
            <a:ext cx="1776600" cy="703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09, the October Forecast is 3.2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13640" y="2712960"/>
            <a:ext cx="1817640" cy="550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10, the October Forecast is 3.6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9440" y="5834160"/>
            <a:ext cx="546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GDP in 2000 Doll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 Global Insight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00160" y="3344760"/>
            <a:ext cx="1814400" cy="550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08, the October Forecast is 0.8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993F-7825-4F67-BD30-895052A08035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YS Taxes: Corporate Surcharge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ounts for almost 50% of MMTOA</a:t>
            </a:r>
            <a:br>
              <a:rPr sz="24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19040" y="1081080"/>
          <a:ext cx="843300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081080"/>
                    <a:ext cx="8433000" cy="4889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42960" y="3849840"/>
          <a:ext cx="3591000" cy="1130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3849840"/>
                    <a:ext cx="3591000" cy="113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4A8-A48F-4735-A137-9691F010C04E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es</a:t>
            </a:r>
            <a:br>
              <a:rPr sz="2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5760" y="1077840"/>
            <a:ext cx="8204040" cy="4759200"/>
            <a:chOff x="455760" y="1077840"/>
            <a:chExt cx="8204040" cy="4759200"/>
          </a:xfrm>
        </p:grpSpPr>
        <p:graphicFrame>
          <p:nvGraphicFramePr>
            <p:cNvPr id="84" name=""/>
            <p:cNvGraphicFramePr/>
            <p:nvPr/>
          </p:nvGraphicFramePr>
          <p:xfrm>
            <a:off x="455760" y="1077840"/>
            <a:ext cx="8204040" cy="475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5760" y="1077840"/>
                      <a:ext cx="8204040" cy="47592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157560" y="51591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16240" y="5155920"/>
              <a:ext cx="47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94360" y="514800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81320" y="51591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9720" y="5168880"/>
              <a:ext cx="47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18480" y="51609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62160" y="555300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57560" y="555300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8040" y="555624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24120" y="5540400"/>
              <a:ext cx="47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84600" y="5533920"/>
              <a:ext cx="47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43640" y="5546520"/>
              <a:ext cx="47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645240" y="1346040"/>
            <a:ext cx="0" cy="38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76840" y="1338120"/>
            <a:ext cx="0" cy="385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1346040"/>
            <a:ext cx="0" cy="385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9000" y="1346040"/>
            <a:ext cx="0" cy="38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A93C-DFC8-4152-8EF9-EE1CBF891F4A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863640" y="1447920"/>
          <a:ext cx="71881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447920"/>
                    <a:ext cx="7188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at got better? What got worse?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1E2D-B1FA-473D-9B86-321503205D08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ovember Solu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69800" y="1590840"/>
            <a:ext cx="825048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dditional 1% Fare/Toll Yield Increase - $29M (6/09 Start) ; $50M ann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gency 1% Reductions - $44M (7/09) ; $87M ann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A68-CD74-49DB-B3CF-6C43F3FF8A81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1920" y="80640"/>
            <a:ext cx="77374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December Opportuniti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9800" y="1590840"/>
            <a:ext cx="82504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avitch Commission report released on December 5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e Executive Budget released on December 16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TA Board Budget Adoption in Dece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2A4-2BD3-41C0-A877-EFC9F72BBD11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MTA</dc:creator>
  <dc:description/>
  <dc:language>en-US</dc:language>
  <cp:lastModifiedBy>David E. Keller</cp:lastModifiedBy>
  <cp:lastPrinted>2004-07-16T15:55:26Z</cp:lastPrinted>
  <dcterms:modified xsi:type="dcterms:W3CDTF">2008-11-07T22:23:41Z</dcterms:modified>
  <cp:revision>1209</cp:revision>
  <dc:subject/>
  <dc:title>Preliminary 2005 Budget and Financial Plan</dc:title>
</cp:coreProperties>
</file>