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9132-943A-41CE-9046-BE262B127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66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0024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3251-7989-44AB-A93D-B042F236A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87D1-3C73-4BAA-9EDD-052653675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4096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F3BB-2125-4979-9D19-E687E9690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5463-1DF8-4E36-B050-712FCF26B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39996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B127-EBD2-4765-B10A-0010F70F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DE4E-A07B-40D7-B416-03B001F65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22860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764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33" name="Line 3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8D95-0D4F-41A9-A967-C55D7619C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3430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F16-689A-4B58-8487-0BAE3AD8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B61-56D4-4D65-B53A-4DF766A0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18D-25BB-4DAF-90FF-35E7C793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258-284D-4D86-90A7-DD60AE41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AA8-AA24-4DC4-A111-AC9BE9D7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31D-1195-4FB9-AF06-966A26E7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AF7-BA45-4F91-840E-95538451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CA0-CA2B-48B0-A108-A79EFC13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E35-141C-46C7-BA6B-8A132637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A7A-09D9-4083-A60D-E9741D77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6AF-E702-4C5F-BC80-A9573B5F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5CA-710C-43EC-9872-B293EE6F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FA60-B666-424B-971E-56FB16ED61C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0B85E25-52C8-4D75-BE31-70D822089EEB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: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6472080" y="6245280"/>
            <a:ext cx="24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60960" y="646272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CA92-F256-45D4-A48A-F2FCAB6915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37CD-2E59-44F3-A64B-5647391DA3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BB52471-F9C1-4486-8DC4-B0826AEC4F61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: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910640" y="646272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793D-038C-4006-9227-DFA2A68EC0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91000" y="63547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1"/>
          <a:stretch/>
        </p:blipFill>
        <p:spPr>
          <a:xfrm>
            <a:off x="317520" y="62866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252360" y="5511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20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9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9-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4840" y="2251080"/>
            <a:ext cx="457056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383-CDF4-4B29-B8D2-AA9A1BDB9C2E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Rail 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7840" y="1574640"/>
            <a:ext cx="4368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173 positions, $3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327 positions, $5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reduced on weekends and off-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ed and combined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cycles will be selectively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station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gap remediation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74760" y="1374840"/>
          <a:ext cx="5859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4760" y="1374840"/>
                    <a:ext cx="5859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BEE-EC12-431A-8ECC-846F62B1D1A6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tro North Rail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240" y="1601640"/>
            <a:ext cx="446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ing guidelines increased and trains shortened on East and West of Huds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 tra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car and station cl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CT restoration efforts slowed and maintenance of terminal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39680"/>
          <a:ext cx="5859360" cy="35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9680"/>
                    <a:ext cx="585936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4C2-7B1D-480B-A917-A8EB6CC630AA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idges &amp; Tunn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gency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25640"/>
          <a:ext cx="585000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5640"/>
                    <a:ext cx="58500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13400" y="1611360"/>
            <a:ext cx="4313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8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8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 of Cross Bay Bridge rebat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number of cash lanes during low traffic peri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assignments reprioritiz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paper billing statements instead of bi-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dedicated resources for truck enfor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5EB-CB52-4347-BCAB-625ED0FAE601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1880" y="984240"/>
          <a:ext cx="630216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984240"/>
                    <a:ext cx="63021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87840" y="1441440"/>
            <a:ext cx="4556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49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49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gnment of peak period express bu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ntinuation of low ridership express and local ro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bus fare increase from $5 to $7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0A5-58F9-4177-9DFD-CDF269199580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582480" y="709560"/>
          <a:ext cx="584028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82480" y="709560"/>
                    <a:ext cx="584028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054320" y="1312920"/>
            <a:ext cx="50896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Actions for Budget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1 positions, $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1 positions, $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ridership routes eliminated or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managerial work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mployee health &amp; welfare    contribu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3975120"/>
            <a:ext cx="83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078440"/>
            <a:ext cx="816624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LI Bus Gap Closing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local bus farebox yield by 20% in addition to general across-the-board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aratransit fare to double the regular f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alternative fuel excise tax credit extends beyond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79F-5039-4AEC-A787-6A496F086B75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posed Fare &amp; Toll Yield Increa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3% Beginning June 1, 2009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1000" y="124128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24128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00280" y="167652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1440" y="14223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6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B87-8F52-4A19-BD67-FF6A22338AA3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CT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002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6260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F75-E762-4B21-BA4F-D3A8E37D9FE7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uter Rail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050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028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218-D2E8-4D9A-A2BA-CE8D4F02C57F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Rectangle 3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after Gap Clo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B0A-7722-4E45-9006-15EFA1057FFA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800" y="128592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Board Authorization for public h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of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board members, elected officials, &amp; public on Final Proposed 2009 bu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avitch Commission repo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Budget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hearings for June 1, 2009 tariff and service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 Go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FEB-4080-4892-81C0-4EEF37F5B9C9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sing Cash Balance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DAA-7776-4FED-A1E7-79B8D2C3088C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0040" y="1219320"/>
          <a:ext cx="76770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19320"/>
                    <a:ext cx="76770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0960" y="228240"/>
            <a:ext cx="7327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4FA-A1E7-447E-9BF8-3EACCB637C80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Prior to Gap Closing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0320" y="1306440"/>
          <a:ext cx="8665920" cy="42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306440"/>
                    <a:ext cx="866592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89D-79D9-4389-B573-96027729A032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p Closing Actions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8680" y="1349280"/>
          <a:ext cx="8823240" cy="35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349280"/>
                    <a:ext cx="88232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6E6-D014-4CAE-9D83-F03B5C8860E0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0720" y="948960"/>
            <a:ext cx="8245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&amp; Post-2009 Agency-wide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tracts Labor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erv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A Re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Subsidy LI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-ZPass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Legisla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Legislative Actions (Tax Statute Rev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22200" y="228600"/>
            <a:ext cx="6946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FB8-871D-45ED-8EFF-D02AEDE1F635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2080" y="241200"/>
            <a:ext cx="86230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-Wi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itions* b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2200" y="5896080"/>
            <a:ext cx="85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n-reimbursable and Reimbursable positions. Includes vacanc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063800"/>
          <a:ext cx="77724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3800"/>
                    <a:ext cx="77724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7F8-EEEA-4F8C-B080-C59967EA0C1A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rial Cuts and Other Actions for Budget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701640"/>
            <a:ext cx="818676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34920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administrative overhead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5600" indent="-3618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reductions greater than 5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afety, security,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 fundamental mission of getting people where they need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01E-ED85-41FF-9475-85A8F945E9CE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York City Transi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136520"/>
            <a:ext cx="81867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1200" y="1592280"/>
            <a:ext cx="417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,269 positions, $15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,279 positions, $28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way Service reductions: route alterations, loading guideline changes, station booth closings and other station agent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Service redu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tions in low ridership and duplicat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in express bus fare from $5 to $7.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transit reductions: increase in fare and revised customer cancellation and no-show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-291960" y="1255680"/>
          <a:ext cx="5822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1960" y="1255680"/>
                    <a:ext cx="5822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1EB-9555-45E1-BD49-C4A8FEB292CC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11-20T16:24:36Z</dcterms:modified>
  <cp:revision>727</cp:revision>
  <dc:subject/>
  <dc:title>Preliminary 2005 Budget and Financial Plan</dc:title>
</cp:coreProperties>
</file>