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47760" y="708120"/>
            <a:ext cx="4829040" cy="362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74880" y="4563720"/>
            <a:ext cx="5365440" cy="4329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550CF7F-3287-4CE2-BA48-C30806C1C6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5DA0793-8609-4EC0-ADD2-69C75CF749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A0635CE-C00F-431E-828B-CCBB88EDF2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1041-1A35-4A47-A48E-6187504C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AD42-1E0B-4B64-B4E6-F239F7DA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28B1-A523-458C-8A27-F7092785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E645-9F03-4ECE-9715-6FB825D9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1C36-1352-4FBC-BD82-74F2EE50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8F9E-6E53-4BCC-AC27-E0341A72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9D7D-79A2-4FC3-9EFC-F055C804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BECD-4969-49DD-87A5-12AB1BBB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3958-7CA2-456A-9741-6D1BDE0D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A212-5913-4E47-BC0C-39E30D53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1A93-4BDF-486A-BD3F-72F6DF87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876D-8C4D-444B-AC3B-42841896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D37B-FD64-46BD-A28C-FB5A406DB29F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6560" y="628956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July 2009 Financial Plan 2010-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61920" y="633240"/>
            <a:ext cx="719136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2010 Preliminary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uly Financial Plan 2010 –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73920" y="6300720"/>
            <a:ext cx="1925640" cy="39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63880" y="2635200"/>
            <a:ext cx="3198960" cy="22924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4B83-981E-468E-8CE9-D60822EF235D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5240" y="81000"/>
            <a:ext cx="8797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TA Consolidated Ridership</a:t>
            </a:r>
            <a:br>
              <a:rPr sz="32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46160" y="1523880"/>
          <a:ext cx="30942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616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003640" y="1523880"/>
          <a:ext cx="3094200" cy="22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044720" y="3886200"/>
          <a:ext cx="309564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4720" y="3886200"/>
                    <a:ext cx="30956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80960" y="955800"/>
          <a:ext cx="7970760" cy="527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960" y="955800"/>
                    <a:ext cx="7970760" cy="52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27A5-E572-4DB9-B392-FBB2D78BD6E5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28600" y="993600"/>
          <a:ext cx="8667720" cy="46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3600"/>
                    <a:ext cx="8667720" cy="46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Februar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706D-6153-44F0-A338-CEC936E2D808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2009/10 Expenditure Control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85840" y="1373040"/>
          <a:ext cx="8636040" cy="35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373040"/>
                    <a:ext cx="863604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1447-A5A5-4197-AA6B-E8598BDE7423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0" y="660240"/>
          <a:ext cx="890280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0240"/>
                    <a:ext cx="890280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542880" y="81000"/>
            <a:ext cx="803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Year-to-Year Changes in Expen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4400" y="5005440"/>
            <a:ext cx="782316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Un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ratransit Service Contracts, Fuel for Buses &amp; Trains, Traction &amp; Propulsion Power, OPEB Current Payment, Health &amp; Welfare, Pensions, and Insuran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yroll, Overtime, Claims, Other-Fringe Benefits, Reimbursable Overhead, Maintenance &amp; Other Operating Contracts, Professional Service Contracts, and Materials &amp; Supplies, Other Business Expenses, Other Expense Adjustments, and Gap Closing Actio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otal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s the impact of the Gap Closing Actions  but excludes Debt Service and the General Reserv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7179-9215-4C3D-93B7-D51242B34942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9840" y="80640"/>
            <a:ext cx="77295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Plan Ris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723960" y="979560"/>
            <a:ext cx="766440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gional economy does not rebound as anticipated; double-dip rec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nergy price volat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bor arbitration ruling inconsistent with Financial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venues from new State taxes and fees do not meet financial plan assum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56BF-D1AD-410B-A3DA-50744C8673CC}" type="slidenum">
              <a:t>14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520" y="83880"/>
            <a:ext cx="78073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ebruary Financial Plan</a:t>
            </a:r>
            <a:br>
              <a:rPr sz="24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71360" y="1409760"/>
          <a:ext cx="8756640" cy="46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409760"/>
                    <a:ext cx="875664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222200" y="4006800"/>
          <a:ext cx="3552840" cy="124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006800"/>
                    <a:ext cx="3552840" cy="12430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792E-36EF-479E-83AF-2FFA0FC0885F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Assistance for MTA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895320"/>
            <a:ext cx="798984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nacted State legislation provides MTA with $1.1 billion in 2009 and $1.9 billion in 2010 from the following sources: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TA Board actions: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hanged the scheduled fare/toll yield increase of 23% to 10%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estored planned reductions of scheduled service to the public 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30160" y="1654200"/>
          <a:ext cx="9328320" cy="30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1654200"/>
                    <a:ext cx="932832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0B5D-F1B5-45CE-AA2D-5F471FE5338E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verview of the July Financial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0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cognizes new revenue sourc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owers forecasted revenues from real estate taxes, state dedicated taxes, and utiliz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locates higher funding for additional pension expens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aintains service level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vides funds for new Capital Pla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EF29-1DAE-44C6-A74E-A0498995C543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34800" y="1216080"/>
          <a:ext cx="7880400" cy="566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1216080"/>
                    <a:ext cx="7880400" cy="56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mpact of the Worsening Economy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Plan-to-Plan Changes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BCDC-9014-4EF5-B964-5865A188421A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ensions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lan-to-Plan Chang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he February Plan included a provision for losses in the assets of the MTA Defined Benefit Plans and MABSTOA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he July Baseline includes additional expenses to account for higher NYCERS costs based on a revised actuarial valuation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In addition, this plan establishes a reserve for expected increases in NYCERS contributions ($27 million in 2010 growing to $189 million in 2013). Those losses are expected in the NYCERS valuation for the City fiscal year 2009 with cash impacts beginning in late 2010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70FF-4052-4384-B228-9FBE2E55B7E7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81000"/>
            <a:ext cx="89787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onthly Total Real Estate Taxes</a:t>
            </a:r>
            <a:br>
              <a:rPr sz="28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007 to 2009 Actuals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8640" y="965160"/>
          <a:ext cx="8080560" cy="521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65160"/>
                    <a:ext cx="8080560" cy="52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6696-7424-483C-9845-6C4450569E06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920" y="80640"/>
            <a:ext cx="88534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 Receipt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clines Have Exceeded Previous Worst Case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30200" y="1287360"/>
          <a:ext cx="6608880" cy="42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1287360"/>
                    <a:ext cx="660888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131840" y="1576440"/>
            <a:ext cx="81000" cy="9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07920" y="1201680"/>
            <a:ext cx="60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ly 2009 Financial Plan vs. February 2009 Financial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74680" y="1515960"/>
            <a:ext cx="545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decreases from the February Financial Plan to the July Financial Pla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189160" y="1775880"/>
            <a:ext cx="3828240" cy="2122560"/>
            <a:chOff x="2189160" y="1775880"/>
            <a:chExt cx="3828240" cy="2122560"/>
          </a:xfrm>
        </p:grpSpPr>
        <p:sp>
          <p:nvSpPr>
            <p:cNvPr id="82" name=""/>
            <p:cNvSpPr/>
            <p:nvPr/>
          </p:nvSpPr>
          <p:spPr>
            <a:xfrm>
              <a:off x="2189160" y="1777320"/>
              <a:ext cx="1913040" cy="212112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104360" y="1775520"/>
              <a:ext cx="1913040" cy="212076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7188120" y="2413080"/>
          <a:ext cx="1587600" cy="2498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88120" y="2413080"/>
                    <a:ext cx="1587600" cy="2498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906480" y="5673600"/>
            <a:ext cx="73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ue curve represents adjusted real estate transactions taxes from 1983 through 199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6BCC-9C51-4EFA-A87E-AA9CD8CF5C6A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5240" y="81000"/>
            <a:ext cx="8797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ew York City Employment Change</a:t>
            </a:r>
            <a:br>
              <a:rPr sz="32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ear-over-Year Change in Employment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46160" y="1523880"/>
          <a:ext cx="30942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616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003640" y="1523880"/>
          <a:ext cx="3094200" cy="22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044720" y="3886200"/>
          <a:ext cx="309564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4720" y="3886200"/>
                    <a:ext cx="30956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71600" y="955800"/>
          <a:ext cx="7991280" cy="527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00" y="955800"/>
                    <a:ext cx="7991280" cy="52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B1CD-2328-4099-8226-889D6F45F67B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MTA</cp:lastModifiedBy>
  <cp:lastPrinted>2004-07-16T15:55:26Z</cp:lastPrinted>
  <dcterms:modified xsi:type="dcterms:W3CDTF">2009-07-29T12:43:42Z</dcterms:modified>
  <cp:revision>1247</cp:revision>
  <dc:subject/>
  <dc:title>Preliminary 2005 Budget and Financial Plan</dc:title>
</cp:coreProperties>
</file>