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09692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CE1A2FB-0015-464A-8584-D7652E3D5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B47460B-6B66-4A15-BECC-F3F2AC822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096920" y="64764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1D1B-B9CA-4C0D-AB13-5CAD8CB89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4640-FB2B-4093-97AB-A77C4A29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E7C6-BDAB-4D2C-9EBE-8D220A7CF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7F55-7F0A-4BD5-AA74-612BE3168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369E-D60F-49BF-A2C0-7166388C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D945-817D-4335-83EB-E52B8097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A534-F1C4-4DB4-A96B-2E4327CA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E6CB-3919-4460-B7F0-B7D251FC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61600" y="81000"/>
            <a:ext cx="80010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86BD-41B8-4AAA-93B5-ACCD70E1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9AF1-BF31-4489-B2F5-825A4A56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27BE-DF05-44B8-8094-D40C6E3B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E6B8-F1C3-4510-957A-C442999D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80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300720"/>
            <a:ext cx="8686800" cy="405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565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388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FEEF-5E57-4491-9E02-E572EFE8C383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27880" y="6289560"/>
            <a:ext cx="246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November 2009 Financial Plan 2010-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33240"/>
            <a:ext cx="86583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MTA 20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Final Proposed Budg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November Financial Plan 2010 –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12040" y="6300720"/>
            <a:ext cx="2387520" cy="39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63880" y="2635200"/>
            <a:ext cx="3198960" cy="22924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227160" y="5210280"/>
            <a:ext cx="86580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November 18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0EE9-FE10-473F-A66C-D340BC870799}" type="slidenum">
              <a:t>1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4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20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8920" y="1425600"/>
          <a:ext cx="8791560" cy="46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425600"/>
                    <a:ext cx="8791560" cy="46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746C-6096-4846-9F26-BD61588D956A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61600" y="80640"/>
            <a:ext cx="80010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Plan Highlight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Maintained in November Pla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6120" y="1444680"/>
            <a:ext cx="8013600" cy="41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009 budget balanced after Mid-Year action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unfunded New Need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rict spending controls and continuation of PEG budget reduction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i-annual fare &amp; toll yield increases of 7.5% in 2011 and 2013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scheduled service reduction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ay-As-You-Go contribution to the Capital Program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C7A3-7374-4233-8266-E4AE92D4C266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hanges from the July Pla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6720" y="1098720"/>
            <a:ext cx="77724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ceipts for Real Estate Transaction Taxes have declined further than anticipated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arebox and Toll Revenues not as weak as projected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4F97-6202-42A5-9110-C2497DD74D7F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4528-E091-4692-A2AD-DFB99F9F9E5D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2"/>
          <p:cNvGraphicFramePr/>
          <p:nvPr/>
        </p:nvGraphicFramePr>
        <p:xfrm>
          <a:off x="685800" y="1225440"/>
          <a:ext cx="7724880" cy="354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25440"/>
                    <a:ext cx="772488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81000"/>
            <a:ext cx="8685000" cy="10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hanges from the 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CD8A-13E9-4A08-BE95-449DB33683C4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041480" y="201600"/>
            <a:ext cx="7327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ap Closing Actions </a:t>
            </a:r>
            <a:br>
              <a:rPr sz="24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($ in mill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7720" y="955800"/>
          <a:ext cx="8126640" cy="512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955800"/>
                    <a:ext cx="8126640" cy="51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D73A-9110-4822-90DD-57E026B80F05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0" y="666720"/>
          <a:ext cx="885816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6720"/>
                    <a:ext cx="885816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542880" y="81000"/>
            <a:ext cx="803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Year-to-Year Changes in Expens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4400" y="5005440"/>
            <a:ext cx="782316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Uncontrollable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 Paratransit Service Contracts, Fuel for Buses &amp; Trains, Traction &amp; Propulsion Power, OPEB Current Payment, Health &amp; Welfare, Pensions, and Insuranc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Controllable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 Payroll, Overtime, Claims, Other-Fringe Benefits, Reimbursable Overhead, Maintenance &amp; Other Operating Contracts, Professional Service Contracts, and Materials &amp; Supplies, Other Business Expenses, Other Expense Adjustments, and Gap Closing Action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Total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s the impact of the Gap Closing Actions  but excludes Debt Service and the General Reserv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50B9-2A50-44AF-A4E5-B156327CF204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0" y="1252440"/>
          <a:ext cx="8804160" cy="465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52440"/>
                    <a:ext cx="8804160" cy="46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November Financial Plan</a:t>
            </a:r>
            <a:br>
              <a:rPr sz="24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losing Cash Balance after Gap Closing</a:t>
            </a:r>
            <a:br>
              <a:rPr sz="20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EF1E-4C56-490F-9155-CDA90B54DF57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99840" y="80640"/>
            <a:ext cx="772956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inancial Plan Risk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9" name=""/>
          <p:cNvSpPr/>
          <p:nvPr/>
        </p:nvSpPr>
        <p:spPr>
          <a:xfrm>
            <a:off x="723960" y="979560"/>
            <a:ext cx="766440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gional economy does not rebound as anticipated; additional State subsidy redu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abor arbitration ruling inconsistent with Financial Pl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venues from new State taxes and fees do not meet financial plan assump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FA8C-7DE8-4550-ACF7-B62F168AC5DC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9-11-17T21:23:06Z</dcterms:modified>
  <cp:revision>1284</cp:revision>
  <dc:subject/>
  <dc:title>Preliminary 2005 Budget and Financial Plan</dc:title>
</cp:coreProperties>
</file>