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096920" y="685440"/>
            <a:ext cx="467352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584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475A274-B4FC-461B-A706-10A5ACD821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5246F1E-A373-4245-BD16-D8EC962985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096920" y="64764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08C3-76BE-4148-BE7C-99D0797E2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49A0-3910-411C-BC12-7D48E0B77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03B9-598B-4EB2-BCA0-98616F20C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FE8A-824B-44D0-BE2F-7CFE3588E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930E-ADB5-42AF-8963-C19F6F096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558C-89EB-4965-A11B-08B908942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2478-51CC-412D-A76B-78F9A6889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1E9A-DB13-4354-AF16-2121C40AE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61600" y="81000"/>
            <a:ext cx="8001000" cy="67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AF28-EF0F-4DA4-99E6-2D230A9E7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A665-278E-4FE7-A875-D077E2790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2855-94FA-4870-8AA8-AB0864F0F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B0E4-CB3F-4EFF-A0E3-90CD9608C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80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6300720"/>
            <a:ext cx="8686800" cy="4050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9840" y="6356520"/>
            <a:ext cx="293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etropolitan Transportation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uth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80880" y="6338880"/>
            <a:ext cx="301680" cy="33336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015400" y="6496200"/>
            <a:ext cx="971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9B40F-496C-402F-B156-061E77A0EA81}" type="slidenum">
              <a:rPr b="1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527880" y="6289560"/>
            <a:ext cx="2462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November 2009 Financial Plan 2010-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17440" y="228600"/>
            <a:ext cx="8686800" cy="2286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633240"/>
            <a:ext cx="865836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 Black"/>
              </a:rPr>
              <a:t>MTA 20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 Black"/>
              </a:rPr>
              <a:t>Final Proposed Budg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November Financial Plan 2010 – 20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512040" y="6300720"/>
            <a:ext cx="2387520" cy="3970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963880" y="2635200"/>
            <a:ext cx="3198960" cy="229248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sp>
        <p:nvSpPr>
          <p:cNvPr id="56" name=""/>
          <p:cNvSpPr/>
          <p:nvPr/>
        </p:nvSpPr>
        <p:spPr>
          <a:xfrm>
            <a:off x="227160" y="5210280"/>
            <a:ext cx="865800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November 18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B2F2-5BA5-4DDD-BEF7-AD872B1155B7}" type="slidenum">
              <a:t>1</a:t>
            </a:fld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3"/>
          <p:cNvSpPr/>
          <p:nvPr/>
        </p:nvSpPr>
        <p:spPr>
          <a:xfrm>
            <a:off x="244440" y="241200"/>
            <a:ext cx="86234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July Financial Plan</a:t>
            </a:r>
            <a:br>
              <a:rPr sz="2400"/>
            </a:b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Closing Cash Balance</a:t>
            </a:r>
            <a:br>
              <a:rPr sz="2000"/>
            </a:b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88920" y="1425600"/>
          <a:ext cx="8791560" cy="465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920" y="1425600"/>
                    <a:ext cx="8791560" cy="46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E49A-5BC0-4D29-810D-C72042424B12}" type="slidenum">
              <a:t>2</a:t>
            </a:fld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61600" y="80640"/>
            <a:ext cx="8001000" cy="10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July Plan Highlights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Maintained in November Plan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6120" y="1444680"/>
            <a:ext cx="8013600" cy="415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2009 budget balanced after Mid-Year actions.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No unfunded New Needs.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trict spending controls and continuation of PEG budget reductions.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i-annual fare &amp; toll yield increases of 7.5% in 2011 and 2013.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No scheduled service reductions.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ay-As-You-Go contribution to the Capital Program.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ABC4-1040-4117-922C-807A7BD7A372}" type="slidenum">
              <a:t>3</a:t>
            </a:fld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hanges from the July Plan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66720" y="1098720"/>
            <a:ext cx="7772400" cy="23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eceipts for Real Estate Transaction Taxes have declined further than anticipated.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arebox and Toll Revenues not as weak as projected.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9B2B-0615-4C04-957F-380F87E416D9}" type="slidenum">
              <a:t>4</a:t>
            </a:fld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3"/>
          <p:cNvSpPr/>
          <p:nvPr/>
        </p:nvSpPr>
        <p:spPr>
          <a:xfrm>
            <a:off x="8015400" y="6496200"/>
            <a:ext cx="97128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B09FC-5574-499A-9687-0CEEA5FEB566}" type="slidenum">
              <a:rPr b="1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Object 2"/>
          <p:cNvGraphicFramePr/>
          <p:nvPr/>
        </p:nvGraphicFramePr>
        <p:xfrm>
          <a:off x="685800" y="1225440"/>
          <a:ext cx="7724880" cy="354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225440"/>
                    <a:ext cx="7724880" cy="35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81000"/>
            <a:ext cx="8685000" cy="10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hanges from the July Financial Plan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77D2-6631-4A24-B835-CDB0FAA19DC7}" type="slidenum">
              <a:t>5</a:t>
            </a:fld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041480" y="201600"/>
            <a:ext cx="73278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Gap Closing Actions </a:t>
            </a:r>
            <a:br>
              <a:rPr sz="2400"/>
            </a:b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($ in million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77720" y="955800"/>
          <a:ext cx="8126640" cy="5121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7720" y="955800"/>
                    <a:ext cx="8126640" cy="51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9ABD-1680-4A91-A4BE-CAD9F6F41556}" type="slidenum">
              <a:t>6</a:t>
            </a:fld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0" y="666720"/>
          <a:ext cx="8858160" cy="485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66720"/>
                    <a:ext cx="8858160" cy="48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542880" y="81000"/>
            <a:ext cx="80391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Year-to-Year Changes in Expens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4400" y="5005440"/>
            <a:ext cx="7823160" cy="11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Uncontrollable Operating Expense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nclude Paratransit Service Contracts, Fuel for Buses &amp; Trains, Traction &amp; Propulsion Power, OPEB Current Payment, Health &amp; Welfare, Pensions, and Insurance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Controllable Operating Expense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nclude Payroll, Overtime, Claims, Other-Fringe Benefits, Reimbursable Overhead, Maintenance &amp; Other Operating Contracts, Professional Service Contracts, and Materials &amp; Supplies, Other Business Expenses, Other Expense Adjustments, and Gap Closing Action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Total Operating Expense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ncludes the impact of the Gap Closing Actions  but excludes Debt Service and the General Reserve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EDC8-5125-445A-BF6C-502040CEA644}" type="slidenum">
              <a:t>7</a:t>
            </a:fld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0" y="1252440"/>
          <a:ext cx="8804160" cy="465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52440"/>
                    <a:ext cx="8804160" cy="465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Rectangle 3"/>
          <p:cNvSpPr/>
          <p:nvPr/>
        </p:nvSpPr>
        <p:spPr>
          <a:xfrm>
            <a:off x="244440" y="241200"/>
            <a:ext cx="86234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November Financial Plan</a:t>
            </a:r>
            <a:br>
              <a:rPr sz="2400"/>
            </a:b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Closing Cash Balance after Gap Closing</a:t>
            </a:r>
            <a:br>
              <a:rPr sz="2000"/>
            </a:b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45EF-5AF7-47DA-9A43-AAE938937F52}" type="slidenum">
              <a:t>8</a:t>
            </a:fld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99840" y="80640"/>
            <a:ext cx="772956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Financial Plan Risk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9" name=""/>
          <p:cNvSpPr/>
          <p:nvPr/>
        </p:nvSpPr>
        <p:spPr>
          <a:xfrm>
            <a:off x="723960" y="979560"/>
            <a:ext cx="7664400" cy="36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egional economy does not rebound as anticipated; additional State subsidy redu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abor arbitration ruling inconsistent with Financial Pl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evenues from new State taxes and fees do not meet financial plan assump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7CCC-DB20-4852-A2AF-2401D88A2D08}" type="slidenum">
              <a:t>9</a:t>
            </a:fld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8:18:55Z</dcterms:created>
  <dc:creator>David Keller</dc:creator>
  <dc:description/>
  <dc:language>en-US</dc:language>
  <cp:lastModifiedBy>David E. Keller</cp:lastModifiedBy>
  <cp:lastPrinted>2004-07-16T15:55:26Z</cp:lastPrinted>
  <dcterms:modified xsi:type="dcterms:W3CDTF">2009-11-17T21:23:06Z</dcterms:modified>
  <cp:revision>1284</cp:revision>
  <dc:subject/>
  <dc:title>Preliminary 2005 Budget and Financial Plan</dc:title>
</cp:coreProperties>
</file>