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247760" y="708120"/>
            <a:ext cx="4829040" cy="362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74880" y="4563720"/>
            <a:ext cx="5365440" cy="4329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12960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145040" y="912960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6CE8F3B-8A86-4645-B61A-27BB0C2C1F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145040" y="912960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C5AD7E7-0617-4CBE-BDB7-01278A42A0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14504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25892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145040" y="912960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84B6395-95E0-48CD-B113-529031A4ED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14504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25892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EC09-A1A6-46EA-BA72-E684FAF2A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4844-7357-43D9-9FE5-31B4BF979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98AC-420B-44DB-B856-DB91CAF11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469C-C23E-4C85-93ED-50DD664D2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DD63-920D-4E2E-A269-B7BC078C5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DE5E-9265-4FB4-BA06-11682A738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5B14-1516-449A-AC26-00F18EC15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6DBC-0E2C-435E-9084-1D4168CA6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61600" y="81000"/>
            <a:ext cx="800100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06A9-27EA-4E64-BF76-3AC165AC1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11BB-EDB5-4319-A3E9-6F2ECDEA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5F42-FFCC-4599-B3EE-63745BA9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6234-49D6-4079-8A03-E5951DBD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80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300720"/>
            <a:ext cx="8686800" cy="405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9840" y="635652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80880" y="6338880"/>
            <a:ext cx="301680" cy="33336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015400" y="6496200"/>
            <a:ext cx="971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AF488-EC3D-4181-8ADE-6627A8016D2C}" type="slidenum">
              <a:rPr b="1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6560" y="6289560"/>
            <a:ext cx="213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July 2009 Financial Plan 2010-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7440" y="228600"/>
            <a:ext cx="8686800" cy="228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61920" y="633240"/>
            <a:ext cx="7191360" cy="17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MTA 2010 Preliminary Budg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July Financial Plan 2010 – 20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973920" y="6300720"/>
            <a:ext cx="1925640" cy="3970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963880" y="2635200"/>
            <a:ext cx="3198960" cy="229248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9CEB-1985-40B2-8E1E-172A3D5981DB}" type="slidenum">
              <a:t>1</a:t>
            </a:fld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5240" y="81000"/>
            <a:ext cx="879768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MTA Consolidated Ridership</a:t>
            </a:r>
            <a:br>
              <a:rPr sz="32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046160" y="1523880"/>
          <a:ext cx="3094200" cy="220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6160" y="1523880"/>
                    <a:ext cx="3094200" cy="22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5003640" y="1523880"/>
          <a:ext cx="3094200" cy="220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1523880"/>
                    <a:ext cx="3094200" cy="22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1044720" y="3886200"/>
          <a:ext cx="3095640" cy="220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44720" y="3886200"/>
                    <a:ext cx="309564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480960" y="955800"/>
          <a:ext cx="7970760" cy="5275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0960" y="955800"/>
                    <a:ext cx="7970760" cy="52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3C3E-8E51-412A-8DAF-19298D4C3774}" type="slidenum">
              <a:t>10</a:t>
            </a:fld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228600" y="993600"/>
          <a:ext cx="8667720" cy="466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3600"/>
                    <a:ext cx="8667720" cy="46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8880" y="81000"/>
            <a:ext cx="868500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hanges from the Februar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5E97-78E0-495F-8B98-83B66132C028}" type="slidenum">
              <a:t>11</a:t>
            </a:fld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2009/10 Expenditure Control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85840" y="1373040"/>
          <a:ext cx="8636040" cy="3521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1373040"/>
                    <a:ext cx="8636040" cy="35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83EE-9C2A-408F-8FE7-A51773926AF3}" type="slidenum">
              <a:t>12</a:t>
            </a:fld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0" y="660240"/>
          <a:ext cx="8902800" cy="488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60240"/>
                    <a:ext cx="8902800" cy="48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542880" y="81000"/>
            <a:ext cx="80391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Year-to-Year Changes in Expens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4400" y="5005440"/>
            <a:ext cx="7823160" cy="11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Uncontrollable Operating Expense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clude Paratransit Service Contracts, Fuel for Buses &amp; Trains, Traction &amp; Propulsion Power, OPEB Current Payment, Health &amp; Welfare, Pensions, and Insuranc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Controllable Operating Expense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clude Payroll, Overtime, Claims, Other-Fringe Benefits, Reimbursable Overhead, Maintenance &amp; Other Operating Contracts, Professional Service Contracts, and Materials &amp; Supplies, Other Business Expenses, Other Expense Adjustments, and Gap Closing Action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Total Operating Expense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cludes the impact of the Gap Closing Actions  but excludes Debt Service and the General Reserv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0B1C-06C6-48C3-A387-E2B8439F13B1}" type="slidenum">
              <a:t>13</a:t>
            </a:fld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99840" y="80640"/>
            <a:ext cx="772956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inancial Plan Risk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6" name=""/>
          <p:cNvSpPr/>
          <p:nvPr/>
        </p:nvSpPr>
        <p:spPr>
          <a:xfrm>
            <a:off x="723960" y="979560"/>
            <a:ext cx="7664400" cy="36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gional economy does not rebound as anticipated; double-dip rec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nergy price volat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abor arbitration ruling inconsistent with Financial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venues from new State taxes and fees do not meet financial plan assum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FCEC-06B4-4D48-A2DB-C0F6E93C6C78}" type="slidenum">
              <a:t>14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0520" y="83880"/>
            <a:ext cx="78073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ebruary Financial Plan</a:t>
            </a:r>
            <a:br>
              <a:rPr sz="24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losing Cash Balance</a:t>
            </a:r>
            <a:br>
              <a:rPr sz="18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71360" y="1409760"/>
          <a:ext cx="8756640" cy="463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1409760"/>
                    <a:ext cx="875664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1222200" y="4006800"/>
          <a:ext cx="3552840" cy="1243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22200" y="4006800"/>
                    <a:ext cx="3552840" cy="12430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7BE2-9285-4CF9-B138-16473E8C70A9}" type="slidenum">
              <a:t>2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inancial Assistance for MTA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895320"/>
            <a:ext cx="7989840" cy="52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nacted State legislation provides MTA with $1.1 billion in 2009 and $1.9 billion in 2010 from the following sources: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MTA Board actions: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6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Changed the scheduled fare/toll yield increase of 23% to 10%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6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Restored planned reductions of scheduled service to the public 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830160" y="1654200"/>
          <a:ext cx="9328320" cy="303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0160" y="1654200"/>
                    <a:ext cx="9328320" cy="30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099E-B972-4B68-87D2-75043B159E35}" type="slidenum">
              <a:t>3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Overview of the July Financial Pla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20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cognizes new revenue source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owers forecasted revenues from real estate taxes, state dedicated taxes, and utilization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llocates higher funding for additional pension expense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aintains service level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rovides funds for new Capital Plan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1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F0C2-1139-419F-AEA8-E19959BAE795}" type="slidenum">
              <a:t>4</a:t>
            </a:fld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34800" y="1216080"/>
          <a:ext cx="7880400" cy="5668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" y="1216080"/>
                    <a:ext cx="7880400" cy="566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81000"/>
            <a:ext cx="868500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Impact of the Worsening Economy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Plan-to-Plan Changes 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C2B5-8298-4BC3-8301-4DDA5716C32F}" type="slidenum">
              <a:t>5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Pensions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Plan-to-Plan Change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The February Plan included a provision for losses in the assets of the MTA Defined Benefit Plans and MABSTOA</a:t>
            </a: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The July Baseline includes additional expenses to account for higher NYCERS costs based on a revised actuarial valuation</a:t>
            </a: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In addition, this plan establishes a reserve for expected increases in NYCERS contributions ($27 million in 2010 growing to $189 million in 2013). Those losses are expected in the NYCERS valuation for the City fiscal year 2009 with cash impacts beginning in late 2010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0A95-B28F-4BCF-878E-EF7D2E12047D}" type="slidenum">
              <a:t>6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81000"/>
            <a:ext cx="897876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Monthly Total Real Estate Taxes</a:t>
            </a:r>
            <a:br>
              <a:rPr sz="2800"/>
            </a:b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2007 to 2009 Actuals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</a:t>
            </a:r>
            <a:br>
              <a:rPr sz="20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 in mill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58640" y="965160"/>
          <a:ext cx="8080560" cy="521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65160"/>
                    <a:ext cx="8080560" cy="521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B5F5-2102-4795-B463-E1F230D2B565}" type="slidenum">
              <a:t>7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4920" y="80640"/>
            <a:ext cx="885348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Real Estate Transaction Tax Receipts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Declines Have Exceeded Previous Worst Case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30200" y="1287360"/>
          <a:ext cx="6608880" cy="42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200" y="1287360"/>
                    <a:ext cx="6608880" cy="42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1131840" y="1576440"/>
            <a:ext cx="81000" cy="9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07920" y="1201680"/>
            <a:ext cx="601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uly 2009 Financial Plan vs. February 2009 Financial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74680" y="1515960"/>
            <a:ext cx="5456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lects decreases from the February Financial Plan to the July Financial Pla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2189160" y="1775880"/>
            <a:ext cx="3828240" cy="2122560"/>
            <a:chOff x="2189160" y="1775880"/>
            <a:chExt cx="3828240" cy="2122560"/>
          </a:xfrm>
        </p:grpSpPr>
        <p:sp>
          <p:nvSpPr>
            <p:cNvPr id="82" name=""/>
            <p:cNvSpPr/>
            <p:nvPr/>
          </p:nvSpPr>
          <p:spPr>
            <a:xfrm>
              <a:off x="2189160" y="1777320"/>
              <a:ext cx="1913040" cy="2121120"/>
            </a:xfrm>
            <a:custGeom>
              <a:avLst/>
              <a:gdLst/>
              <a:ahLst/>
              <a:rect l="l" t="t" r="r" b="b"/>
              <a:pathLst>
                <a:path w="746" h="1481">
                  <a:moveTo>
                    <a:pt x="0" y="1481"/>
                  </a:moveTo>
                  <a:cubicBezTo>
                    <a:pt x="57" y="1477"/>
                    <a:pt x="115" y="1473"/>
                    <a:pt x="170" y="1363"/>
                  </a:cubicBezTo>
                  <a:cubicBezTo>
                    <a:pt x="225" y="1253"/>
                    <a:pt x="273" y="1002"/>
                    <a:pt x="329" y="823"/>
                  </a:cubicBezTo>
                  <a:cubicBezTo>
                    <a:pt x="385" y="644"/>
                    <a:pt x="448" y="412"/>
                    <a:pt x="505" y="288"/>
                  </a:cubicBezTo>
                  <a:cubicBezTo>
                    <a:pt x="562" y="164"/>
                    <a:pt x="630" y="124"/>
                    <a:pt x="670" y="76"/>
                  </a:cubicBezTo>
                  <a:cubicBezTo>
                    <a:pt x="710" y="28"/>
                    <a:pt x="728" y="14"/>
                    <a:pt x="746" y="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4104360" y="1775520"/>
              <a:ext cx="1913040" cy="2120760"/>
            </a:xfrm>
            <a:custGeom>
              <a:avLst/>
              <a:gdLst/>
              <a:ahLst/>
              <a:rect l="l" t="t" r="r" b="b"/>
              <a:pathLst>
                <a:path w="746" h="1481">
                  <a:moveTo>
                    <a:pt x="0" y="1481"/>
                  </a:moveTo>
                  <a:cubicBezTo>
                    <a:pt x="57" y="1477"/>
                    <a:pt x="115" y="1473"/>
                    <a:pt x="170" y="1363"/>
                  </a:cubicBezTo>
                  <a:cubicBezTo>
                    <a:pt x="225" y="1253"/>
                    <a:pt x="273" y="1002"/>
                    <a:pt x="329" y="823"/>
                  </a:cubicBezTo>
                  <a:cubicBezTo>
                    <a:pt x="385" y="644"/>
                    <a:pt x="448" y="412"/>
                    <a:pt x="505" y="288"/>
                  </a:cubicBezTo>
                  <a:cubicBezTo>
                    <a:pt x="562" y="164"/>
                    <a:pt x="630" y="124"/>
                    <a:pt x="670" y="76"/>
                  </a:cubicBezTo>
                  <a:cubicBezTo>
                    <a:pt x="710" y="28"/>
                    <a:pt x="728" y="14"/>
                    <a:pt x="746" y="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4" name=""/>
          <p:cNvGraphicFramePr/>
          <p:nvPr/>
        </p:nvGraphicFramePr>
        <p:xfrm>
          <a:off x="7188120" y="2413080"/>
          <a:ext cx="1587600" cy="2498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88120" y="2413080"/>
                    <a:ext cx="1587600" cy="2498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906480" y="5673600"/>
            <a:ext cx="731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ue curve represents adjusted real estate transactions taxes from 1983 through 199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6F4D-25C8-4810-AF1A-E0C16A770CB4}" type="slidenum">
              <a:t>8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5240" y="81000"/>
            <a:ext cx="879768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New York City Employment Change</a:t>
            </a:r>
            <a:br>
              <a:rPr sz="32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Year-over-Year Change in Employment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046160" y="1523880"/>
          <a:ext cx="3094200" cy="220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6160" y="1523880"/>
                    <a:ext cx="3094200" cy="22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5003640" y="1523880"/>
          <a:ext cx="3094200" cy="220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1523880"/>
                    <a:ext cx="3094200" cy="22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1044720" y="3886200"/>
          <a:ext cx="3095640" cy="220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44720" y="3886200"/>
                    <a:ext cx="309564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71600" y="955800"/>
          <a:ext cx="7991280" cy="5275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600" y="955800"/>
                    <a:ext cx="7991280" cy="52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863A-AE96-4367-8693-4D4A89BC2799}" type="slidenum">
              <a:t>9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8:18:55Z</dcterms:created>
  <dc:creator>David Keller</dc:creator>
  <dc:description/>
  <dc:language>en-US</dc:language>
  <cp:lastModifiedBy>MTA</cp:lastModifiedBy>
  <cp:lastPrinted>2004-07-16T15:55:26Z</cp:lastPrinted>
  <dcterms:modified xsi:type="dcterms:W3CDTF">2009-07-29T12:43:42Z</dcterms:modified>
  <cp:revision>1247</cp:revision>
  <dc:subject/>
  <dc:title>Preliminary 2005 Budget and Financial Plan</dc:title>
</cp:coreProperties>
</file>