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77733F-D54E-4401-90EA-A133DB328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E37F63-642C-41DF-AF60-8D3EC8981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096920" y="64764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527-C0B7-431E-BE94-E785B757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0C4A-B7BC-4C9D-B5D1-079D848E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236-C653-433B-98A9-0A48E1BB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70FA-F1ED-4545-AB85-21CD4ED0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5E22-6758-46D1-A12D-C12B08C4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14B-750B-44B2-9569-72E129A6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E53-0ECA-403C-A26B-46596FFD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D31-7CD6-405A-BF96-B5B6C223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0CB-DEFC-4B38-988B-52B284E6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941-A816-4C6A-B89B-69831073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ADEA-8BBC-419C-B6D6-A3819DF5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B3EF-A7D6-4E05-9E5E-53576847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AD4E-0663-42D7-B5ED-AA6DD3BA8EA8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27880" y="6289560"/>
            <a:ext cx="246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2009 Financial Plan 2010-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33240"/>
            <a:ext cx="8658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MTA 20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November Financial Plan 2010 –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12040" y="6300720"/>
            <a:ext cx="2387520" cy="39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63880" y="2635200"/>
            <a:ext cx="3198960" cy="2292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27160" y="5210280"/>
            <a:ext cx="8658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ovember 18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7D2-14CD-438C-94BA-434CF3DA6CFA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20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8920" y="1425600"/>
          <a:ext cx="87915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425600"/>
                    <a:ext cx="87915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6F0-A2D5-45A4-8EEF-E00B2667B7FF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1600" y="80640"/>
            <a:ext cx="80010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Plan Highlight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aintained in November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6120" y="1444680"/>
            <a:ext cx="80136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09 budget balanced after Mid-Year a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unfunded New Need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rict spending controls and continuation of PEG budget redu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i-annual fare &amp; toll yield increases of 7.5% in 2011 and 2013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scheduled service redu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y-As-You-Go contribution to the Capital Program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69D9-91DF-40E6-809D-E4970FD7D116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July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6720" y="1098720"/>
            <a:ext cx="77724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eipts for Real Estate Transaction Taxes have declined further than anticipate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arebox and Toll Revenues not as weak as projecte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39B-BF36-4B98-9B99-58783890F8EE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BA0D-4906-4E4E-8463-ECD1F097B164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2"/>
          <p:cNvGraphicFramePr/>
          <p:nvPr/>
        </p:nvGraphicFramePr>
        <p:xfrm>
          <a:off x="685800" y="1225440"/>
          <a:ext cx="7724880" cy="354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25440"/>
                    <a:ext cx="772488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FFA0-1751-4C26-8DC7-2B1DCD5C7220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 Closing Actions </a:t>
            </a:r>
            <a:br>
              <a:rPr sz="24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7720" y="955800"/>
          <a:ext cx="8126640" cy="512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955800"/>
                    <a:ext cx="8126640" cy="51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BC5-A5A8-448D-9802-E6F4BCA34A8D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666720"/>
          <a:ext cx="885816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6720"/>
                    <a:ext cx="88581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4400" y="5005440"/>
            <a:ext cx="78231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Un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ratransit Service Contracts, Fuel for Buses &amp; Trains, Traction &amp; Propulsion Power, OPEB Current Payment, Health &amp; Welfare, Pensions, and Insur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otal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s the impact of the Gap Closing Actions  but excludes Debt Service and the General Reser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2BA-98DE-434B-B682-88A4CDF0FDCC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1252440"/>
          <a:ext cx="88041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2440"/>
                    <a:ext cx="88041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vember Financial Plan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losing Cash Balance after Gap Closing</a:t>
            </a:r>
            <a:br>
              <a:rPr sz="20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880-9C18-4539-8E2C-C7B5F835188A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Plan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723960" y="979560"/>
            <a:ext cx="76644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gional economy does not rebound as anticipated; additional State subsidy red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bor arbitration ruling inconsistent with Financial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venues from new State taxes and fees do not meet financial plan assum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4A8-92E2-47B9-A311-72D005209329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9-11-17T21:23:06Z</dcterms:modified>
  <cp:revision>1284</cp:revision>
  <dc:subject/>
  <dc:title>Preliminary 2005 Budget and Financial Plan</dc:title>
</cp:coreProperties>
</file>