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47760" y="708120"/>
            <a:ext cx="482904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30DDF8-02EB-4B31-A814-BE12639BB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C9AEF1-FE35-4ED8-BE2D-BDB2D6B80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5BBBD5-8708-48DC-9394-4F6B30289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892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037-EC8B-49F1-9A25-D8E518CE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520-92C5-431F-ABBA-1FF752B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068-6B44-4165-8706-448ACE47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BE1-C17F-4A53-9B4C-9DFAD77C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AD2-DAC7-4E56-AC98-A0786F5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853-6F67-4458-A603-2D3959E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C61-40FE-4976-A3F3-809E0391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8BC-2F0E-430C-B578-7B13EFAD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487-8958-42B5-8F03-30C680F0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135-A2D6-4D76-8113-E0D5888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0A2-B97E-4287-8120-06DFF6ED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6C6-FF00-4010-ADAD-8A80FD8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8E3B-1C32-4B2B-827C-46A61BA96332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9 Financial Plan 2010-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10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10 –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63880" y="2635200"/>
            <a:ext cx="3198960" cy="22924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164-07A9-451A-9DB0-2EBCD0D0817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TA Consolidated Ridership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80960" y="955800"/>
          <a:ext cx="797076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960" y="955800"/>
                    <a:ext cx="797076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EFC-9B08-4CD6-B7BB-723F8DFCD78E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993600"/>
          <a:ext cx="8667720" cy="46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86677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101-B667-4889-A4D8-E55E97A5F6A7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2009/10 Expenditure Control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373040"/>
          <a:ext cx="8636040" cy="35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73040"/>
                    <a:ext cx="8636040" cy="35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B8B-9A24-4614-80CF-0CE5CF657DC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660240"/>
          <a:ext cx="89028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0240"/>
                    <a:ext cx="89028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4400" y="5005440"/>
            <a:ext cx="782316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Un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ratransit Service Contracts, Fuel for Buses &amp; Trains, Traction &amp; Propulsion Power, OPEB Current Payment, Health &amp; Welfare, Pensions, and Insuran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Controllable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otal Operating Expens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cludes the impact of the Gap Closing Actions  but excludes Debt Service and the General Reserv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BAA-F122-4491-9D32-465994C536C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Plan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979560"/>
            <a:ext cx="76644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gional economy does not rebound as anticipated; double-dip rec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ergy price 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 arbitration ruling inconsistent with Financi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enues from new State taxes and fees do not meet financial plan 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F90-DA34-4B9F-992B-5DBFC1B7C29C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1409760"/>
          <a:ext cx="8756640" cy="46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409760"/>
                    <a:ext cx="87566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222200" y="4006800"/>
          <a:ext cx="3552840" cy="124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006800"/>
                    <a:ext cx="3552840" cy="12430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262-A7AC-441C-A71A-F6715665BAF2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ancial Assistance for MTA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895320"/>
            <a:ext cx="798984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acted State legislation provides MTA with $1.1 billion in 2009 and $1.9 billion in 2010 from the following source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TA Board actions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hanged the scheduled fare/toll yield increase of 23% to 10%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stored planned reductions of scheduled service to the public 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160" y="1654200"/>
          <a:ext cx="9328320" cy="30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654200"/>
                    <a:ext cx="9328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DF6-BE1A-4F70-82A3-85684B8F55D2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verview of the July Financial Pla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20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gnizes new revenue sourc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wers forecasted revenues from real estate taxes, state dedicated taxes, and util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ocates higher funding for additional pension expense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intains service level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vides funds for new Capital Pl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37E-AE7E-4228-8E8A-2544C057A42E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34800" y="1216080"/>
          <a:ext cx="788040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1216080"/>
                    <a:ext cx="788040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mpact of the Worsening Economy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Plan-to-Plan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C2B-E866-4F05-9E34-39D19CACDE9B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ensions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-to-Plan Chang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February Plan included a provision for losses in the assets of the MTA Defined Benefit Plans and MABSTOA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he July Baseline includes additional expenses to account for higher NYCERS costs based on a revised actuarial valuation</a:t>
            </a: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 addition, this plan establishes a reserve for expected increases in NYCERS contributions ($27 million in 2010 growing to $189 million in 2013). Those losses are expected in the NYCERS valuation for the City fiscal year 2009 with cash impacts beginning in late 20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AE5-F792-4652-B390-4705FF9CE240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1000"/>
            <a:ext cx="8978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onthly Total Real Estate Taxes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07 to 2009 Actual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8640" y="965160"/>
          <a:ext cx="80805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65160"/>
                    <a:ext cx="80805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C37-4552-43C1-B694-496AEF66DE9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clines Have Exceeded Previous Worst Case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30200" y="1287360"/>
          <a:ext cx="660888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1287360"/>
                    <a:ext cx="66088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31840" y="1576440"/>
            <a:ext cx="81000" cy="9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7920" y="1201680"/>
            <a:ext cx="60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y 2009 Financial Plan vs. February 2009 Financial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4680" y="1515960"/>
            <a:ext cx="545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s from the February Financial Plan to the July Financial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189160" y="1775880"/>
            <a:ext cx="3828240" cy="2122560"/>
            <a:chOff x="2189160" y="1775880"/>
            <a:chExt cx="3828240" cy="2122560"/>
          </a:xfrm>
        </p:grpSpPr>
        <p:sp>
          <p:nvSpPr>
            <p:cNvPr id="82" name=""/>
            <p:cNvSpPr/>
            <p:nvPr/>
          </p:nvSpPr>
          <p:spPr>
            <a:xfrm>
              <a:off x="2189160" y="1777320"/>
              <a:ext cx="1913040" cy="212112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104360" y="1775520"/>
              <a:ext cx="1913040" cy="21207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7188120" y="2413080"/>
          <a:ext cx="1587600" cy="249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88120" y="2413080"/>
                    <a:ext cx="1587600" cy="249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06480" y="567360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curve represents adjusted real estate transactions taxes from 1983 through 199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651-AB58-4D68-BA30-EEDF2FC351C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5240" y="81000"/>
            <a:ext cx="879768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ew York City Employment Change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over-Year Change in Employment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1523880"/>
          <a:ext cx="30942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003640" y="1523880"/>
          <a:ext cx="309420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523880"/>
                    <a:ext cx="30942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044720" y="3886200"/>
          <a:ext cx="309564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3886200"/>
                    <a:ext cx="30956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71600" y="955800"/>
          <a:ext cx="7991280" cy="527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00" y="955800"/>
                    <a:ext cx="7991280" cy="52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947-1648-4512-96DB-0DF15217F12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9-07-29T12:43:42Z</dcterms:modified>
  <cp:revision>1247</cp:revision>
  <dc:subject/>
  <dc:title>Preliminary 2005 Budget and Financial Plan</dc:title>
</cp:coreProperties>
</file>