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C895BB-045F-45DF-AF2C-3B45B4D5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990935-63CC-4DB3-AF8B-5CEEAE738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096920" y="64764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7CA-03EA-44AE-BFC0-7039018D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07B-1100-447A-A407-1200365B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919-BB4F-4C99-9A0C-73585E24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DB9-265A-4DAD-8BF9-093F5BA5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C9F-AC3D-4711-83BF-096ADF89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57F-025E-449D-A0C1-FB9D4A9A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9AA-C389-4139-8D70-F9E78EBB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F75-AC2B-44BB-A1BD-4BC3252A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A51C-9B96-449A-AE43-2BCC50B1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809-5384-4BCF-A3F9-2596807D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66E-CB00-40A1-990F-259EE72D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F91D-C174-4395-BB18-75D0EC40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ECB3-94AB-41FE-A2AE-368BF3FDB185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27880" y="6289560"/>
            <a:ext cx="246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33240"/>
            <a:ext cx="8658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MTA 2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November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12040" y="6300720"/>
            <a:ext cx="2387520" cy="39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27160" y="5210280"/>
            <a:ext cx="865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ovember 18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955-8A9A-4DE5-8DF2-B805A6BD005D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20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346-7CAA-4150-B743-E909F7DA0CE7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Plan Highlight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aintained in November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6120" y="1444680"/>
            <a:ext cx="801360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009 budget balanced after Mid-Year a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unfunded New Need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ict spending controls and continuation of PEG budget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i-annual fare &amp; toll yield increases of 7.5% in 2011 and 2013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scheduled service reduction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y-As-You-Go contribution to the Capital Program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427-3E83-4E29-A7B0-828AE90C3740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09872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ipts for Real Estate Transaction Taxes have declined further than anticipa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rebox and Toll Revenues not as weak as projecte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4DA-6D1C-4253-AF69-C29385230048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A148-4308-4B22-81DF-DB9663156D21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2"/>
          <p:cNvGraphicFramePr/>
          <p:nvPr/>
        </p:nvGraphicFramePr>
        <p:xfrm>
          <a:off x="685800" y="1225440"/>
          <a:ext cx="7724880" cy="354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25440"/>
                    <a:ext cx="772488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259-70E8-44B1-86B7-4AEC0DE15A98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 Actions 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7720" y="955800"/>
          <a:ext cx="8126640" cy="51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955800"/>
                    <a:ext cx="8126640" cy="51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368-AD45-4719-A7EA-0662A442D15C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666720"/>
          <a:ext cx="88581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6720"/>
                    <a:ext cx="88581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4E2-4B3A-4A64-90BE-2BF0B39BC8F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Financial Pla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losing Cash Balance after Gap Closing</a:t>
            </a:r>
            <a:br>
              <a:rPr sz="20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2E7-912E-470B-B459-BF041C73F5F8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gional economy does not rebound as anticipated; additional State subsidy red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B12-0049-48B6-BDFC-7A62AB4F108E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9-11-17T21:23:06Z</dcterms:modified>
  <cp:revision>1284</cp:revision>
  <dc:subject/>
  <dc:title>Preliminary 2005 Budget and Financial Plan</dc:title>
</cp:coreProperties>
</file>