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09692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584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6316F36-AD34-4E08-B84A-5AF4C7E142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D2CCD80-CC68-40DF-9E44-41E65A38EA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096920" y="64764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BA6A-4E82-4D76-947D-54B981F21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057F-0FBF-4D9C-84CC-0A82F9A1A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7E0E-EBC9-42DE-BEDF-0A1101473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0998-E588-47F4-B141-1D6D2CA37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9F50-50E3-49AB-A736-475A10326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B364-ABEC-45EB-B894-98C1DD730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44D0-C205-4688-A1BA-9002F336D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F7B2-3C75-453C-B882-A4019ED1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61600" y="81000"/>
            <a:ext cx="800100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0C68-31E6-4B8F-8CAC-D804B6FCA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42A6-FFF5-48CC-AB3D-80A79A7D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156A-F637-495B-A44A-E6E59A5B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E471-9761-4BAA-86F0-52FBF23A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80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300720"/>
            <a:ext cx="8686800" cy="4050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9840" y="635652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80880" y="6338880"/>
            <a:ext cx="301680" cy="33336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015400" y="6496200"/>
            <a:ext cx="971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5068A-1018-43B6-8DED-DA8FFB7DE5F3}" type="slidenum">
              <a:rPr b="1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527880" y="6289560"/>
            <a:ext cx="2462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November 2009 Financial Plan 2010-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7440" y="228600"/>
            <a:ext cx="8686800" cy="2286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633240"/>
            <a:ext cx="865836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 Black"/>
              </a:rPr>
              <a:t>MTA 20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 Black"/>
              </a:rPr>
              <a:t>Final Proposed Budg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November Financial Plan 2010 – 20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512040" y="6300720"/>
            <a:ext cx="2387520" cy="3970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963880" y="2635200"/>
            <a:ext cx="3198960" cy="229248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227160" y="5210280"/>
            <a:ext cx="865800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November 18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79AB-DA70-4DFB-A115-E818B27814EE}" type="slidenum">
              <a:t>1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400"/>
            </a:b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Closing Cash Balance</a:t>
            </a:r>
            <a:br>
              <a:rPr sz="20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88920" y="1425600"/>
          <a:ext cx="8791560" cy="465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1425600"/>
                    <a:ext cx="8791560" cy="46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9A93-368A-4C09-9477-F726C1EFF359}" type="slidenum">
              <a:t>2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61600" y="80640"/>
            <a:ext cx="80010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Plan Highlights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Maintained in November Pla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6120" y="1444680"/>
            <a:ext cx="8013600" cy="41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2009 budget balanced after Mid-Year actions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o unfunded New Needs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trict spending controls and continuation of PEG budget reductions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i-annual fare &amp; toll yield increases of 7.5% in 2011 and 2013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o scheduled service reductions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ay-As-You-Go contribution to the Capital Program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7D35-84D8-47A5-B01B-C62E4554F06F}" type="slidenum">
              <a:t>3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hanges from the July Pla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66720" y="1098720"/>
            <a:ext cx="777240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ceipts for Real Estate Transaction Taxes have declined further than anticipated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arebox and Toll Revenues not as weak as projected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A457-C04C-4044-93C9-5FD54BDA4162}" type="slidenum">
              <a:t>4</a:t>
            </a:fld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3"/>
          <p:cNvSpPr/>
          <p:nvPr/>
        </p:nvSpPr>
        <p:spPr>
          <a:xfrm>
            <a:off x="8015400" y="6496200"/>
            <a:ext cx="97128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98B1B-DE0B-4DFE-B28E-01535558B613}" type="slidenum">
              <a:rPr b="1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Object 2"/>
          <p:cNvGraphicFramePr/>
          <p:nvPr/>
        </p:nvGraphicFramePr>
        <p:xfrm>
          <a:off x="685800" y="1225440"/>
          <a:ext cx="7724880" cy="354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225440"/>
                    <a:ext cx="7724880" cy="35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81000"/>
            <a:ext cx="8685000" cy="10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hanges from the Jul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7800-B88E-4CB1-9D30-255D12DF7C41}" type="slidenum">
              <a:t>5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041480" y="201600"/>
            <a:ext cx="73278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Gap Closing Actions </a:t>
            </a:r>
            <a:br>
              <a:rPr sz="24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($ in millio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7720" y="955800"/>
          <a:ext cx="8126640" cy="512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720" y="955800"/>
                    <a:ext cx="8126640" cy="51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475F-4FE4-4601-851E-BC82414D9EF1}" type="slidenum">
              <a:t>6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0" y="666720"/>
          <a:ext cx="8858160" cy="485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66720"/>
                    <a:ext cx="885816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542880" y="81000"/>
            <a:ext cx="80391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Year-to-Year Changes in Expens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4400" y="5005440"/>
            <a:ext cx="7823160" cy="11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Uncontrollable Operating Expense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clude Paratransit Service Contracts, Fuel for Buses &amp; Trains, Traction &amp; Propulsion Power, OPEB Current Payment, Health &amp; Welfare, Pensions, and Insuranc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Controllable Operating Expense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clude Payroll, Overtime, Claims, Other-Fringe Benefits, Reimbursable Overhead, Maintenance &amp; Other Operating Contracts, Professional Service Contracts, and Materials &amp; Supplies, Other Business Expenses, Other Expense Adjustments, and Gap Closing Action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Total Operating Expense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cludes the impact of the Gap Closing Actions  but excludes Debt Service and the General Reserv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2C8E-DC16-4C9D-99E8-B64BCFC27B3A}" type="slidenum">
              <a:t>7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0" y="1252440"/>
          <a:ext cx="8804160" cy="465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52440"/>
                    <a:ext cx="8804160" cy="46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November Financial Plan</a:t>
            </a:r>
            <a:br>
              <a:rPr sz="2400"/>
            </a:b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Closing Cash Balance after Gap Closing</a:t>
            </a:r>
            <a:br>
              <a:rPr sz="2000"/>
            </a:b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6B35-3349-4EC8-A8F5-1C3CF501F740}" type="slidenum">
              <a:t>8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99840" y="80640"/>
            <a:ext cx="772956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inancial Plan Risk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9" name=""/>
          <p:cNvSpPr/>
          <p:nvPr/>
        </p:nvSpPr>
        <p:spPr>
          <a:xfrm>
            <a:off x="723960" y="979560"/>
            <a:ext cx="7664400" cy="36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gional economy does not rebound as anticipated; additional State subsidy redu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abor arbitration ruling inconsistent with Financial Pl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venues from new State taxes and fees do not meet financial plan assump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1BA9-18E9-4B56-BDF1-495B7C063EE1}" type="slidenum">
              <a:t>9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8:18:55Z</dcterms:created>
  <dc:creator>David Keller</dc:creator>
  <dc:description/>
  <dc:language>en-US</dc:language>
  <cp:lastModifiedBy>David E. Keller</cp:lastModifiedBy>
  <cp:lastPrinted>2004-07-16T15:55:26Z</cp:lastPrinted>
  <dcterms:modified xsi:type="dcterms:W3CDTF">2009-11-17T21:23:06Z</dcterms:modified>
  <cp:revision>1284</cp:revision>
  <dc:subject/>
  <dc:title>Preliminary 2005 Budget and Financial Plan</dc:title>
</cp:coreProperties>
</file>