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47760" y="708120"/>
            <a:ext cx="4829040" cy="362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329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C4A2DBF-0561-4303-A6AB-9C3BA1EF5A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A44D7D4-DF24-4ABF-8071-007E72297A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221DEAA-6BA2-4CFE-8245-85279FE845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BC9-CD15-48B9-AD43-5FFA1D2D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932A-4C2E-42CD-A1E9-93C4FC5F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8D67-DE27-4B17-916F-238C505F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B761-41E6-4193-8A3F-57413D92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0231-B0EA-4A8C-8163-1CE21ED0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83C1-1AE1-4C2D-B88B-8F596138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EF31-9980-405C-8F63-1F69C460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D13-938E-4089-A0FA-3EE35790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F99-F176-4129-9309-11CAD921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4A7-CB31-44A9-AE0A-551F58D0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F28C-1F5B-49C9-9201-F557667E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121-02B9-4847-9E51-F63DE8CE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EB21-64B1-4312-A1A2-623CFD8F4C3F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uly 2009 Financial Plan 2010-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61920" y="633240"/>
            <a:ext cx="7191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10 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y Financial Plan 2010 –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63880" y="2635200"/>
            <a:ext cx="3198960" cy="2292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87B4-D797-4958-8864-8478A2FE4529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5240" y="81000"/>
            <a:ext cx="8797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TA Consolidated Ridership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46160" y="1523880"/>
          <a:ext cx="3094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003640" y="1523880"/>
          <a:ext cx="309420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044720" y="3886200"/>
          <a:ext cx="309564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3886200"/>
                    <a:ext cx="3095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80960" y="955800"/>
          <a:ext cx="7970760" cy="527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960" y="955800"/>
                    <a:ext cx="797076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6E6-6955-4EA3-81DE-6CCB689C0478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600" y="993600"/>
          <a:ext cx="8667720" cy="46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3600"/>
                    <a:ext cx="8667720" cy="46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6F56-30BE-4423-8959-EEF5CE75B955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2009/10 Expenditure Control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85840" y="1373040"/>
          <a:ext cx="8636040" cy="35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373040"/>
                    <a:ext cx="863604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106-4ED3-4260-8A0D-EE2F6FC5D4EC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0" y="660240"/>
          <a:ext cx="890280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0240"/>
                    <a:ext cx="890280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4400" y="5005440"/>
            <a:ext cx="78231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Un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ratransit Service Contracts, Fuel for Buses &amp; Trains, Traction &amp; Propulsion Power, OPEB Current Payment, Health &amp; Welfare, Pensions, and Insur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otal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s the impact of the Gap Closing Actions  but excludes Debt Service and the General Reser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989-EF0B-4259-B445-40FF52BF3EC7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Plan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723960" y="979560"/>
            <a:ext cx="76644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gional economy does not rebound as anticipated; double-dip rec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ergy price volat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bor arbitration ruling inconsistent with Financial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venues from new State taxes and fees do not meet financial plan 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B0F4-2499-49C1-A33E-0FEE82AA75B4}" type="slidenum">
              <a:t>14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520" y="83880"/>
            <a:ext cx="78073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4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71360" y="1409760"/>
          <a:ext cx="8756640" cy="46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409760"/>
                    <a:ext cx="875664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222200" y="4006800"/>
          <a:ext cx="3552840" cy="12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006800"/>
                    <a:ext cx="3552840" cy="1243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34A4-3BB3-4B3F-A878-B222C6CB7B65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Assistance for MTA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895320"/>
            <a:ext cx="798984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acted State legislation provides MTA with $1.1 billion in 2009 and $1.9 billion in 2010 from the following sources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TA Board actions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hanged the scheduled fare/toll yield increase of 23% to 10%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stored planned reductions of scheduled service to the public 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30160" y="1654200"/>
          <a:ext cx="9328320" cy="30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1654200"/>
                    <a:ext cx="9328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8CA-B69B-4EA7-A9AA-1D72E7A208BA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verview of the July Financial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0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ognizes new revenue sourc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owers forecasted revenues from real estate taxes, state dedicated taxes, and util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ocates higher funding for additional pension expens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intains service leve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vides funds for new Capital Pla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F0A9-E91F-476B-99C0-B4D6A6E93528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34800" y="1216080"/>
          <a:ext cx="7880400" cy="566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1216080"/>
                    <a:ext cx="7880400" cy="56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mpact of the Worsening Economy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Plan-to-Plan Changes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FC6-DEFC-406C-80DD-E3F38823D8BA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ensions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lan-to-Plan Chang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February Plan included a provision for losses in the assets of the MTA Defined Benefit Plans and MABSTOA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July Baseline includes additional expenses to account for higher NYCERS costs based on a revised actuarial valuation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n addition, this plan establishes a reserve for expected increases in NYCERS contributions ($27 million in 2010 growing to $189 million in 2013). Those losses are expected in the NYCERS valuation for the City fiscal year 2009 with cash impacts beginning in late 201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83B3-6C77-4365-B6C2-7FCD7A2DAA62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81000"/>
            <a:ext cx="89787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onthly Total Real Estate Taxes</a:t>
            </a:r>
            <a:br>
              <a:rPr sz="28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007 to 2009 Actuals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8640" y="965160"/>
          <a:ext cx="808056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65160"/>
                    <a:ext cx="808056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60BE-6541-46DA-98AC-12916CD052E6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920" y="80640"/>
            <a:ext cx="8853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 Receip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clines Have Exceeded Previous Worst Case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30200" y="1287360"/>
          <a:ext cx="660888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1287360"/>
                    <a:ext cx="66088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131840" y="1576440"/>
            <a:ext cx="8100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7920" y="1201680"/>
            <a:ext cx="60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y 2009 Financial Plan vs. February 2009 Financial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74680" y="1515960"/>
            <a:ext cx="545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s from the February Financial Plan to the July Financial Pla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189160" y="1775880"/>
            <a:ext cx="3828240" cy="2122560"/>
            <a:chOff x="2189160" y="1775880"/>
            <a:chExt cx="3828240" cy="2122560"/>
          </a:xfrm>
        </p:grpSpPr>
        <p:sp>
          <p:nvSpPr>
            <p:cNvPr id="82" name=""/>
            <p:cNvSpPr/>
            <p:nvPr/>
          </p:nvSpPr>
          <p:spPr>
            <a:xfrm>
              <a:off x="2189160" y="1777320"/>
              <a:ext cx="1913040" cy="212112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104360" y="1775520"/>
              <a:ext cx="1913040" cy="212076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7188120" y="2413080"/>
          <a:ext cx="1587600" cy="2498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88120" y="2413080"/>
                    <a:ext cx="1587600" cy="249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906480" y="567360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curve represents adjusted real estate transactions taxes from 1983 through 199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2A7-79C1-4384-9F0C-7135991C9C2C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5240" y="81000"/>
            <a:ext cx="8797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ew York City Employment Change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ar-over-Year Change in Employment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46160" y="1523880"/>
          <a:ext cx="3094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003640" y="1523880"/>
          <a:ext cx="309420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044720" y="3886200"/>
          <a:ext cx="309564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3886200"/>
                    <a:ext cx="3095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71600" y="955800"/>
          <a:ext cx="7991280" cy="527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00" y="955800"/>
                    <a:ext cx="799128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52A1-3AB8-4158-A845-98C845110E62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MTA</cp:lastModifiedBy>
  <cp:lastPrinted>2004-07-16T15:55:26Z</cp:lastPrinted>
  <dcterms:modified xsi:type="dcterms:W3CDTF">2009-07-29T12:43:42Z</dcterms:modified>
  <cp:revision>1247</cp:revision>
  <dc:subject/>
  <dc:title>Preliminary 2005 Budget and Financial Plan</dc:title>
</cp:coreProperties>
</file>