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4C4727-2916-409F-AD84-5DAB34F6D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83F51B-AC51-4444-948E-EF3CECAA2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96920" y="64764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5B3-C6E0-466E-ABD9-630A0FDD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F0B-E635-4E72-AA5B-1575BD61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C4C-F3D0-43D2-BCE7-F89AF602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B22B-3110-4125-9B10-FC527689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E82-380F-4F7D-952B-115296B2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7FE-BF56-4996-9D5A-CDFDA0AC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5EC-3329-4007-ACD8-3C17BE9A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93B-EDAF-4FB0-AD52-5CB62786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01D-5218-4020-9516-06F797F8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316-698D-45A5-9DA0-FACC1B2F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436-74F1-476B-9070-94A1D631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D24-A612-439F-B239-8182D9AF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7E85-369C-4C55-BACF-11933E41806B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27880" y="6289560"/>
            <a:ext cx="24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33240"/>
            <a:ext cx="8658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MTA 20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ovember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12040" y="6300720"/>
            <a:ext cx="2387520" cy="39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7160" y="5210280"/>
            <a:ext cx="8658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ovember 18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C2C-5EF1-43AD-AFBE-C3689C55F451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20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6BE-B17C-4EF8-B218-0950297AC49E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Plan Highlight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aintained in November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6120" y="1444680"/>
            <a:ext cx="80136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09 budget balanced after Mid-Year a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unfunded New Need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ict spending controls and continuation of PEG budget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-annual fare &amp; toll yield increases of 7.5% in 2011 and 2013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scheduled service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y-As-You-Go contribution to the Capital Program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893-DEBE-403E-A187-35BDDBB5685B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6720" y="109872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eipts for Real Estate Transaction Taxes have declined further than anticipa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rebox and Toll Revenues not as weak as projec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B0C-EDF0-4B82-8577-2F72835ACE04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8C9E-1D22-4A82-BDB3-8B2E0C40D5C0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685800" y="1225440"/>
          <a:ext cx="7724880" cy="354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25440"/>
                    <a:ext cx="772488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6379-0E31-48C4-9F88-E4392557DBEA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 Actions 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7720" y="955800"/>
          <a:ext cx="8126640" cy="51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955800"/>
                    <a:ext cx="8126640" cy="51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799-636E-4F7C-857F-B00F652ED511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666720"/>
          <a:ext cx="88581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6720"/>
                    <a:ext cx="88581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55B-CCE5-4A17-85B4-623519FCD662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vember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 after Gap Closing</a:t>
            </a:r>
            <a:br>
              <a:rPr sz="20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550-25D7-43EA-AF54-2931FDC93373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gional economy does not rebound as anticipated; additional State subsidy red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18C-E407-42AB-9BD4-454892EABC00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9-11-17T21:23:06Z</dcterms:modified>
  <cp:revision>1284</cp:revision>
  <dc:subject/>
  <dc:title>Preliminary 2005 Budget and Financial Plan</dc:title>
</cp:coreProperties>
</file>