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092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97044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877212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970440" y="877212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377E7-2C2D-4EED-8FBD-8A14585321D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8C69D-AE9D-4C5F-B40D-33DBAC84F5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89480"/>
            <a:ext cx="5764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162A1-4A51-4FF7-AF1E-C8E25AF1FC5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316AA-3427-4BB8-9C8F-098E5209E9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97D16-B68F-4573-8E8B-538A70844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4845B-8619-4A8E-84FE-BF0B50F3BF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A077A-669E-410D-BE32-4EC52CF5BA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3B608-9C09-45E3-BD3B-0522FD014B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D2B7E-AC3D-4832-A8CB-5D702169E0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DF767-9A92-49BE-84A7-5276DC9C30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D6C5E-6BDF-48BB-A05D-AD4D79B21E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04207-25E7-46BD-8FCF-01C3CE531C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EFF5F-1A8A-482D-A3ED-D24D73CE80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E090A-B68A-4B12-B2A9-B1B3F85EFC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0423-B2E8-45EC-BFEC-EAED9B969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55D5-CA18-4A67-9B38-AF82CB45A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7E91-97C4-413A-94B0-E9F63BA2E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BAA2-D8A6-424D-85F1-A4B2B6EE8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FA31-861A-4247-B21B-205A8456C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EC76-4169-4C6E-BDEE-9E2F96B0A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3B19-D632-4E03-B7C2-47D8C5D06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AFE4-1FCF-4B23-93EB-E0B14D7CF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8165-D154-45BC-8197-0E2842E0F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C7CB-1275-49F5-81E6-F7630013B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F874-ED54-4352-9B62-268E20640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DB03-87E3-4238-A1A5-52E214CA3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CECF5-28FD-4B7D-94F9-1D26AA99FD9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Picture 7" descr="Slide2shift-blumeat.jpg"/>
          <p:cNvPicPr/>
          <p:nvPr/>
        </p:nvPicPr>
        <p:blipFill>
          <a:blip r:embed="rId2"/>
          <a:stretch/>
        </p:blipFill>
        <p:spPr>
          <a:xfrm>
            <a:off x="0" y="5513400"/>
            <a:ext cx="1344600" cy="134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809720"/>
            <a:ext cx="7772400" cy="253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c"/>
                </a:solidFill>
                <a:latin typeface="Calibri"/>
              </a:rPr>
              <a:t>Metropolitan Transportation Authority</a:t>
            </a:r>
            <a:br>
              <a:rPr sz="3600"/>
            </a:br>
            <a:br>
              <a:rPr sz="3600"/>
            </a:br>
            <a:r>
              <a:rPr b="1" lang="en-US" sz="2800" spc="-1" strike="noStrike">
                <a:solidFill>
                  <a:srgbClr val="00009c"/>
                </a:solidFill>
                <a:latin typeface="Arial"/>
                <a:ea typeface="Arial"/>
              </a:rPr>
              <a:t>November Financial Plan 2013 - 20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52574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vember 28, 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Slide2shift-blumeatlg.jpg"/>
          <p:cNvPicPr/>
          <p:nvPr/>
        </p:nvPicPr>
        <p:blipFill>
          <a:blip r:embed="rId1"/>
          <a:stretch/>
        </p:blipFill>
        <p:spPr>
          <a:xfrm>
            <a:off x="0" y="4821120"/>
            <a:ext cx="2036880" cy="203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144360" cy="13968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1" hidden="1"/>
          <p:cNvSpPr/>
          <p:nvPr/>
        </p:nvSpPr>
        <p:spPr>
          <a:xfrm>
            <a:off x="0" y="0"/>
            <a:ext cx="144360" cy="1396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 Box 31"/>
          <p:cNvSpPr/>
          <p:nvPr/>
        </p:nvSpPr>
        <p:spPr>
          <a:xfrm>
            <a:off x="1868400" y="1363680"/>
            <a:ext cx="567396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mpounded Annual Growth Rate (CAGR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20"/>
          <p:cNvSpPr/>
          <p:nvPr/>
        </p:nvSpPr>
        <p:spPr>
          <a:xfrm>
            <a:off x="336600" y="318960"/>
            <a:ext cx="845820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n-discretionary expenses are increasing fas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an inflation and discretionary spen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traight Connector 30"/>
          <p:cNvSpPr/>
          <p:nvPr/>
        </p:nvSpPr>
        <p:spPr>
          <a:xfrm>
            <a:off x="1984320" y="1631880"/>
            <a:ext cx="560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6"/>
          <p:cNvSpPr/>
          <p:nvPr/>
        </p:nvSpPr>
        <p:spPr>
          <a:xfrm>
            <a:off x="5119560" y="1704960"/>
            <a:ext cx="27543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2011 Actual to 2016 Forec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37"/>
          <p:cNvSpPr/>
          <p:nvPr/>
        </p:nvSpPr>
        <p:spPr>
          <a:xfrm>
            <a:off x="4915080" y="1730520"/>
            <a:ext cx="215640" cy="1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40"/>
          <p:cNvSpPr/>
          <p:nvPr/>
        </p:nvSpPr>
        <p:spPr>
          <a:xfrm>
            <a:off x="1927080" y="1687680"/>
            <a:ext cx="2988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2011 Actual to 2012 Final Forec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5"/>
          <p:cNvSpPr/>
          <p:nvPr/>
        </p:nvSpPr>
        <p:spPr>
          <a:xfrm>
            <a:off x="1295280" y="5484960"/>
            <a:ext cx="705492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sonnel Service / Other Than Personnel Service.  This reflects adjustments to remove Service Investments, New Needs, Regulatory Increases, Mega Projects and CPI Increases at the conclusion of 3 Net-Zeros.  Without these adjustments, the increases are 0.3% from 2011 to 2012 and 2.1% from 2011 to 2016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Object 46" descr=""/>
          <p:cNvPicPr/>
          <p:nvPr/>
        </p:nvPicPr>
        <p:blipFill>
          <a:blip r:embed="rId2"/>
          <a:stretch/>
        </p:blipFill>
        <p:spPr>
          <a:xfrm>
            <a:off x="5737320" y="2170080"/>
            <a:ext cx="2162160" cy="32148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6"/>
          <p:cNvSpPr/>
          <p:nvPr/>
        </p:nvSpPr>
        <p:spPr>
          <a:xfrm>
            <a:off x="7099200" y="4716360"/>
            <a:ext cx="42876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7039080" y="3701880"/>
            <a:ext cx="35244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.7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162920" y="5051520"/>
            <a:ext cx="35244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7.6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6810480" y="4368960"/>
            <a:ext cx="352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.3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7396200" y="4037040"/>
            <a:ext cx="352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.1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1"/>
          <p:cNvSpPr/>
          <p:nvPr/>
        </p:nvSpPr>
        <p:spPr>
          <a:xfrm>
            <a:off x="6215040" y="2362320"/>
            <a:ext cx="352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7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6145200" y="3035160"/>
            <a:ext cx="35244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noAutofit/>
          </a:bodyPr>
          <a:p>
            <a:pPr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.5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Object 58" descr=""/>
          <p:cNvPicPr/>
          <p:nvPr/>
        </p:nvPicPr>
        <p:blipFill>
          <a:blip r:embed="rId3"/>
          <a:stretch/>
        </p:blipFill>
        <p:spPr>
          <a:xfrm>
            <a:off x="1254240" y="2125800"/>
            <a:ext cx="4271760" cy="324324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59"/>
          <p:cNvSpPr/>
          <p:nvPr/>
        </p:nvSpPr>
        <p:spPr>
          <a:xfrm>
            <a:off x="920880" y="5005440"/>
            <a:ext cx="86040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bt Serv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60"/>
          <p:cNvSpPr/>
          <p:nvPr/>
        </p:nvSpPr>
        <p:spPr>
          <a:xfrm>
            <a:off x="1058760" y="4743360"/>
            <a:ext cx="72720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aratrans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62"/>
          <p:cNvSpPr/>
          <p:nvPr/>
        </p:nvSpPr>
        <p:spPr>
          <a:xfrm>
            <a:off x="1305000" y="4316400"/>
            <a:ext cx="47628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63"/>
          <p:cNvSpPr/>
          <p:nvPr/>
        </p:nvSpPr>
        <p:spPr>
          <a:xfrm>
            <a:off x="527040" y="3882960"/>
            <a:ext cx="12542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mploye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iree Healthc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65"/>
          <p:cNvSpPr/>
          <p:nvPr/>
        </p:nvSpPr>
        <p:spPr>
          <a:xfrm>
            <a:off x="1163520" y="3630600"/>
            <a:ext cx="61776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n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67"/>
          <p:cNvSpPr/>
          <p:nvPr/>
        </p:nvSpPr>
        <p:spPr>
          <a:xfrm>
            <a:off x="1074600" y="2982960"/>
            <a:ext cx="70668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/OTP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53"/>
          <p:cNvSpPr/>
          <p:nvPr/>
        </p:nvSpPr>
        <p:spPr>
          <a:xfrm>
            <a:off x="1474920" y="2293920"/>
            <a:ext cx="30636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P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31"/>
          <p:cNvSpPr/>
          <p:nvPr/>
        </p:nvSpPr>
        <p:spPr>
          <a:xfrm>
            <a:off x="468360" y="3348000"/>
            <a:ext cx="14191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2060"/>
                </a:solidFill>
                <a:uFillTx/>
                <a:latin typeface="Arial"/>
                <a:ea typeface="ＭＳ Ｐゴシック"/>
              </a:rPr>
              <a:t>Non-Discretion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32"/>
          <p:cNvSpPr/>
          <p:nvPr/>
        </p:nvSpPr>
        <p:spPr>
          <a:xfrm>
            <a:off x="457200" y="2670120"/>
            <a:ext cx="14191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2060"/>
                </a:solidFill>
                <a:uFillTx/>
                <a:latin typeface="Arial"/>
                <a:ea typeface="ＭＳ Ｐゴシック"/>
              </a:rPr>
              <a:t>Discretion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traight Connector 10"/>
          <p:cNvSpPr/>
          <p:nvPr/>
        </p:nvSpPr>
        <p:spPr>
          <a:xfrm>
            <a:off x="5956200" y="2044800"/>
            <a:ext cx="0" cy="31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traight Connector 16"/>
          <p:cNvSpPr/>
          <p:nvPr/>
        </p:nvSpPr>
        <p:spPr>
          <a:xfrm>
            <a:off x="1951200" y="2041560"/>
            <a:ext cx="0" cy="318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1"/>
          <p:cNvSpPr/>
          <p:nvPr/>
        </p:nvSpPr>
        <p:spPr>
          <a:xfrm>
            <a:off x="6578640" y="64692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0694B-3512-486C-BE52-F45BD63575C0}" type="slidenum">
              <a:rPr b="0" lang="en-US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1"/>
          <p:cNvSpPr/>
          <p:nvPr/>
        </p:nvSpPr>
        <p:spPr>
          <a:xfrm>
            <a:off x="6578640" y="64692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F0E3F-802B-43CE-AFFE-F8E7DB09C21C}" type="slidenum">
              <a:rPr b="0" lang="en-US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Object 5" descr=""/>
          <p:cNvPicPr/>
          <p:nvPr/>
        </p:nvPicPr>
        <p:blipFill>
          <a:blip r:embed="rId1"/>
          <a:stretch/>
        </p:blipFill>
        <p:spPr>
          <a:xfrm>
            <a:off x="1317600" y="1473120"/>
            <a:ext cx="7369200" cy="36864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3"/>
          <p:cNvSpPr/>
          <p:nvPr/>
        </p:nvSpPr>
        <p:spPr>
          <a:xfrm>
            <a:off x="7878600" y="5126040"/>
            <a:ext cx="61128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venue from 2013/2015 Fare/Toll Increas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7932600" y="3581280"/>
            <a:ext cx="50004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4b4b"/>
                </a:solidFill>
                <a:latin typeface="Calibri"/>
                <a:ea typeface="Arial"/>
              </a:rPr>
              <a:t>$1,74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7010280" y="5126040"/>
            <a:ext cx="75420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on-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scretionar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Expens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7134120" y="1600200"/>
            <a:ext cx="50004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4b4b"/>
                </a:solidFill>
                <a:latin typeface="Calibri"/>
                <a:ea typeface="Arial"/>
              </a:rPr>
              <a:t>$4,57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7086600" y="2930400"/>
            <a:ext cx="655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" rIns="144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,20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6284880" y="5126040"/>
            <a:ext cx="612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5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venu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rom 2013/201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are/Toll Increas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6413400" y="4156200"/>
            <a:ext cx="37620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898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5621400" y="5126040"/>
            <a:ext cx="345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5508720" y="3594240"/>
            <a:ext cx="55872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1,72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18"/>
          <p:cNvSpPr/>
          <p:nvPr/>
        </p:nvSpPr>
        <p:spPr>
          <a:xfrm>
            <a:off x="4703760" y="5126040"/>
            <a:ext cx="5810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14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venue from 201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re/Toll Increas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4816440" y="4479840"/>
            <a:ext cx="37476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46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15"/>
          <p:cNvSpPr/>
          <p:nvPr/>
        </p:nvSpPr>
        <p:spPr>
          <a:xfrm>
            <a:off x="4019400" y="5126040"/>
            <a:ext cx="3463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16"/>
          <p:cNvSpPr/>
          <p:nvPr/>
        </p:nvSpPr>
        <p:spPr>
          <a:xfrm>
            <a:off x="3933720" y="3876840"/>
            <a:ext cx="55908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1,34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22"/>
          <p:cNvSpPr/>
          <p:nvPr/>
        </p:nvSpPr>
        <p:spPr>
          <a:xfrm>
            <a:off x="3105000" y="5126040"/>
            <a:ext cx="58284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13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venue from 201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re/Toll Increas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18"/>
          <p:cNvSpPr/>
          <p:nvPr/>
        </p:nvSpPr>
        <p:spPr>
          <a:xfrm>
            <a:off x="3218040" y="4549680"/>
            <a:ext cx="37620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38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19"/>
          <p:cNvSpPr/>
          <p:nvPr/>
        </p:nvSpPr>
        <p:spPr>
          <a:xfrm>
            <a:off x="2425680" y="5126040"/>
            <a:ext cx="345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20"/>
          <p:cNvSpPr/>
          <p:nvPr/>
        </p:nvSpPr>
        <p:spPr>
          <a:xfrm>
            <a:off x="2336760" y="4132440"/>
            <a:ext cx="5587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98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21"/>
          <p:cNvSpPr/>
          <p:nvPr/>
        </p:nvSpPr>
        <p:spPr>
          <a:xfrm>
            <a:off x="2498760" y="4608360"/>
            <a:ext cx="201600" cy="1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" rIns="144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1628640" y="5126040"/>
            <a:ext cx="3477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23"/>
          <p:cNvSpPr/>
          <p:nvPr/>
        </p:nvSpPr>
        <p:spPr>
          <a:xfrm>
            <a:off x="1585800" y="4422600"/>
            <a:ext cx="43344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52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26"/>
          <p:cNvSpPr/>
          <p:nvPr/>
        </p:nvSpPr>
        <p:spPr>
          <a:xfrm>
            <a:off x="453960" y="274680"/>
            <a:ext cx="82328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posed Fare &amp; toll increases cover on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8% of non-discretionary expense grow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14"/>
          <p:cNvSpPr/>
          <p:nvPr/>
        </p:nvSpPr>
        <p:spPr>
          <a:xfrm>
            <a:off x="6900840" y="5859360"/>
            <a:ext cx="18273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|-------Cumulative-------|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Increase Over 201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1" name="Group 134"/>
          <p:cNvGrpSpPr/>
          <p:nvPr/>
        </p:nvGrpSpPr>
        <p:grpSpPr>
          <a:xfrm>
            <a:off x="392040" y="4437000"/>
            <a:ext cx="920880" cy="733680"/>
            <a:chOff x="392040" y="4437000"/>
            <a:chExt cx="920880" cy="733680"/>
          </a:xfrm>
        </p:grpSpPr>
        <p:grpSp>
          <p:nvGrpSpPr>
            <p:cNvPr id="132" name="Group 48"/>
            <p:cNvGrpSpPr/>
            <p:nvPr/>
          </p:nvGrpSpPr>
          <p:grpSpPr>
            <a:xfrm>
              <a:off x="392040" y="4460760"/>
              <a:ext cx="204840" cy="649080"/>
              <a:chOff x="392040" y="4460760"/>
              <a:chExt cx="204840" cy="649080"/>
            </a:xfrm>
          </p:grpSpPr>
          <p:sp>
            <p:nvSpPr>
              <p:cNvPr id="133" name="Rectangle 33"/>
              <p:cNvSpPr/>
              <p:nvPr/>
            </p:nvSpPr>
            <p:spPr>
              <a:xfrm>
                <a:off x="392040" y="5008320"/>
                <a:ext cx="203400" cy="101520"/>
              </a:xfrm>
              <a:prstGeom prst="rect">
                <a:avLst/>
              </a:prstGeom>
              <a:solidFill>
                <a:srgbClr val="274f77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" name="Rectangle 34"/>
              <p:cNvSpPr/>
              <p:nvPr/>
            </p:nvSpPr>
            <p:spPr>
              <a:xfrm>
                <a:off x="392040" y="4875120"/>
                <a:ext cx="203400" cy="99720"/>
              </a:xfrm>
              <a:prstGeom prst="rect">
                <a:avLst/>
              </a:prstGeom>
              <a:solidFill>
                <a:srgbClr val="6a83b6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" name="Rectangle 35"/>
              <p:cNvSpPr/>
              <p:nvPr/>
            </p:nvSpPr>
            <p:spPr>
              <a:xfrm>
                <a:off x="392040" y="4740120"/>
                <a:ext cx="203400" cy="99720"/>
              </a:xfrm>
              <a:prstGeom prst="rect">
                <a:avLst/>
              </a:prstGeom>
              <a:solidFill>
                <a:srgbClr val="abb9d5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" name="Rectangle 36"/>
              <p:cNvSpPr/>
              <p:nvPr/>
            </p:nvSpPr>
            <p:spPr>
              <a:xfrm>
                <a:off x="392040" y="4603320"/>
                <a:ext cx="203400" cy="101520"/>
              </a:xfrm>
              <a:prstGeom prst="rect">
                <a:avLst/>
              </a:prstGeom>
              <a:solidFill>
                <a:srgbClr val="6fa17e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" name="Rectangle 37"/>
              <p:cNvSpPr/>
              <p:nvPr/>
            </p:nvSpPr>
            <p:spPr>
              <a:xfrm>
                <a:off x="393480" y="4460760"/>
                <a:ext cx="203400" cy="101520"/>
              </a:xfrm>
              <a:prstGeom prst="rect">
                <a:avLst/>
              </a:prstGeom>
              <a:solidFill>
                <a:srgbClr val="b9d1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8" name="TextBox 122"/>
            <p:cNvSpPr/>
            <p:nvPr/>
          </p:nvSpPr>
          <p:spPr>
            <a:xfrm>
              <a:off x="574200" y="4970160"/>
              <a:ext cx="738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ebt Service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TextBox 125"/>
            <p:cNvSpPr/>
            <p:nvPr/>
          </p:nvSpPr>
          <p:spPr>
            <a:xfrm>
              <a:off x="570960" y="4841640"/>
              <a:ext cx="738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aratransi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TextBox 126"/>
            <p:cNvSpPr/>
            <p:nvPr/>
          </p:nvSpPr>
          <p:spPr>
            <a:xfrm>
              <a:off x="570960" y="4706280"/>
              <a:ext cx="738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nergy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TextBox 127"/>
            <p:cNvSpPr/>
            <p:nvPr/>
          </p:nvSpPr>
          <p:spPr>
            <a:xfrm>
              <a:off x="574200" y="4580280"/>
              <a:ext cx="738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Healthcare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TextBox 128"/>
            <p:cNvSpPr/>
            <p:nvPr/>
          </p:nvSpPr>
          <p:spPr>
            <a:xfrm>
              <a:off x="574200" y="4437000"/>
              <a:ext cx="738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ensions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3" name="Rectangle 4"/>
          <p:cNvSpPr/>
          <p:nvPr/>
        </p:nvSpPr>
        <p:spPr>
          <a:xfrm>
            <a:off x="3953520" y="1066680"/>
            <a:ext cx="1040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$ million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40"/>
          <p:cNvSpPr/>
          <p:nvPr/>
        </p:nvSpPr>
        <p:spPr>
          <a:xfrm>
            <a:off x="1335240" y="2549520"/>
            <a:ext cx="51418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53735"/>
                </a:solidFill>
                <a:latin typeface="Arial"/>
                <a:ea typeface="Arial"/>
              </a:rPr>
              <a:t>$ increase in non-discretionary cost over 201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Object 9" descr=""/>
          <p:cNvPicPr/>
          <p:nvPr/>
        </p:nvPicPr>
        <p:blipFill>
          <a:blip r:embed="rId1"/>
          <a:stretch/>
        </p:blipFill>
        <p:spPr>
          <a:xfrm>
            <a:off x="1440" y="1440"/>
            <a:ext cx="1800" cy="18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728200" cy="117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crease in unidentified savings targets offse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impact of Sandy</a:t>
            </a:r>
            <a:br>
              <a:rPr sz="2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$ in million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6578640" y="64674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74B06-2B84-4415-BF33-3414638C8453}" type="slidenum">
              <a:rPr b="0" lang="en-US" sz="14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Chart 1" descr=""/>
          <p:cNvPicPr/>
          <p:nvPr/>
        </p:nvPicPr>
        <p:blipFill>
          <a:blip r:embed="rId2"/>
          <a:stretch/>
        </p:blipFill>
        <p:spPr>
          <a:xfrm>
            <a:off x="501480" y="1219320"/>
            <a:ext cx="8413920" cy="5022720"/>
          </a:xfrm>
          <a:prstGeom prst="rect">
            <a:avLst/>
          </a:prstGeom>
          <a:ln w="0">
            <a:noFill/>
          </a:ln>
        </p:spPr>
      </p:pic>
      <p:grpSp>
        <p:nvGrpSpPr>
          <p:cNvPr id="149" name="Group 10"/>
          <p:cNvGrpSpPr/>
          <p:nvPr/>
        </p:nvGrpSpPr>
        <p:grpSpPr>
          <a:xfrm>
            <a:off x="1584360" y="3502080"/>
            <a:ext cx="1371600" cy="1447920"/>
            <a:chOff x="1584360" y="3502080"/>
            <a:chExt cx="1371600" cy="1447920"/>
          </a:xfrm>
        </p:grpSpPr>
        <p:sp>
          <p:nvSpPr>
            <p:cNvPr id="150" name="Rounded Rectangle 4"/>
            <p:cNvSpPr/>
            <p:nvPr/>
          </p:nvSpPr>
          <p:spPr>
            <a:xfrm>
              <a:off x="1584360" y="3502080"/>
              <a:ext cx="1295640" cy="1447920"/>
            </a:xfrm>
            <a:custGeom>
              <a:avLst/>
              <a:gdLst>
                <a:gd name="textAreaLeft" fmla="*/ 63000 w 1295640"/>
                <a:gd name="textAreaRight" fmla="*/ 1232640 w 1295640"/>
                <a:gd name="textAreaTop" fmla="*/ 63000 h 1447920"/>
                <a:gd name="textAreaBottom" fmla="*/ 1384920 h 1447920"/>
              </a:gdLst>
              <a:ahLst/>
              <a:rect l="textAreaLeft" t="textAreaTop" r="textAreaRight" b="textAreaBottom"/>
              <a:pathLst>
                <a:path w="21600" h="24138">
                  <a:moveTo>
                    <a:pt x="3600" y="0"/>
                  </a:moveTo>
                  <a:arcTo wR="3600" hR="3600" stAng="16200000" swAng="-5400000"/>
                  <a:lnTo>
                    <a:pt x="0" y="20538"/>
                  </a:lnTo>
                  <a:arcTo wR="3600" hR="3600" stAng="10800000" swAng="-5400000"/>
                  <a:lnTo>
                    <a:pt x="18000" y="2413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eece1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51" name="Group 5"/>
            <p:cNvGrpSpPr/>
            <p:nvPr/>
          </p:nvGrpSpPr>
          <p:grpSpPr>
            <a:xfrm>
              <a:off x="1660320" y="3502080"/>
              <a:ext cx="1295640" cy="1371600"/>
              <a:chOff x="1660320" y="3502080"/>
              <a:chExt cx="1295640" cy="1371600"/>
            </a:xfrm>
          </p:grpSpPr>
          <p:sp>
            <p:nvSpPr>
              <p:cNvPr id="152" name="TextBox 2"/>
              <p:cNvSpPr/>
              <p:nvPr/>
            </p:nvSpPr>
            <p:spPr>
              <a:xfrm>
                <a:off x="1660320" y="3502080"/>
                <a:ext cx="1295640" cy="137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344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  <a:ea typeface="Arial"/>
                  </a:rPr>
                  <a:t>July Pla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344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urplu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344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fici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344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344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  <a:ea typeface="Arial"/>
                  </a:rPr>
                  <a:t>November Pla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344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urplu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344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fici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" name="Rectangle 3"/>
              <p:cNvSpPr/>
              <p:nvPr/>
            </p:nvSpPr>
            <p:spPr>
              <a:xfrm>
                <a:off x="1888920" y="4489920"/>
                <a:ext cx="118800" cy="11880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" name="Rectangle 6"/>
              <p:cNvSpPr/>
              <p:nvPr/>
            </p:nvSpPr>
            <p:spPr>
              <a:xfrm>
                <a:off x="1884240" y="3759120"/>
                <a:ext cx="118800" cy="118800"/>
              </a:xfrm>
              <a:prstGeom prst="rect">
                <a:avLst/>
              </a:prstGeom>
              <a:solidFill>
                <a:srgbClr val="4f62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" name="Rectangle 7"/>
              <p:cNvSpPr/>
              <p:nvPr/>
            </p:nvSpPr>
            <p:spPr>
              <a:xfrm>
                <a:off x="1888920" y="3934080"/>
                <a:ext cx="118800" cy="1188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" name="Rectangle 8"/>
              <p:cNvSpPr/>
              <p:nvPr/>
            </p:nvSpPr>
            <p:spPr>
              <a:xfrm>
                <a:off x="1888920" y="4678920"/>
                <a:ext cx="118800" cy="11880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2760" y="334440"/>
            <a:ext cx="8520120" cy="8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MTA is continuing to follow its Plan, but risks rema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946080" y="906480"/>
            <a:ext cx="7664400" cy="602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ederal support at expected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aster relie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-going capital support in light of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scal cliff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conomic uncertain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cal economy as affected by Sand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tional economy remains wea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tinued receipt of PMT or comparable reven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ccessful execution of Financial Plan strate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hieve net-zero labor settle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inued cost redu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ed fare/toll increases in 2013 and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ng-term vulnerabil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sualty risks to the system; ability to fund mitigation invest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mployee and retiree healthcare cos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ns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ilding and protecting critical financial reserv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6578640" y="648000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7C66B-7B15-42BA-A0CC-8CC25BECEC5E}" type="slidenum">
              <a:rPr b="0" lang="en-US" sz="1400" spc="-1" strike="noStrike">
                <a:solidFill>
                  <a:srgbClr val="7f7f7f"/>
                </a:solidFill>
                <a:latin typeface="Calibri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05560" cy="102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ince July 2010, our Plans have been consistent, disciplined, and totally transpar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8428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nuous, significant annually recurring  cost cut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 budget-driven service reduc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ree years of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t zero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ion wage growth (already achieved four years of non-union zero wage growth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nue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iennial fare and toll increases as plan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e have not used the fare/toll option as a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lug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to address unfavorable financial develop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ncrease liquidity while addressing long-term healthcare, pension and debt service vulnerabili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5791320" y="649116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Calibri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8080" y="351000"/>
            <a:ext cx="8727840" cy="13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uly Plan was balanced through 2013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ith manageable out-year deficits</a:t>
            </a:r>
            <a:br>
              <a:rPr sz="28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$  million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65530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AF49C-4608-47FC-AF48-31387ACE31FD}" type="slidenum">
              <a:rPr b="0" lang="en-US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Chart 1" descr=""/>
          <p:cNvPicPr/>
          <p:nvPr/>
        </p:nvPicPr>
        <p:blipFill>
          <a:blip r:embed="rId1"/>
          <a:stretch/>
        </p:blipFill>
        <p:spPr>
          <a:xfrm>
            <a:off x="365040" y="1447920"/>
            <a:ext cx="8413920" cy="467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17040" y="1322280"/>
            <a:ext cx="8526600" cy="47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0">
              <a:spcBef>
                <a:spcPts val="1074"/>
              </a:spcBef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avorable chang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Font typeface="Arial"/>
              <a:buChar char="-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Lower debt service expens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dditional paratransit saving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Lower Agency spending (real and timing)/higher revenu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igher net subsid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spcBef>
                <a:spcPts val="1800"/>
              </a:spcBef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nfavorable chang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Font typeface="Arial"/>
              <a:buChar char="-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igher health and welfare cost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lnSpc>
                <a:spcPct val="100000"/>
              </a:lnSpc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igher overtime expens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ncrease in electric power cost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ayroll cash flow adjustment in 2014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spcBef>
                <a:spcPts val="1074"/>
              </a:spcBef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7280" indent="0" algn="ctr">
              <a:lnSpc>
                <a:spcPct val="100000"/>
              </a:lnSpc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d then came Sandy . .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Placeholder 2"/>
          <p:cNvSpPr/>
          <p:nvPr/>
        </p:nvSpPr>
        <p:spPr>
          <a:xfrm>
            <a:off x="647640" y="503280"/>
            <a:ext cx="78408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has changed since the July Pla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65530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F04F5-D241-488B-91F3-8FE70F014204}" type="slidenum">
              <a:rPr b="0" lang="en-US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nancial Impact of Sand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990720"/>
            <a:ext cx="81532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87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lculation and estimation of Sandy-related losses is ongoing; too early to have more than highly provisional estima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rly estimates of losses are $5 bill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76360" indent="-289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frastructure damage : $4.75 bill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7636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perating losses (lost revenue and increased operating costs): $268 mill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287280" indent="-287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sses covered by combination of insurance, federal programs (including FEMA) and MTA resour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576360" indent="-289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frastructure damage: After insurance ($1.075 billion maximum coverage) and standard FEMA (75%) recoveries,  an estimated $950 million of infrastructure damage may need to be covered by MTA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576360" indent="-289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perating losses: anticipate substantial recoveries from business interruption/extra expense  insurance coverage and FEM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ile we expect to receive advances from insurers and the Federal Government, final settlement could take 2 to 3 yea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7636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perating losses will hit 2012 budg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7636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ulti-year infrastructure expenditures will begin immediately and bridge loan financing will be necessary until reimbursement is receiv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Footer Placeholder 3"/>
          <p:cNvSpPr/>
          <p:nvPr/>
        </p:nvSpPr>
        <p:spPr>
          <a:xfrm>
            <a:off x="579132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act on Financial Plan spans multiple years: 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708120" y="958680"/>
            <a:ext cx="8588160" cy="574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2012 expected to be closed on a 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elf-sustaining  basis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July projected Y/E cash balance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$ 47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2012 Sandy los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ff0000"/>
                </a:solidFill>
                <a:latin typeface="Arial"/>
                <a:ea typeface="Arial"/>
              </a:rPr>
              <a:t>(268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Agency underspending (real and timing)/higher revenue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51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Debt service saving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36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Net subsidy increas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Other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 4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ff0000"/>
                </a:solidFill>
                <a:latin typeface="Arial"/>
                <a:ea typeface="Arial"/>
              </a:rPr>
              <a:t>(</a:t>
            </a:r>
            <a:r>
              <a:rPr b="0" lang="en-US" sz="17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$112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Release remaining General Reserv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63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Internal OPEB Loan (to be repaid in 2015)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75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November projected Y/E cash balance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$26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Reimbursement expected 2013 to 201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FEMA to cover 100% of Sandy-related expenses incurred through 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November 14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Business interruption/extra expense insurance anticipated to cover 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substantial portion of remaining  loss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Footer Placeholder 3"/>
          <p:cNvSpPr/>
          <p:nvPr/>
        </p:nvSpPr>
        <p:spPr>
          <a:xfrm>
            <a:off x="579132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act on Financial Plan spans multiple years: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013 and beyo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83808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nfrastructure losses will require external borrowing, increasing annual debt servi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suming  $2.9 billion of anticipation notes issued in 2013 and $1.9 billion issued in 2014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9 million in 2013 and $48 million in 2014 and 2015 until notes are repaid from insurance or federal reimbursements or proceeds of bon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suming $950 million of 30 year bonds issued in 2016 to take out $950 million of anticipation notes not repaid from insurance or federal reimburs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$62 million annual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dditional cost cutting will be required to offset this in the Financial Plan: annual recurring MTA efficiency targets raised by $25 million in 2013 increasing to $75 million in 2015; unidentified at this tim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1"/>
          <p:cNvSpPr/>
          <p:nvPr/>
        </p:nvSpPr>
        <p:spPr>
          <a:xfrm>
            <a:off x="6578640" y="64692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2E9FC-B5A9-4F72-A6CA-1F0834758ACB}" type="slidenum">
              <a:rPr b="0" lang="en-US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gnificant elements of the November 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09480" y="761760"/>
            <a:ext cx="838224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Funds the operating and financing costs associated with Sandy through additional unidentified cost reduc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Retains the MTA service investments announced in July that improve coverage to existing markets and deliver service to new market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ncludes $250 million annually beginning in 2015 in support of the 2015-2019 Capital Program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ded with debt service savings from the 2012 refundings and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-estimates of interest rates and cash flows from re-baselining of E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ncreases General Reserve and OPEB deposit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ncreases annual recurring savings targets, achieving $1.2 billion in 2016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Continues three years of net-zero wage growth for represented employee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2013/2015 Fare/toll increases are consistent with the July Pla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Footer Placeholder 3"/>
          <p:cNvSpPr/>
          <p:nvPr/>
        </p:nvSpPr>
        <p:spPr>
          <a:xfrm>
            <a:off x="5802480" y="64627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1"/>
          <p:cNvSpPr/>
          <p:nvPr/>
        </p:nvSpPr>
        <p:spPr>
          <a:xfrm>
            <a:off x="6553080" y="645624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1A1AF-4C37-499C-ABED-5530E1753D8F}" type="slidenum">
              <a:rPr b="0" lang="en-US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Chart 4" descr=""/>
          <p:cNvPicPr/>
          <p:nvPr/>
        </p:nvPicPr>
        <p:blipFill>
          <a:blip r:embed="rId1"/>
          <a:stretch/>
        </p:blipFill>
        <p:spPr>
          <a:xfrm>
            <a:off x="693720" y="1473120"/>
            <a:ext cx="7756560" cy="4778280"/>
          </a:xfrm>
          <a:prstGeom prst="rect">
            <a:avLst/>
          </a:prstGeom>
          <a:ln w="0">
            <a:noFill/>
          </a:ln>
        </p:spPr>
      </p:pic>
      <p:sp>
        <p:nvSpPr>
          <p:cNvPr id="75" name="TextBox 3"/>
          <p:cNvSpPr/>
          <p:nvPr/>
        </p:nvSpPr>
        <p:spPr>
          <a:xfrm>
            <a:off x="0" y="274680"/>
            <a:ext cx="9144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November Plan relies on same key elements as the July 2010</a:t>
            </a:r>
            <a:r>
              <a:rPr b="1" lang="en-US" sz="21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Pla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Arial"/>
              </a:rPr>
              <a:t>Deficits totaling $333 million remain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2"/>
          <p:cNvSpPr/>
          <p:nvPr/>
        </p:nvSpPr>
        <p:spPr>
          <a:xfrm>
            <a:off x="3594240" y="110016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$ million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5T19:59:45Z</dcterms:created>
  <dc:creator>Fredericka Cuenca</dc:creator>
  <dc:description/>
  <dc:language>en-US</dc:language>
  <cp:lastModifiedBy>Jim Michaels</cp:lastModifiedBy>
  <cp:lastPrinted>2012-11-27T21:12:46Z</cp:lastPrinted>
  <dcterms:modified xsi:type="dcterms:W3CDTF">2012-11-28T18:03:50Z</dcterms:modified>
  <cp:revision>190</cp:revision>
  <dc:subject/>
  <dc:title>PowerPoint Presentation</dc:title>
</cp:coreProperties>
</file>