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D3AE-EFCD-4061-BC90-C456919FFA3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50BF-409F-4217-89DD-2C2F5C7A3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89480"/>
            <a:ext cx="5764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B2FD-151C-45E0-B185-B52DC3B40E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1ABB-56FB-4694-9C98-4AE7B3DDB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BD36-C710-49CC-A868-E9C6BBA9A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9993-8540-41D3-A34F-EF44D75AA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9587-CD6B-440C-8C4D-A7A6D37E2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C667-0E42-4A53-AA03-D4ED84226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6DFA-36A3-4F4A-91EF-BFE189516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4724-53D7-47A2-9390-9005C7182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7B1E-0140-4B55-A875-F0F4576AA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0628-D3DD-449C-8483-116985F10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5311-330B-48B1-9C1A-959303C68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9F8E-3DBD-464C-8C3E-51BAF6CF6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C7E3-F3F6-485C-8B26-AC0F147D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296F-15F9-49E8-A58A-36C4A156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DC57-A7BA-4FD6-A102-CACC6432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C38-A63C-4CCE-B8E5-4DB4B709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344-5596-43BF-A07F-EECC4779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D77-1935-4D9C-B691-C75DFF85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917-D2F8-44BF-A54B-38FFD376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B80-626C-41B2-B959-57C00CE8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F3F-FF8C-4DCE-8E6E-0FE697F8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9C0B-FAF8-41B9-9FD2-4B6E3915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B489-615A-497F-8568-833B2301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DF0F-A2C4-47A9-8BB0-0BBD8911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53EF-CFBD-4A06-BC62-5D8E41C542B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lide2shift-blumeat.jpg"/>
          <p:cNvPicPr/>
          <p:nvPr/>
        </p:nvPicPr>
        <p:blipFill>
          <a:blip r:embed="rId2"/>
          <a:stretch/>
        </p:blipFill>
        <p:spPr>
          <a:xfrm>
            <a:off x="0" y="551340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c"/>
                </a:solidFill>
                <a:latin typeface="Calibri"/>
              </a:rPr>
              <a:t>Metropolitan Transportation Authority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9c"/>
                </a:solidFill>
                <a:latin typeface="Arial"/>
                <a:ea typeface="Arial"/>
              </a:rPr>
              <a:t>November Financial Plan 2013 -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ember 28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Slide2shift-blumeatlg.jpg"/>
          <p:cNvPicPr/>
          <p:nvPr/>
        </p:nvPicPr>
        <p:blipFill>
          <a:blip r:embed="rId1"/>
          <a:stretch/>
        </p:blipFill>
        <p:spPr>
          <a:xfrm>
            <a:off x="0" y="482112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44360" cy="139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 hidden="1"/>
          <p:cNvSpPr/>
          <p:nvPr/>
        </p:nvSpPr>
        <p:spPr>
          <a:xfrm>
            <a:off x="0" y="0"/>
            <a:ext cx="144360" cy="13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1868400" y="1363680"/>
            <a:ext cx="5673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unded Annual Growth Rate (CAG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336600" y="318960"/>
            <a:ext cx="84582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discretionary expenses are increasing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flation and discretionary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1984320" y="1631880"/>
            <a:ext cx="56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119560" y="1704960"/>
            <a:ext cx="275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6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915080" y="1730520"/>
            <a:ext cx="2156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1927080" y="1687680"/>
            <a:ext cx="298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2 Final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295280" y="5484960"/>
            <a:ext cx="7054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nel Service / Other Than Personnel Service.  This reflects adjustments to remove Service Investments, New Needs, Regulatory Increases, Mega Projects and CPI Increases at the conclusion of 3 Net-Zeros.  Without these adjustments, the increases are 0.3% from 2011 to 2012 and 2.1% from 2011 to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ject 46" descr=""/>
          <p:cNvPicPr/>
          <p:nvPr/>
        </p:nvPicPr>
        <p:blipFill>
          <a:blip r:embed="rId2"/>
          <a:stretch/>
        </p:blipFill>
        <p:spPr>
          <a:xfrm>
            <a:off x="5737320" y="2170080"/>
            <a:ext cx="2162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099200" y="4716360"/>
            <a:ext cx="4287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039080" y="3701880"/>
            <a:ext cx="352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162920" y="505152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10480" y="436896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6200" y="403704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215040" y="236232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45200" y="303516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58" descr=""/>
          <p:cNvPicPr/>
          <p:nvPr/>
        </p:nvPicPr>
        <p:blipFill>
          <a:blip r:embed="rId3"/>
          <a:stretch/>
        </p:blipFill>
        <p:spPr>
          <a:xfrm>
            <a:off x="1254240" y="2125800"/>
            <a:ext cx="4271760" cy="3243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9"/>
          <p:cNvSpPr/>
          <p:nvPr/>
        </p:nvSpPr>
        <p:spPr>
          <a:xfrm>
            <a:off x="920880" y="5005440"/>
            <a:ext cx="8604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b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1058760" y="4743360"/>
            <a:ext cx="727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atran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305000" y="4316400"/>
            <a:ext cx="476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527040" y="3882960"/>
            <a:ext cx="125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ree Health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1163520" y="3630600"/>
            <a:ext cx="617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1074600" y="2982960"/>
            <a:ext cx="7066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/OTP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474920" y="2293920"/>
            <a:ext cx="306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8360" y="334800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Non-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57200" y="267012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0"/>
          <p:cNvSpPr/>
          <p:nvPr/>
        </p:nvSpPr>
        <p:spPr>
          <a:xfrm>
            <a:off x="5956200" y="204480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6"/>
          <p:cNvSpPr/>
          <p:nvPr/>
        </p:nvSpPr>
        <p:spPr>
          <a:xfrm>
            <a:off x="1951200" y="204156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38BE-E2AD-4D9F-90A4-32E85F5530B1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DAC5-EDC3-4912-AB20-A93CE8F17B14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1317600" y="1473120"/>
            <a:ext cx="7369200" cy="3686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878600" y="5126040"/>
            <a:ext cx="6112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 from 2013/2015 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932600" y="358128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4b4b"/>
                </a:solidFill>
                <a:latin typeface="Calibri"/>
                <a:ea typeface="Arial"/>
              </a:rPr>
              <a:t>$1,7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010280" y="5126040"/>
            <a:ext cx="7542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n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134120" y="160020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b4b"/>
                </a:solidFill>
                <a:latin typeface="Calibri"/>
                <a:ea typeface="Arial"/>
              </a:rPr>
              <a:t>$4,5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086600" y="2930400"/>
            <a:ext cx="6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,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84880" y="5126040"/>
            <a:ext cx="61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om 2013/20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13400" y="415620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8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62140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508720" y="3594240"/>
            <a:ext cx="558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7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703760" y="5126040"/>
            <a:ext cx="581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16440" y="4479840"/>
            <a:ext cx="3747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46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019400" y="5126040"/>
            <a:ext cx="346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933720" y="3876840"/>
            <a:ext cx="559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3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105000" y="5126040"/>
            <a:ext cx="58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218040" y="454968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3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42568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2336760" y="4132440"/>
            <a:ext cx="55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2498760" y="4608360"/>
            <a:ext cx="201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628640" y="5126040"/>
            <a:ext cx="3477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1585800" y="4422600"/>
            <a:ext cx="43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5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53960" y="274680"/>
            <a:ext cx="823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Fare &amp; toll increases cover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% of non-discretionary expense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900840" y="5859360"/>
            <a:ext cx="182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|-------Cumulative-------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ase Over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134"/>
          <p:cNvGrpSpPr/>
          <p:nvPr/>
        </p:nvGrpSpPr>
        <p:grpSpPr>
          <a:xfrm>
            <a:off x="392040" y="4437000"/>
            <a:ext cx="920880" cy="733680"/>
            <a:chOff x="392040" y="4437000"/>
            <a:chExt cx="920880" cy="733680"/>
          </a:xfrm>
        </p:grpSpPr>
        <p:grpSp>
          <p:nvGrpSpPr>
            <p:cNvPr id="132" name="Group 48"/>
            <p:cNvGrpSpPr/>
            <p:nvPr/>
          </p:nvGrpSpPr>
          <p:grpSpPr>
            <a:xfrm>
              <a:off x="392040" y="4460760"/>
              <a:ext cx="204840" cy="649080"/>
              <a:chOff x="392040" y="4460760"/>
              <a:chExt cx="204840" cy="649080"/>
            </a:xfrm>
          </p:grpSpPr>
          <p:sp>
            <p:nvSpPr>
              <p:cNvPr id="133" name="Rectangle 33"/>
              <p:cNvSpPr/>
              <p:nvPr/>
            </p:nvSpPr>
            <p:spPr>
              <a:xfrm>
                <a:off x="392040" y="5008320"/>
                <a:ext cx="203400" cy="101520"/>
              </a:xfrm>
              <a:prstGeom prst="rect">
                <a:avLst/>
              </a:prstGeom>
              <a:solidFill>
                <a:srgbClr val="274f7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34"/>
              <p:cNvSpPr/>
              <p:nvPr/>
            </p:nvSpPr>
            <p:spPr>
              <a:xfrm>
                <a:off x="392040" y="4875120"/>
                <a:ext cx="203400" cy="99720"/>
              </a:xfrm>
              <a:prstGeom prst="rect">
                <a:avLst/>
              </a:prstGeom>
              <a:solidFill>
                <a:srgbClr val="6a83b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392040" y="4740120"/>
                <a:ext cx="203400" cy="99720"/>
              </a:xfrm>
              <a:prstGeom prst="rect">
                <a:avLst/>
              </a:prstGeom>
              <a:solidFill>
                <a:srgbClr val="abb9d5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36"/>
              <p:cNvSpPr/>
              <p:nvPr/>
            </p:nvSpPr>
            <p:spPr>
              <a:xfrm>
                <a:off x="392040" y="4603320"/>
                <a:ext cx="203400" cy="101520"/>
              </a:xfrm>
              <a:prstGeom prst="rect">
                <a:avLst/>
              </a:prstGeom>
              <a:solidFill>
                <a:srgbClr val="6fa17e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7"/>
              <p:cNvSpPr/>
              <p:nvPr/>
            </p:nvSpPr>
            <p:spPr>
              <a:xfrm>
                <a:off x="393480" y="4460760"/>
                <a:ext cx="203400" cy="101520"/>
              </a:xfrm>
              <a:prstGeom prst="rect">
                <a:avLst/>
              </a:prstGeom>
              <a:solidFill>
                <a:srgbClr val="b9d1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Box 122"/>
            <p:cNvSpPr/>
            <p:nvPr/>
          </p:nvSpPr>
          <p:spPr>
            <a:xfrm>
              <a:off x="574200" y="497016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bt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25"/>
            <p:cNvSpPr/>
            <p:nvPr/>
          </p:nvSpPr>
          <p:spPr>
            <a:xfrm>
              <a:off x="570960" y="484164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transi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26"/>
            <p:cNvSpPr/>
            <p:nvPr/>
          </p:nvSpPr>
          <p:spPr>
            <a:xfrm>
              <a:off x="570960" y="4706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27"/>
            <p:cNvSpPr/>
            <p:nvPr/>
          </p:nvSpPr>
          <p:spPr>
            <a:xfrm>
              <a:off x="574200" y="4580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c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28"/>
            <p:cNvSpPr/>
            <p:nvPr/>
          </p:nvSpPr>
          <p:spPr>
            <a:xfrm>
              <a:off x="574200" y="443700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ion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3953520" y="1066680"/>
            <a:ext cx="10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1335240" y="2549520"/>
            <a:ext cx="5141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53735"/>
                </a:solidFill>
                <a:latin typeface="Arial"/>
                <a:ea typeface="Arial"/>
              </a:rPr>
              <a:t>$ increase in non-discretionary cost ov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9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2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unidentified savings targets off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Sandy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78640" y="64674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4368-11DB-487E-A72F-857A921EF19E}" type="slidenum">
              <a:rPr b="0" lang="en-US" sz="14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hart 1" descr=""/>
          <p:cNvPicPr/>
          <p:nvPr/>
        </p:nvPicPr>
        <p:blipFill>
          <a:blip r:embed="rId2"/>
          <a:stretch/>
        </p:blipFill>
        <p:spPr>
          <a:xfrm>
            <a:off x="501480" y="1219320"/>
            <a:ext cx="8413920" cy="5022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0"/>
          <p:cNvGrpSpPr/>
          <p:nvPr/>
        </p:nvGrpSpPr>
        <p:grpSpPr>
          <a:xfrm>
            <a:off x="1584360" y="3502080"/>
            <a:ext cx="1371600" cy="1447920"/>
            <a:chOff x="1584360" y="3502080"/>
            <a:chExt cx="1371600" cy="1447920"/>
          </a:xfrm>
        </p:grpSpPr>
        <p:sp>
          <p:nvSpPr>
            <p:cNvPr id="150" name="Rounded Rectangle 4"/>
            <p:cNvSpPr/>
            <p:nvPr/>
          </p:nvSpPr>
          <p:spPr>
            <a:xfrm>
              <a:off x="1584360" y="3502080"/>
              <a:ext cx="1295640" cy="14479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447920"/>
                <a:gd name="textAreaBottom" fmla="*/ 1384920 h 1447920"/>
              </a:gdLst>
              <a:ahLst/>
              <a:rect l="textAreaLeft" t="textAreaTop" r="textAreaRight" b="textAreaBottom"/>
              <a:pathLst>
                <a:path w="21600" h="24138">
                  <a:moveTo>
                    <a:pt x="3600" y="0"/>
                  </a:moveTo>
                  <a:arcTo wR="3600" hR="3600" stAng="16200000" swAng="-5400000"/>
                  <a:lnTo>
                    <a:pt x="0" y="20538"/>
                  </a:lnTo>
                  <a:arcTo wR="3600" hR="3600" stAng="10800000" swAng="-5400000"/>
                  <a:lnTo>
                    <a:pt x="18000" y="24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ce1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Group 5"/>
            <p:cNvGrpSpPr/>
            <p:nvPr/>
          </p:nvGrpSpPr>
          <p:grpSpPr>
            <a:xfrm>
              <a:off x="1660320" y="3502080"/>
              <a:ext cx="1295640" cy="1371600"/>
              <a:chOff x="1660320" y="3502080"/>
              <a:chExt cx="1295640" cy="1371600"/>
            </a:xfrm>
          </p:grpSpPr>
          <p:sp>
            <p:nvSpPr>
              <p:cNvPr id="152" name="TextBox 2"/>
              <p:cNvSpPr/>
              <p:nvPr/>
            </p:nvSpPr>
            <p:spPr>
              <a:xfrm>
                <a:off x="1660320" y="3502080"/>
                <a:ext cx="1295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July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Novemb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3"/>
              <p:cNvSpPr/>
              <p:nvPr/>
            </p:nvSpPr>
            <p:spPr>
              <a:xfrm>
                <a:off x="1888920" y="4489920"/>
                <a:ext cx="118800" cy="118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6"/>
              <p:cNvSpPr/>
              <p:nvPr/>
            </p:nvSpPr>
            <p:spPr>
              <a:xfrm>
                <a:off x="1884240" y="3759120"/>
                <a:ext cx="118800" cy="118800"/>
              </a:xfrm>
              <a:prstGeom prst="rect">
                <a:avLst/>
              </a:prstGeom>
              <a:solidFill>
                <a:srgbClr val="4f62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7"/>
              <p:cNvSpPr/>
              <p:nvPr/>
            </p:nvSpPr>
            <p:spPr>
              <a:xfrm>
                <a:off x="1888920" y="3934080"/>
                <a:ext cx="118800" cy="1188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1888920" y="4678920"/>
                <a:ext cx="118800" cy="11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60" y="334440"/>
            <a:ext cx="85201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TA is continuing to follow its Plan, but risks re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46080" y="906480"/>
            <a:ext cx="76644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support at expected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ster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 capital support in ligh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scal cli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certai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economy as affected by 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economy remains w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d receipt of PMT or comparable reven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execution of Financial Pla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hieve net-zero labor sett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d cost red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ed fare/toll increases in 2013 and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ualty risks to the system; ability to fund mitigation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and retiree healthcare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protecting critical financial reser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78640" y="6480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4EE6-022E-4A26-843D-0B048B80FC4C}" type="slidenum">
              <a:rPr b="0" lang="en-US" sz="1400" spc="-1" strike="noStrike">
                <a:solidFill>
                  <a:srgbClr val="7f7f7f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July 2010, our Plans have been consistent, disciplined, and totally transpa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28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, significant annually recurring  cost cu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budget-driven service re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years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 zer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ion wage growth (already achieved four years of non-union zero wage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nnial fare and toll increas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not used the fare/toll option a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address unfavorable financial develop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liquidity while addressing long-term healthcare, pension and debt service vulner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5791320" y="64911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8080" y="351000"/>
            <a:ext cx="87278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Plan was balanced through 20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manageable out-year deficit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$  millio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8FAF-F9EA-408E-8338-C49CF37F2F06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365040" y="1447920"/>
            <a:ext cx="84139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7040" y="1322280"/>
            <a:ext cx="8526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debt service expe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paratransit sav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Agency spending (real and timing)/higher reven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ne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800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health and welfare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overtime expen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in electric power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yroll cash flow adjustment in 201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280" indent="0" algn="ctr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n came Sandy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647640" y="503280"/>
            <a:ext cx="7840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s changed since the July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F49B-AE97-410C-9590-CAED6B17CD4B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mpact of San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and estimation of Sandy-related losses is ongoing; too early to have more than highly provisional estim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stimates of losses are $5 bill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 : $4.75 b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(lost revenue and increased operating costs): $268 m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ses covered by combination of insurance, federal programs (including FEMA) and MTA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: After insurance ($1.075 billion maximum coverage) and standard FEMA (75%) recoveries,  an estimated $950 million of infrastructure damage may need to be covered by M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: anticipate substantial recoveries from business interruption/extra expense  insurance coverage and FE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we expect to receive advances from insurers and the Federal Government, final settlement could take 2 to 3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will hit 2012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year infrastructure expenditures will begin immediately and bridge loan financing will be necessary until reimbursement is recei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8120" y="958680"/>
            <a:ext cx="85881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2 expected to be closed on a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sustaining  basi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July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4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Sandy lo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26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gency underspending (real and timing)/higher revenu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5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rvice saving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et subsidy incre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1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11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lease remaining General Reserv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6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al OPEB Loan (to be repaid in 2015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$2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imbursement expected 2013 to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EMA to cover 100% of Sandy-related expenses incurred through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siness interruption/extra expense insurance anticipated to cover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stantial portion of remaining  los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3 and bey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rastructure losses will require external borrowing, increasing annual debt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 $2.9 billion of anticipation notes issued in 2013 and $1.9 billion issued in 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9 million in 2013 and $48 million in 2014 and 2015 until notes are repaid from insurance or federal reimbursements or proceeds of b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$950 million of 30 year bonds issued in 2016 to take out $950 million of anticipation notes not repaid from insurance or federal reimburs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2 million an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cutting will be required to offset this in the Financial Plan: annual recurring MTA efficiency targets raised by $25 million in 2013 increasing to $75 million in 2015; unidentified at this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8B30-A504-4E27-877E-CD87EED15A61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elements of the Novembe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761760"/>
            <a:ext cx="8382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ds the operating and financing costs associated with Sandy through additional unidentified cost redu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tains the MTA service investments announced in July that improve coverage to existing markets and deliver service to new mark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$250 million annually beginning in 2015 in support of the 2015-2019 Capital Progr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ed with debt service savings from the 2012 refundings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-estimates of interest rates and cash flows from re-baselining of 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General Reserve and OPEB depos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annual recurring savings targets, achieving $1.2 billion in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inues three years of net-zero wage growth for represented employe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13/2015 Fare/toll increases are consistent with the July Pl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5802480" y="64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6553080" y="645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FC20-7077-4371-90A6-A6FA35CEE226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93720" y="1473120"/>
            <a:ext cx="7756560" cy="477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746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vember Plan relies on same key elements as the July 2010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Deficits totaling $333 million remai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594240" y="1100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59:45Z</dcterms:created>
  <dc:creator>Fredericka Cuenca</dc:creator>
  <dc:description/>
  <dc:language>en-US</dc:language>
  <cp:lastModifiedBy>Jim Michaels</cp:lastModifiedBy>
  <cp:lastPrinted>2012-11-27T21:12:46Z</cp:lastPrinted>
  <dcterms:modified xsi:type="dcterms:W3CDTF">2012-11-28T18:03:50Z</dcterms:modified>
  <cp:revision>190</cp:revision>
  <dc:subject/>
  <dc:title>PowerPoint Presentation</dc:title>
</cp:coreProperties>
</file>