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ED8E-1903-499C-A623-69CB57F9475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8B90-4CAD-46B7-A1DE-92DBA9C5D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89480"/>
            <a:ext cx="5764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BEDB-09D6-45A1-A6B3-AC46002E1E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FD29-0D36-44A2-9F4F-A033CFD92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8A3A-4926-4416-881C-16FD0AEE8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F0BD-8824-45EC-8B04-8CBEABC7D2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D5D6-7E0A-4784-A36E-B885F0E61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506F-9699-4150-9D77-263CF00C8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BF1F-7BC6-4101-BEF5-81ED0301F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886C-CCF1-47A1-81FC-2C730B09E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5A8A-9C61-4856-A0F0-D4E8211062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60FB-B9F7-4501-9398-A54D0DAD7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2031-2E5D-4E59-8792-F66B3EA49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9671-98F0-47EB-9364-4C9FCDA34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8693-B3CA-4553-A61F-0D48FBF7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47E2-9113-41DA-85BB-72611E89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A5CA-1E93-4180-AC98-A291B18D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7121-1E6E-4CA3-9614-D592C8CF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C204-9E4F-4482-8157-524807AE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EE99-0AC1-4DE2-8D6F-B37EE6C5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70D1-4F0A-44D7-AE74-8B0D0628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B18-D87E-4BAE-8F58-1BC51CDD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572B-570C-4A51-8BDA-3718D583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2CE2-C100-401E-8F8E-C1A057D7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0F9A-21E1-474F-9060-D7C5BFB2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50B5-D908-454B-9A4B-2307C2AF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CF8C-0AD7-47B5-8544-7843196AA49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Slide2shift-blumeat.jpg"/>
          <p:cNvPicPr/>
          <p:nvPr/>
        </p:nvPicPr>
        <p:blipFill>
          <a:blip r:embed="rId2"/>
          <a:stretch/>
        </p:blipFill>
        <p:spPr>
          <a:xfrm>
            <a:off x="0" y="5513400"/>
            <a:ext cx="1344600" cy="13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0972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c"/>
                </a:solidFill>
                <a:latin typeface="Calibri"/>
              </a:rPr>
              <a:t>Metropolitan Transportation Authority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9c"/>
                </a:solidFill>
                <a:latin typeface="Arial"/>
                <a:ea typeface="Arial"/>
              </a:rPr>
              <a:t>November Financial Plan 2013 -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vember 28,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Slide2shift-blumeatlg.jpg"/>
          <p:cNvPicPr/>
          <p:nvPr/>
        </p:nvPicPr>
        <p:blipFill>
          <a:blip r:embed="rId1"/>
          <a:stretch/>
        </p:blipFill>
        <p:spPr>
          <a:xfrm>
            <a:off x="0" y="4821120"/>
            <a:ext cx="203688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44360" cy="1396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 hidden="1"/>
          <p:cNvSpPr/>
          <p:nvPr/>
        </p:nvSpPr>
        <p:spPr>
          <a:xfrm>
            <a:off x="0" y="0"/>
            <a:ext cx="144360" cy="13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1"/>
          <p:cNvSpPr/>
          <p:nvPr/>
        </p:nvSpPr>
        <p:spPr>
          <a:xfrm>
            <a:off x="1868400" y="1363680"/>
            <a:ext cx="56739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unded Annual Growth Rate (CAG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0"/>
          <p:cNvSpPr/>
          <p:nvPr/>
        </p:nvSpPr>
        <p:spPr>
          <a:xfrm>
            <a:off x="336600" y="318960"/>
            <a:ext cx="84582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discretionary expenses are increasing fa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inflation and discretionary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30"/>
          <p:cNvSpPr/>
          <p:nvPr/>
        </p:nvSpPr>
        <p:spPr>
          <a:xfrm>
            <a:off x="1984320" y="1631880"/>
            <a:ext cx="560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5119560" y="1704960"/>
            <a:ext cx="275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6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4915080" y="1730520"/>
            <a:ext cx="2156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40"/>
          <p:cNvSpPr/>
          <p:nvPr/>
        </p:nvSpPr>
        <p:spPr>
          <a:xfrm>
            <a:off x="1927080" y="1687680"/>
            <a:ext cx="298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2 Final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1295280" y="5484960"/>
            <a:ext cx="7054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nel Service / Other Than Personnel Service.  This reflects adjustments to remove Service Investments, New Needs, Regulatory Increases, Mega Projects and CPI Increases at the conclusion of 3 Net-Zeros.  Without these adjustments, the increases are 0.3% from 2011 to 2012 and 2.1% from 2011 to 2016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ject 46" descr=""/>
          <p:cNvPicPr/>
          <p:nvPr/>
        </p:nvPicPr>
        <p:blipFill>
          <a:blip r:embed="rId2"/>
          <a:stretch/>
        </p:blipFill>
        <p:spPr>
          <a:xfrm>
            <a:off x="5737320" y="2170080"/>
            <a:ext cx="2162160" cy="3214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7099200" y="4716360"/>
            <a:ext cx="4287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039080" y="3701880"/>
            <a:ext cx="3524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162920" y="505152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810480" y="436896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3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396200" y="403704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6215040" y="236232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145200" y="303516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.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Object 58" descr=""/>
          <p:cNvPicPr/>
          <p:nvPr/>
        </p:nvPicPr>
        <p:blipFill>
          <a:blip r:embed="rId3"/>
          <a:stretch/>
        </p:blipFill>
        <p:spPr>
          <a:xfrm>
            <a:off x="1254240" y="2125800"/>
            <a:ext cx="4271760" cy="3243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9"/>
          <p:cNvSpPr/>
          <p:nvPr/>
        </p:nvSpPr>
        <p:spPr>
          <a:xfrm>
            <a:off x="920880" y="5005440"/>
            <a:ext cx="8604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bt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60"/>
          <p:cNvSpPr/>
          <p:nvPr/>
        </p:nvSpPr>
        <p:spPr>
          <a:xfrm>
            <a:off x="1058760" y="4743360"/>
            <a:ext cx="727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atran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1305000" y="4316400"/>
            <a:ext cx="4762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3"/>
          <p:cNvSpPr/>
          <p:nvPr/>
        </p:nvSpPr>
        <p:spPr>
          <a:xfrm>
            <a:off x="527040" y="3882960"/>
            <a:ext cx="125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ploye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ree Health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65"/>
          <p:cNvSpPr/>
          <p:nvPr/>
        </p:nvSpPr>
        <p:spPr>
          <a:xfrm>
            <a:off x="1163520" y="3630600"/>
            <a:ext cx="6177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7"/>
          <p:cNvSpPr/>
          <p:nvPr/>
        </p:nvSpPr>
        <p:spPr>
          <a:xfrm>
            <a:off x="1074600" y="2982960"/>
            <a:ext cx="7066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/OTP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3"/>
          <p:cNvSpPr/>
          <p:nvPr/>
        </p:nvSpPr>
        <p:spPr>
          <a:xfrm>
            <a:off x="1474920" y="2293920"/>
            <a:ext cx="3063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1"/>
          <p:cNvSpPr/>
          <p:nvPr/>
        </p:nvSpPr>
        <p:spPr>
          <a:xfrm>
            <a:off x="468360" y="334800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Non-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2"/>
          <p:cNvSpPr/>
          <p:nvPr/>
        </p:nvSpPr>
        <p:spPr>
          <a:xfrm>
            <a:off x="457200" y="267012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10"/>
          <p:cNvSpPr/>
          <p:nvPr/>
        </p:nvSpPr>
        <p:spPr>
          <a:xfrm>
            <a:off x="5956200" y="2044800"/>
            <a:ext cx="0" cy="31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traight Connector 16"/>
          <p:cNvSpPr/>
          <p:nvPr/>
        </p:nvSpPr>
        <p:spPr>
          <a:xfrm>
            <a:off x="1951200" y="2041560"/>
            <a:ext cx="0" cy="31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DA36-2B03-4F8E-9B1E-962E75345077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A339-8E82-4FEC-B619-47512EE85B10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1"/>
          <a:stretch/>
        </p:blipFill>
        <p:spPr>
          <a:xfrm>
            <a:off x="1317600" y="1473120"/>
            <a:ext cx="7369200" cy="3686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7878600" y="5126040"/>
            <a:ext cx="6112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 from 2013/2015 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932600" y="358128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4b4b"/>
                </a:solidFill>
                <a:latin typeface="Calibri"/>
                <a:ea typeface="Arial"/>
              </a:rPr>
              <a:t>$1,7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010280" y="5126040"/>
            <a:ext cx="7542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n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scretionar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pen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134120" y="160020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4b4b"/>
                </a:solidFill>
                <a:latin typeface="Calibri"/>
                <a:ea typeface="Arial"/>
              </a:rPr>
              <a:t>$4,57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7086600" y="2930400"/>
            <a:ext cx="65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,2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6284880" y="5126040"/>
            <a:ext cx="612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rom 2013/20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413400" y="415620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89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562140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508720" y="3594240"/>
            <a:ext cx="558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7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4703760" y="5126040"/>
            <a:ext cx="581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4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4816440" y="4479840"/>
            <a:ext cx="3747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46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4019400" y="5126040"/>
            <a:ext cx="346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3933720" y="3876840"/>
            <a:ext cx="559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34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3105000" y="5126040"/>
            <a:ext cx="5828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3218040" y="454968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38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242568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2336760" y="4132440"/>
            <a:ext cx="55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98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2498760" y="4608360"/>
            <a:ext cx="201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628640" y="5126040"/>
            <a:ext cx="3477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1585800" y="4422600"/>
            <a:ext cx="43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52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453960" y="274680"/>
            <a:ext cx="8232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Fare &amp; toll increases cover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8% of non-discretionary expense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6900840" y="5859360"/>
            <a:ext cx="1827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|-------Cumulative-------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crease Over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oup 134"/>
          <p:cNvGrpSpPr/>
          <p:nvPr/>
        </p:nvGrpSpPr>
        <p:grpSpPr>
          <a:xfrm>
            <a:off x="392040" y="4437000"/>
            <a:ext cx="920880" cy="733680"/>
            <a:chOff x="392040" y="4437000"/>
            <a:chExt cx="920880" cy="733680"/>
          </a:xfrm>
        </p:grpSpPr>
        <p:grpSp>
          <p:nvGrpSpPr>
            <p:cNvPr id="132" name="Group 48"/>
            <p:cNvGrpSpPr/>
            <p:nvPr/>
          </p:nvGrpSpPr>
          <p:grpSpPr>
            <a:xfrm>
              <a:off x="392040" y="4460760"/>
              <a:ext cx="204840" cy="649080"/>
              <a:chOff x="392040" y="4460760"/>
              <a:chExt cx="204840" cy="649080"/>
            </a:xfrm>
          </p:grpSpPr>
          <p:sp>
            <p:nvSpPr>
              <p:cNvPr id="133" name="Rectangle 33"/>
              <p:cNvSpPr/>
              <p:nvPr/>
            </p:nvSpPr>
            <p:spPr>
              <a:xfrm>
                <a:off x="392040" y="5008320"/>
                <a:ext cx="203400" cy="101520"/>
              </a:xfrm>
              <a:prstGeom prst="rect">
                <a:avLst/>
              </a:prstGeom>
              <a:solidFill>
                <a:srgbClr val="274f7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Rectangle 34"/>
              <p:cNvSpPr/>
              <p:nvPr/>
            </p:nvSpPr>
            <p:spPr>
              <a:xfrm>
                <a:off x="392040" y="4875120"/>
                <a:ext cx="203400" cy="99720"/>
              </a:xfrm>
              <a:prstGeom prst="rect">
                <a:avLst/>
              </a:prstGeom>
              <a:solidFill>
                <a:srgbClr val="6a83b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Rectangle 35"/>
              <p:cNvSpPr/>
              <p:nvPr/>
            </p:nvSpPr>
            <p:spPr>
              <a:xfrm>
                <a:off x="392040" y="4740120"/>
                <a:ext cx="203400" cy="99720"/>
              </a:xfrm>
              <a:prstGeom prst="rect">
                <a:avLst/>
              </a:prstGeom>
              <a:solidFill>
                <a:srgbClr val="abb9d5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angle 36"/>
              <p:cNvSpPr/>
              <p:nvPr/>
            </p:nvSpPr>
            <p:spPr>
              <a:xfrm>
                <a:off x="392040" y="4603320"/>
                <a:ext cx="203400" cy="101520"/>
              </a:xfrm>
              <a:prstGeom prst="rect">
                <a:avLst/>
              </a:prstGeom>
              <a:solidFill>
                <a:srgbClr val="6fa17e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37"/>
              <p:cNvSpPr/>
              <p:nvPr/>
            </p:nvSpPr>
            <p:spPr>
              <a:xfrm>
                <a:off x="393480" y="4460760"/>
                <a:ext cx="203400" cy="101520"/>
              </a:xfrm>
              <a:prstGeom prst="rect">
                <a:avLst/>
              </a:prstGeom>
              <a:solidFill>
                <a:srgbClr val="b9d1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TextBox 122"/>
            <p:cNvSpPr/>
            <p:nvPr/>
          </p:nvSpPr>
          <p:spPr>
            <a:xfrm>
              <a:off x="574200" y="497016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bt Servic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125"/>
            <p:cNvSpPr/>
            <p:nvPr/>
          </p:nvSpPr>
          <p:spPr>
            <a:xfrm>
              <a:off x="570960" y="484164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ratransi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126"/>
            <p:cNvSpPr/>
            <p:nvPr/>
          </p:nvSpPr>
          <p:spPr>
            <a:xfrm>
              <a:off x="570960" y="4706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127"/>
            <p:cNvSpPr/>
            <p:nvPr/>
          </p:nvSpPr>
          <p:spPr>
            <a:xfrm>
              <a:off x="574200" y="4580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ealthca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Box 128"/>
            <p:cNvSpPr/>
            <p:nvPr/>
          </p:nvSpPr>
          <p:spPr>
            <a:xfrm>
              <a:off x="574200" y="443700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nsions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Rectangle 4"/>
          <p:cNvSpPr/>
          <p:nvPr/>
        </p:nvSpPr>
        <p:spPr>
          <a:xfrm>
            <a:off x="3953520" y="1066680"/>
            <a:ext cx="104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0"/>
          <p:cNvSpPr/>
          <p:nvPr/>
        </p:nvSpPr>
        <p:spPr>
          <a:xfrm>
            <a:off x="1335240" y="2549520"/>
            <a:ext cx="5141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53735"/>
                </a:solidFill>
                <a:latin typeface="Arial"/>
                <a:ea typeface="Arial"/>
              </a:rPr>
              <a:t>$ increase in non-discretionary cost ov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ject 9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7282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in unidentified savings targets offse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mpact of Sandy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in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78640" y="64674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EEF6-F5CB-4153-8B00-69D3FEEF531D}" type="slidenum">
              <a:rPr b="0" lang="en-US" sz="14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hart 1" descr=""/>
          <p:cNvPicPr/>
          <p:nvPr/>
        </p:nvPicPr>
        <p:blipFill>
          <a:blip r:embed="rId2"/>
          <a:stretch/>
        </p:blipFill>
        <p:spPr>
          <a:xfrm>
            <a:off x="501480" y="1219320"/>
            <a:ext cx="8413920" cy="502272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10"/>
          <p:cNvGrpSpPr/>
          <p:nvPr/>
        </p:nvGrpSpPr>
        <p:grpSpPr>
          <a:xfrm>
            <a:off x="1584360" y="3502080"/>
            <a:ext cx="1371600" cy="1447920"/>
            <a:chOff x="1584360" y="3502080"/>
            <a:chExt cx="1371600" cy="1447920"/>
          </a:xfrm>
        </p:grpSpPr>
        <p:sp>
          <p:nvSpPr>
            <p:cNvPr id="150" name="Rounded Rectangle 4"/>
            <p:cNvSpPr/>
            <p:nvPr/>
          </p:nvSpPr>
          <p:spPr>
            <a:xfrm>
              <a:off x="1584360" y="3502080"/>
              <a:ext cx="1295640" cy="1447920"/>
            </a:xfrm>
            <a:custGeom>
              <a:avLst/>
              <a:gdLst>
                <a:gd name="textAreaLeft" fmla="*/ 63000 w 1295640"/>
                <a:gd name="textAreaRight" fmla="*/ 1232640 w 1295640"/>
                <a:gd name="textAreaTop" fmla="*/ 63000 h 1447920"/>
                <a:gd name="textAreaBottom" fmla="*/ 1384920 h 1447920"/>
              </a:gdLst>
              <a:ahLst/>
              <a:rect l="textAreaLeft" t="textAreaTop" r="textAreaRight" b="textAreaBottom"/>
              <a:pathLst>
                <a:path w="21600" h="24138">
                  <a:moveTo>
                    <a:pt x="3600" y="0"/>
                  </a:moveTo>
                  <a:arcTo wR="3600" hR="3600" stAng="16200000" swAng="-5400000"/>
                  <a:lnTo>
                    <a:pt x="0" y="20538"/>
                  </a:lnTo>
                  <a:arcTo wR="3600" hR="3600" stAng="10800000" swAng="-5400000"/>
                  <a:lnTo>
                    <a:pt x="18000" y="241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eece1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1" name="Group 5"/>
            <p:cNvGrpSpPr/>
            <p:nvPr/>
          </p:nvGrpSpPr>
          <p:grpSpPr>
            <a:xfrm>
              <a:off x="1660320" y="3502080"/>
              <a:ext cx="1295640" cy="1371600"/>
              <a:chOff x="1660320" y="3502080"/>
              <a:chExt cx="1295640" cy="1371600"/>
            </a:xfrm>
          </p:grpSpPr>
          <p:sp>
            <p:nvSpPr>
              <p:cNvPr id="152" name="TextBox 2"/>
              <p:cNvSpPr/>
              <p:nvPr/>
            </p:nvSpPr>
            <p:spPr>
              <a:xfrm>
                <a:off x="1660320" y="3502080"/>
                <a:ext cx="129564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July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Novemb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Rectangle 3"/>
              <p:cNvSpPr/>
              <p:nvPr/>
            </p:nvSpPr>
            <p:spPr>
              <a:xfrm>
                <a:off x="1888920" y="4489920"/>
                <a:ext cx="118800" cy="118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Rectangle 6"/>
              <p:cNvSpPr/>
              <p:nvPr/>
            </p:nvSpPr>
            <p:spPr>
              <a:xfrm>
                <a:off x="1884240" y="3759120"/>
                <a:ext cx="118800" cy="118800"/>
              </a:xfrm>
              <a:prstGeom prst="rect">
                <a:avLst/>
              </a:prstGeom>
              <a:solidFill>
                <a:srgbClr val="4f62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Rectangle 7"/>
              <p:cNvSpPr/>
              <p:nvPr/>
            </p:nvSpPr>
            <p:spPr>
              <a:xfrm>
                <a:off x="1888920" y="3934080"/>
                <a:ext cx="118800" cy="1188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Rectangle 8"/>
              <p:cNvSpPr/>
              <p:nvPr/>
            </p:nvSpPr>
            <p:spPr>
              <a:xfrm>
                <a:off x="1888920" y="4678920"/>
                <a:ext cx="118800" cy="1188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2760" y="334440"/>
            <a:ext cx="85201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TA is continuing to follow its Plan, but risks rem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46080" y="906480"/>
            <a:ext cx="7664400" cy="60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 support at expected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aster reli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-going capital support in light of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scal clif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certain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economy as affected by Sa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economy remains w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d receipt of PMT or comparable reven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ccessful execution of Financial Pla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hieve net-zero labor settl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inued cost redu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ed fare/toll increases in 2013 and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ng-term vulner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ualty risks to the system; ability to fund mitigation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loyee and retiree healthcare co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and protecting critical financial reser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78640" y="64800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E723-16AF-4EF6-95C6-0B96A1A2A9E6}" type="slidenum">
              <a:rPr b="0" lang="en-US" sz="1400" spc="-1" strike="noStrike">
                <a:solidFill>
                  <a:srgbClr val="7f7f7f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ce July 2010, our Plans have been consistent, disciplined, and totally transpa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8428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ous, significant annually recurring  cost cu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budget-driven service redu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years of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 zer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ion wage growth (already achieved four years of non-union zero wage grow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ennial fare and toll increases as plan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not used the fare/toll option as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u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 address unfavorable financial develop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liquidity while addressing long-term healthcare, pension and debt service vulner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5791320" y="64911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8080" y="351000"/>
            <a:ext cx="872784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ly Plan was balanced through 201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manageable out-year deficits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$  million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59B0-9763-4CF5-BC63-1FFFA7B6C40C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hart 1" descr=""/>
          <p:cNvPicPr/>
          <p:nvPr/>
        </p:nvPicPr>
        <p:blipFill>
          <a:blip r:embed="rId1"/>
          <a:stretch/>
        </p:blipFill>
        <p:spPr>
          <a:xfrm>
            <a:off x="365040" y="1447920"/>
            <a:ext cx="841392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7040" y="1322280"/>
            <a:ext cx="8526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debt service expe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paratransit saving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Agency spending (real and timing)/higher reven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net subsi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800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health and welfare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overtime expen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in electric power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yroll cash flow adjustment in 2014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7280" indent="0" algn="ctr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then came Sandy . 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Placeholder 2"/>
          <p:cNvSpPr/>
          <p:nvPr/>
        </p:nvSpPr>
        <p:spPr>
          <a:xfrm>
            <a:off x="647640" y="503280"/>
            <a:ext cx="78408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has changed since the July Pl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6DD3-3CDB-4F08-A7A8-812716E97DD1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ncial Impact of San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ion and estimation of Sandy-related losses is ongoing; too early to have more than highly provisional estim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y estimates of losses are $5 bill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 : $4.75 b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(lost revenue and increased operating costs): $268 m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sses covered by combination of insurance, federal programs (including FEMA) and MTA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: After insurance ($1.075 billion maximum coverage) and standard FEMA (75%) recoveries,  an estimated $950 million of infrastructure damage may need to be covered by MT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: anticipate substantial recoveries from business interruption/extra expense  insurance coverage and FE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le we expect to receive advances from insurers and the Federal Government, final settlement could take 2 to 3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will hit 2012 budg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-year infrastructure expenditures will begin immediately and bridge loan financing will be necessary until reimbursement is recei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08120" y="958680"/>
            <a:ext cx="858816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012 expected to be closed on a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lf-sustaining  basi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July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4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2012 Sandy los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268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gency underspending (real and timing)/higher revenu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5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bt service saving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et subsidy increa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Othe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4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0" lang="en-US" sz="17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$112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lease remaining General Reserv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6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ternal OPEB Loan (to be repaid in 2015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7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$2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imbursement expected 2013 to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EMA to cover 100% of Sandy-related expenses incurred through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1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usiness interruption/extra expense insurance anticipated to cover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ubstantial portion of remaining  los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13 and beyo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frastructure losses will require external borrowing, increasing annual debt 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 $2.9 billion of anticipation notes issued in 2013 and $1.9 billion issued in 201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9 million in 2013 and $48 million in 2014 and 2015 until notes are repaid from insurance or federal reimbursements or proceeds of bo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$950 million of 30 year bonds issued in 2016 to take out $950 million of anticipation notes not repaid from insurance or federal reimburs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62 million an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cost cutting will be required to offset this in the Financial Plan: annual recurring MTA efficiency targets raised by $25 million in 2013 increasing to $75 million in 2015; unidentified at this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8B52-F66B-4A81-B83E-16C180BB49E7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ificant elements of the November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9480" y="761760"/>
            <a:ext cx="8382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nds the operating and financing costs associated with Sandy through additional unidentified cost reduc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tains the MTA service investments announced in July that improve coverage to existing markets and deliver service to new marke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ludes $250 million annually beginning in 2015 in support of the 2015-2019 Capital Progr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ed with debt service savings from the 2012 refundings and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-estimates of interest rates and cash flows from re-baselining of 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General Reserve and OPEB deposi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annual recurring savings targets, achieving $1.2 billion in 201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inues three years of net-zero wage growth for represented employe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013/2015 Fare/toll increases are consistent with the July Pla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3"/>
          <p:cNvSpPr/>
          <p:nvPr/>
        </p:nvSpPr>
        <p:spPr>
          <a:xfrm>
            <a:off x="5802480" y="6462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1"/>
          <p:cNvSpPr/>
          <p:nvPr/>
        </p:nvSpPr>
        <p:spPr>
          <a:xfrm>
            <a:off x="6553080" y="645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615D-883C-42BF-A6FB-D1270C618C27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hart 4" descr=""/>
          <p:cNvPicPr/>
          <p:nvPr/>
        </p:nvPicPr>
        <p:blipFill>
          <a:blip r:embed="rId1"/>
          <a:stretch/>
        </p:blipFill>
        <p:spPr>
          <a:xfrm>
            <a:off x="693720" y="1473120"/>
            <a:ext cx="7756560" cy="4778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0" y="2746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ovember Plan relies on same key elements as the July 2010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Deficits totaling $333 million remai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594240" y="110016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9:59:45Z</dcterms:created>
  <dc:creator>Fredericka Cuenca</dc:creator>
  <dc:description/>
  <dc:language>en-US</dc:language>
  <cp:lastModifiedBy>Jim Michaels</cp:lastModifiedBy>
  <cp:lastPrinted>2012-11-27T21:12:46Z</cp:lastPrinted>
  <dcterms:modified xsi:type="dcterms:W3CDTF">2012-11-28T18:03:50Z</dcterms:modified>
  <cp:revision>190</cp:revision>
  <dc:subject/>
  <dc:title>PowerPoint Presentation</dc:title>
</cp:coreProperties>
</file>