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B858-A8A3-4CB2-9031-19332AE4BC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D9B-98F6-432E-85A4-102AA06FF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89480"/>
            <a:ext cx="5764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EF3-E7D3-4C12-B80E-01A9C53658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8A13-559C-4E65-BF4E-6D93A3B37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409-2E84-4FD7-9E86-4DD88007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B49-A73C-4417-BA7E-7AB52D830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566-AD60-4A10-8A88-E5DC235F6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053-0E89-4996-AF52-EE6A85E2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9703-2421-408F-8B0F-92C5770A9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3ED2-7CB3-4014-B6E8-6C39A360E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B2F3-D3B7-428B-9893-B2662652F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57B4-3DC9-4EAC-89BB-D86D8A07C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429B-2AFB-4BFB-8312-A6398DDE4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3C6A-F413-45F7-8672-0174D52AFD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0AC-B03D-461D-9CF8-461AC294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A4A-F130-4D33-896F-4141F0B3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F37-7D66-439B-ABF8-18406F07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009-FCDF-4C19-8E82-EB932D83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CEA-227D-48F1-B069-35933DE7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4A7-21A7-49D0-91D2-CCDEF15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630-7B28-4E2F-A7E8-1D542DB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868-E3B7-449C-979E-57E17CD5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F34-985F-466C-8B62-5E800287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B0E-57ED-4BF2-B452-C071510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FAF-EB6E-4A8F-A675-20498A83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73-05A1-4B50-B31C-8D9DFD7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364-F9E9-4DF3-873B-58CC92974CB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lide2shift-blumeat.jpg"/>
          <p:cNvPicPr/>
          <p:nvPr/>
        </p:nvPicPr>
        <p:blipFill>
          <a:blip r:embed="rId2"/>
          <a:stretch/>
        </p:blipFill>
        <p:spPr>
          <a:xfrm>
            <a:off x="0" y="551340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c"/>
                </a:solidFill>
                <a:latin typeface="Calibri"/>
              </a:rPr>
              <a:t>Metropolitan Transportation Authority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9c"/>
                </a:solidFill>
                <a:latin typeface="Arial"/>
                <a:ea typeface="Arial"/>
              </a:rPr>
              <a:t>November Financial Plan 2013 -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vember 28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lide2shift-blumeatlg.jpg"/>
          <p:cNvPicPr/>
          <p:nvPr/>
        </p:nvPicPr>
        <p:blipFill>
          <a:blip r:embed="rId1"/>
          <a:stretch/>
        </p:blipFill>
        <p:spPr>
          <a:xfrm>
            <a:off x="0" y="4821120"/>
            <a:ext cx="203688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144360" cy="1396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 hidden="1"/>
          <p:cNvSpPr/>
          <p:nvPr/>
        </p:nvSpPr>
        <p:spPr>
          <a:xfrm>
            <a:off x="0" y="0"/>
            <a:ext cx="144360" cy="13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1"/>
          <p:cNvSpPr/>
          <p:nvPr/>
        </p:nvSpPr>
        <p:spPr>
          <a:xfrm>
            <a:off x="1868400" y="1363680"/>
            <a:ext cx="5673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ounded Annual Growth Rate (CAG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336600" y="318960"/>
            <a:ext cx="84582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-discretionary expenses are increasing fa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n inflation and discretionary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30"/>
          <p:cNvSpPr/>
          <p:nvPr/>
        </p:nvSpPr>
        <p:spPr>
          <a:xfrm>
            <a:off x="1984320" y="1631880"/>
            <a:ext cx="560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119560" y="1704960"/>
            <a:ext cx="275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6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4915080" y="1730520"/>
            <a:ext cx="21564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40"/>
          <p:cNvSpPr/>
          <p:nvPr/>
        </p:nvSpPr>
        <p:spPr>
          <a:xfrm>
            <a:off x="1927080" y="1687680"/>
            <a:ext cx="298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2011 Actual to 2012 Final Fore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295280" y="5484960"/>
            <a:ext cx="7054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nel Service / Other Than Personnel Service.  This reflects adjustments to remove Service Investments, New Needs, Regulatory Increases, Mega Projects and CPI Increases at the conclusion of 3 Net-Zeros.  Without these adjustments, the increases are 0.3% from 2011 to 2012 and 2.1% from 2011 to 201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ject 46" descr=""/>
          <p:cNvPicPr/>
          <p:nvPr/>
        </p:nvPicPr>
        <p:blipFill>
          <a:blip r:embed="rId2"/>
          <a:stretch/>
        </p:blipFill>
        <p:spPr>
          <a:xfrm>
            <a:off x="5737320" y="2170080"/>
            <a:ext cx="2162160" cy="3214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099200" y="4716360"/>
            <a:ext cx="4287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039080" y="3701880"/>
            <a:ext cx="3524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162920" y="505152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810480" y="436896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7396200" y="403704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6215040" y="2362320"/>
            <a:ext cx="352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6145200" y="3035160"/>
            <a:ext cx="3524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0" bIns="0" anchor="ctr">
            <a:noAutofit/>
          </a:bodyPr>
          <a:p>
            <a:pPr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.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58" descr=""/>
          <p:cNvPicPr/>
          <p:nvPr/>
        </p:nvPicPr>
        <p:blipFill>
          <a:blip r:embed="rId3"/>
          <a:stretch/>
        </p:blipFill>
        <p:spPr>
          <a:xfrm>
            <a:off x="1254240" y="2125800"/>
            <a:ext cx="4271760" cy="3243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9"/>
          <p:cNvSpPr/>
          <p:nvPr/>
        </p:nvSpPr>
        <p:spPr>
          <a:xfrm>
            <a:off x="920880" y="5005440"/>
            <a:ext cx="8604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b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60"/>
          <p:cNvSpPr/>
          <p:nvPr/>
        </p:nvSpPr>
        <p:spPr>
          <a:xfrm>
            <a:off x="1058760" y="4743360"/>
            <a:ext cx="727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atran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305000" y="4316400"/>
            <a:ext cx="476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63"/>
          <p:cNvSpPr/>
          <p:nvPr/>
        </p:nvSpPr>
        <p:spPr>
          <a:xfrm>
            <a:off x="527040" y="3882960"/>
            <a:ext cx="12542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ploye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ree Health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1163520" y="3630600"/>
            <a:ext cx="6177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7"/>
          <p:cNvSpPr/>
          <p:nvPr/>
        </p:nvSpPr>
        <p:spPr>
          <a:xfrm>
            <a:off x="1074600" y="2982960"/>
            <a:ext cx="7066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/OTP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1474920" y="2293920"/>
            <a:ext cx="306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1"/>
          <p:cNvSpPr/>
          <p:nvPr/>
        </p:nvSpPr>
        <p:spPr>
          <a:xfrm>
            <a:off x="468360" y="334800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Non-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2"/>
          <p:cNvSpPr/>
          <p:nvPr/>
        </p:nvSpPr>
        <p:spPr>
          <a:xfrm>
            <a:off x="457200" y="2670120"/>
            <a:ext cx="14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2060"/>
                </a:solidFill>
                <a:uFillTx/>
                <a:latin typeface="Arial"/>
                <a:ea typeface="ＭＳ Ｐゴシック"/>
              </a:rPr>
              <a:t>Discretio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traight Connector 10"/>
          <p:cNvSpPr/>
          <p:nvPr/>
        </p:nvSpPr>
        <p:spPr>
          <a:xfrm>
            <a:off x="5956200" y="204480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traight Connector 16"/>
          <p:cNvSpPr/>
          <p:nvPr/>
        </p:nvSpPr>
        <p:spPr>
          <a:xfrm>
            <a:off x="1951200" y="204156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CAF9-C61B-4EBF-BA40-D23C170278ED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57AD-1A3E-45A0-93CD-08925D278BBC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ject 5" descr=""/>
          <p:cNvPicPr/>
          <p:nvPr/>
        </p:nvPicPr>
        <p:blipFill>
          <a:blip r:embed="rId1"/>
          <a:stretch/>
        </p:blipFill>
        <p:spPr>
          <a:xfrm>
            <a:off x="1317600" y="1473120"/>
            <a:ext cx="7369200" cy="3686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7878600" y="5126040"/>
            <a:ext cx="6112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 from 2013/2015 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932600" y="358128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4b4b"/>
                </a:solidFill>
                <a:latin typeface="Calibri"/>
                <a:ea typeface="Arial"/>
              </a:rPr>
              <a:t>$1,7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010280" y="5126040"/>
            <a:ext cx="7542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cretionar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pen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134120" y="1600200"/>
            <a:ext cx="500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4b4b"/>
                </a:solidFill>
                <a:latin typeface="Calibri"/>
                <a:ea typeface="Arial"/>
              </a:rPr>
              <a:t>$4,57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086600" y="2930400"/>
            <a:ext cx="65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,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84880" y="5126040"/>
            <a:ext cx="612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en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om 2013/20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are/Toll Increas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413400" y="415620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89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562140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508720" y="3594240"/>
            <a:ext cx="558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7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703760" y="5126040"/>
            <a:ext cx="581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4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4816440" y="4479840"/>
            <a:ext cx="3747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46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4019400" y="5126040"/>
            <a:ext cx="346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933720" y="3876840"/>
            <a:ext cx="5590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1,34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3105000" y="5126040"/>
            <a:ext cx="5828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3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enue from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re/Toll Incre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3218040" y="4549680"/>
            <a:ext cx="37620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38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2425680" y="5126040"/>
            <a:ext cx="345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2336760" y="4132440"/>
            <a:ext cx="55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2498760" y="4608360"/>
            <a:ext cx="201600" cy="1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" rIns="144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628640" y="5126040"/>
            <a:ext cx="3477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1585800" y="4422600"/>
            <a:ext cx="43344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52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453960" y="274680"/>
            <a:ext cx="823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Fare &amp; toll increases cover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8% of non-discretionary expense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6900840" y="5859360"/>
            <a:ext cx="182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|-------Cumulative-------|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Increase Over 201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134"/>
          <p:cNvGrpSpPr/>
          <p:nvPr/>
        </p:nvGrpSpPr>
        <p:grpSpPr>
          <a:xfrm>
            <a:off x="392040" y="4437000"/>
            <a:ext cx="920880" cy="733680"/>
            <a:chOff x="392040" y="4437000"/>
            <a:chExt cx="920880" cy="733680"/>
          </a:xfrm>
        </p:grpSpPr>
        <p:grpSp>
          <p:nvGrpSpPr>
            <p:cNvPr id="132" name="Group 48"/>
            <p:cNvGrpSpPr/>
            <p:nvPr/>
          </p:nvGrpSpPr>
          <p:grpSpPr>
            <a:xfrm>
              <a:off x="392040" y="4460760"/>
              <a:ext cx="204840" cy="649080"/>
              <a:chOff x="392040" y="4460760"/>
              <a:chExt cx="204840" cy="649080"/>
            </a:xfrm>
          </p:grpSpPr>
          <p:sp>
            <p:nvSpPr>
              <p:cNvPr id="133" name="Rectangle 33"/>
              <p:cNvSpPr/>
              <p:nvPr/>
            </p:nvSpPr>
            <p:spPr>
              <a:xfrm>
                <a:off x="392040" y="5008320"/>
                <a:ext cx="203400" cy="101520"/>
              </a:xfrm>
              <a:prstGeom prst="rect">
                <a:avLst/>
              </a:prstGeom>
              <a:solidFill>
                <a:srgbClr val="274f7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34"/>
              <p:cNvSpPr/>
              <p:nvPr/>
            </p:nvSpPr>
            <p:spPr>
              <a:xfrm>
                <a:off x="392040" y="4875120"/>
                <a:ext cx="203400" cy="99720"/>
              </a:xfrm>
              <a:prstGeom prst="rect">
                <a:avLst/>
              </a:prstGeom>
              <a:solidFill>
                <a:srgbClr val="6a83b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35"/>
              <p:cNvSpPr/>
              <p:nvPr/>
            </p:nvSpPr>
            <p:spPr>
              <a:xfrm>
                <a:off x="392040" y="4740120"/>
                <a:ext cx="203400" cy="99720"/>
              </a:xfrm>
              <a:prstGeom prst="rect">
                <a:avLst/>
              </a:prstGeom>
              <a:solidFill>
                <a:srgbClr val="abb9d5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36"/>
              <p:cNvSpPr/>
              <p:nvPr/>
            </p:nvSpPr>
            <p:spPr>
              <a:xfrm>
                <a:off x="392040" y="4603320"/>
                <a:ext cx="203400" cy="101520"/>
              </a:xfrm>
              <a:prstGeom prst="rect">
                <a:avLst/>
              </a:prstGeom>
              <a:solidFill>
                <a:srgbClr val="6fa17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7"/>
              <p:cNvSpPr/>
              <p:nvPr/>
            </p:nvSpPr>
            <p:spPr>
              <a:xfrm>
                <a:off x="393480" y="4460760"/>
                <a:ext cx="203400" cy="101520"/>
              </a:xfrm>
              <a:prstGeom prst="rect">
                <a:avLst/>
              </a:prstGeom>
              <a:solidFill>
                <a:srgbClr val="b9d1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Box 122"/>
            <p:cNvSpPr/>
            <p:nvPr/>
          </p:nvSpPr>
          <p:spPr>
            <a:xfrm>
              <a:off x="574200" y="497016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bt Servic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125"/>
            <p:cNvSpPr/>
            <p:nvPr/>
          </p:nvSpPr>
          <p:spPr>
            <a:xfrm>
              <a:off x="570960" y="484164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aratransit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126"/>
            <p:cNvSpPr/>
            <p:nvPr/>
          </p:nvSpPr>
          <p:spPr>
            <a:xfrm>
              <a:off x="570960" y="4706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ergy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27"/>
            <p:cNvSpPr/>
            <p:nvPr/>
          </p:nvSpPr>
          <p:spPr>
            <a:xfrm>
              <a:off x="574200" y="458028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ealthcare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TextBox 128"/>
            <p:cNvSpPr/>
            <p:nvPr/>
          </p:nvSpPr>
          <p:spPr>
            <a:xfrm>
              <a:off x="574200" y="4437000"/>
              <a:ext cx="738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ensions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3953520" y="1066680"/>
            <a:ext cx="104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0"/>
          <p:cNvSpPr/>
          <p:nvPr/>
        </p:nvSpPr>
        <p:spPr>
          <a:xfrm>
            <a:off x="1335240" y="2549520"/>
            <a:ext cx="5141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53735"/>
                </a:solidFill>
                <a:latin typeface="Arial"/>
                <a:ea typeface="Arial"/>
              </a:rPr>
              <a:t>$ increase in non-discretionary cost ov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9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1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7282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 in unidentified savings targets offse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mpact of Sandy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in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78640" y="64674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ECB5-3A6B-48D0-B56D-32E699D75D2F}" type="slidenum">
              <a:rPr b="0" lang="en-US" sz="14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Chart 1" descr=""/>
          <p:cNvPicPr/>
          <p:nvPr/>
        </p:nvPicPr>
        <p:blipFill>
          <a:blip r:embed="rId2"/>
          <a:stretch/>
        </p:blipFill>
        <p:spPr>
          <a:xfrm>
            <a:off x="501480" y="1219320"/>
            <a:ext cx="8413920" cy="502272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10"/>
          <p:cNvGrpSpPr/>
          <p:nvPr/>
        </p:nvGrpSpPr>
        <p:grpSpPr>
          <a:xfrm>
            <a:off x="1584360" y="3502080"/>
            <a:ext cx="1371600" cy="1447920"/>
            <a:chOff x="1584360" y="3502080"/>
            <a:chExt cx="1371600" cy="1447920"/>
          </a:xfrm>
        </p:grpSpPr>
        <p:sp>
          <p:nvSpPr>
            <p:cNvPr id="150" name="Rounded Rectangle 4"/>
            <p:cNvSpPr/>
            <p:nvPr/>
          </p:nvSpPr>
          <p:spPr>
            <a:xfrm>
              <a:off x="1584360" y="3502080"/>
              <a:ext cx="1295640" cy="1447920"/>
            </a:xfrm>
            <a:custGeom>
              <a:avLst/>
              <a:gdLst>
                <a:gd name="textAreaLeft" fmla="*/ 63000 w 1295640"/>
                <a:gd name="textAreaRight" fmla="*/ 1232640 w 1295640"/>
                <a:gd name="textAreaTop" fmla="*/ 63000 h 1447920"/>
                <a:gd name="textAreaBottom" fmla="*/ 1384920 h 1447920"/>
              </a:gdLst>
              <a:ahLst/>
              <a:rect l="textAreaLeft" t="textAreaTop" r="textAreaRight" b="textAreaBottom"/>
              <a:pathLst>
                <a:path w="21600" h="24138">
                  <a:moveTo>
                    <a:pt x="3600" y="0"/>
                  </a:moveTo>
                  <a:arcTo wR="3600" hR="3600" stAng="16200000" swAng="-5400000"/>
                  <a:lnTo>
                    <a:pt x="0" y="20538"/>
                  </a:lnTo>
                  <a:arcTo wR="3600" hR="3600" stAng="10800000" swAng="-5400000"/>
                  <a:lnTo>
                    <a:pt x="18000" y="24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eece1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1" name="Group 5"/>
            <p:cNvGrpSpPr/>
            <p:nvPr/>
          </p:nvGrpSpPr>
          <p:grpSpPr>
            <a:xfrm>
              <a:off x="1660320" y="3502080"/>
              <a:ext cx="1295640" cy="1371600"/>
              <a:chOff x="1660320" y="3502080"/>
              <a:chExt cx="1295640" cy="1371600"/>
            </a:xfrm>
          </p:grpSpPr>
          <p:sp>
            <p:nvSpPr>
              <p:cNvPr id="152" name="TextBox 2"/>
              <p:cNvSpPr/>
              <p:nvPr/>
            </p:nvSpPr>
            <p:spPr>
              <a:xfrm>
                <a:off x="1660320" y="3502080"/>
                <a:ext cx="129564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July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Arial"/>
                  </a:rPr>
                  <a:t>Novemb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rplu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3445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ci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3"/>
              <p:cNvSpPr/>
              <p:nvPr/>
            </p:nvSpPr>
            <p:spPr>
              <a:xfrm>
                <a:off x="1888920" y="4489920"/>
                <a:ext cx="118800" cy="11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6"/>
              <p:cNvSpPr/>
              <p:nvPr/>
            </p:nvSpPr>
            <p:spPr>
              <a:xfrm>
                <a:off x="1884240" y="3759120"/>
                <a:ext cx="118800" cy="118800"/>
              </a:xfrm>
              <a:prstGeom prst="rect">
                <a:avLst/>
              </a:prstGeom>
              <a:solidFill>
                <a:srgbClr val="4f62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Rectangle 7"/>
              <p:cNvSpPr/>
              <p:nvPr/>
            </p:nvSpPr>
            <p:spPr>
              <a:xfrm>
                <a:off x="1888920" y="3934080"/>
                <a:ext cx="118800" cy="1188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Rectangle 8"/>
              <p:cNvSpPr/>
              <p:nvPr/>
            </p:nvSpPr>
            <p:spPr>
              <a:xfrm>
                <a:off x="1888920" y="4678920"/>
                <a:ext cx="118800" cy="11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760" y="334440"/>
            <a:ext cx="85201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TA is continuing to follow its Plan, but risks rem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46080" y="906480"/>
            <a:ext cx="7664400" cy="60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deral support at expected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aster reli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-going capital support in light of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scal cli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certain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economy as affected by 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economy remains w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ed receipt of PMT or comparable reven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cessful execution of Financial Pla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hieve net-zero labor sett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inued cost redu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ed fare/toll increases in 2013 and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-term vulner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ualty risks to the system; ability to fund mitigation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and retiree healthcare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and protecting critical financial reser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78640" y="64800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99FB-CC8A-4CE1-B504-266F39F0B163}" type="slidenum">
              <a:rPr b="0" lang="en-US" sz="1400" spc="-1" strike="noStrike">
                <a:solidFill>
                  <a:srgbClr val="7f7f7f"/>
                </a:solidFill>
                <a:latin typeface="Calibri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ce July 2010, our Plans have been consistent, disciplined, and totally transpa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8428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, significant annually recurring  cost cu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budget-driven service 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years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 zer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ion wage growth (already achieved four years of non-union zero wage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ennial fare and toll increases as plan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7120" indent="-289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not used the fare/toll option as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address unfavorable financial develop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liquidity while addressing long-term healthcare, pension and debt service vulner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5791320" y="64911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8080" y="351000"/>
            <a:ext cx="872784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Plan was balanced through 20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manageable out-year deficits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$  millio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46C9-2926-40C8-ADDA-16D39CF660A7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365040" y="1447920"/>
            <a:ext cx="84139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17040" y="1322280"/>
            <a:ext cx="85266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debt service expe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paratransit sav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er Agency spending (real and timing)/higher reven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net subsi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800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favorabl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539"/>
              </a:spcBef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health and welfare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gher overtime expen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crease in electric power cos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ayroll cash flow adjustment in 2014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spcBef>
                <a:spcPts val="1074"/>
              </a:spcBef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280" indent="0" algn="ctr">
              <a:lnSpc>
                <a:spcPct val="100000"/>
              </a:lnSpc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n came Sandy 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7280" indent="0">
              <a:buNone/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Placeholder 2"/>
          <p:cNvSpPr/>
          <p:nvPr/>
        </p:nvSpPr>
        <p:spPr>
          <a:xfrm>
            <a:off x="647640" y="503280"/>
            <a:ext cx="7840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has changed since the July Pl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8CA-50CB-4600-836B-D675E211166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ncial Impact of Sand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lation and estimation of Sandy-related losses is ongoing; too early to have more than highly provisional estim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rly estimates of losses are $5 bill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 : $4.75 b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(lost revenue and increased operating costs): $268 mill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sses covered by combination of insurance, federal programs (including FEMA) and MTA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 damage: After insurance ($1.075 billion maximum coverage) and standard FEMA (75%) recoveries,  an estimated $950 million of infrastructure damage may need to be covered by MT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576360" indent="-289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: anticipate substantial recoveries from business interruption/extra expense  insurance coverage and FE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le we expect to receive advances from insurers and the Federal Government, final settlement could take 2 to 3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rating losses will hit 2012 budg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76360" indent="-289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-year infrastructure expenditures will begin immediately and bridge loan financing will be necessary until reimbursement is recei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120" y="958680"/>
            <a:ext cx="858816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012 expected to be closed on a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lf-sustaining  basis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July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4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2012 Sandy los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26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gency underspending (real and timing)/higher revenu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5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rvice saving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3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et subsidy incre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4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0" lang="en-US" sz="17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$112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lease remaining General Reserv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6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ternal OPEB Loan (to be repaid in 2015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7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projected Y/E cash balan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$2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imbursement expected 2013 to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EMA to cover 100% of Sandy-related expenses incurred through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vember 1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usiness interruption/extra expense insurance anticipated to cover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stantial portion of remaining  los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57913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on Financial Plan spans multiple year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13 and beyo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83808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frastructure losses will require external borrowing, increasing annual debt serv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 $2.9 billion of anticipation notes issued in 2013 and $1.9 billion issued in 201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9 million in 2013 and $48 million in 2014 and 2015 until notes are repaid from insurance or federal reimbursements or proceeds of bo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ing $950 million of 30 year bonds issued in 2016 to take out $950 million of anticipation notes not repaid from insurance or federal reimburs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2 million an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cutting will be required to offset this in the Financial Plan: annual recurring MTA efficiency targets raised by $25 million in 2013 increasing to $75 million in 2015; unidentified at thi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1"/>
          <p:cNvSpPr/>
          <p:nvPr/>
        </p:nvSpPr>
        <p:spPr>
          <a:xfrm>
            <a:off x="6578640" y="6469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EC66-54CE-42DF-A70B-9A09E4660D19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elements of the November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480" y="761760"/>
            <a:ext cx="8382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ds the operating and financing costs associated with Sandy through additional unidentified cost redu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tains the MTA service investments announced in July that improve coverage to existing markets and deliver service to new marke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ludes $250 million annually beginning in 2015 in support of the 2015-2019 Capital Progra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ded with debt service savings from the 2012 refundings and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-estimates of interest rates and cash flows from re-baselining of E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General Reserve and OPEB deposi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creases annual recurring savings targets, achieving $1.2 billion in 201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ntinues three years of net-zero wage growth for represented employe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013/2015 Fare/toll increases are consistent with the July Pl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5802480" y="6462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1"/>
          <p:cNvSpPr/>
          <p:nvPr/>
        </p:nvSpPr>
        <p:spPr>
          <a:xfrm>
            <a:off x="6553080" y="64562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290F-AF83-4000-A7E4-70FB218EB524}" type="slidenum">
              <a:rPr b="0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4" descr=""/>
          <p:cNvPicPr/>
          <p:nvPr/>
        </p:nvPicPr>
        <p:blipFill>
          <a:blip r:embed="rId1"/>
          <a:stretch/>
        </p:blipFill>
        <p:spPr>
          <a:xfrm>
            <a:off x="693720" y="1473120"/>
            <a:ext cx="7756560" cy="4778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0" y="27468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vember Plan relies on same key elements as the July 2010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Arial"/>
              </a:rPr>
              <a:t>Deficits totaling $333 million remai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594240" y="110016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$ million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19:59:45Z</dcterms:created>
  <dc:creator>Fredericka Cuenca</dc:creator>
  <dc:description/>
  <dc:language>en-US</dc:language>
  <cp:lastModifiedBy>Jim Michaels</cp:lastModifiedBy>
  <cp:lastPrinted>2012-11-27T21:12:46Z</cp:lastPrinted>
  <dcterms:modified xsi:type="dcterms:W3CDTF">2012-11-28T18:03:50Z</dcterms:modified>
  <cp:revision>190</cp:revision>
  <dc:subject/>
  <dc:title>PowerPoint Presentation</dc:title>
</cp:coreProperties>
</file>