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7008813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7009200" cy="92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38400" cy="4618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970440" y="-360"/>
            <a:ext cx="3038400" cy="4618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9520" cy="3463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880" rIns="9288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8772120"/>
            <a:ext cx="3038400" cy="4618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970440" y="8772120"/>
            <a:ext cx="3038400" cy="4618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BA915-9678-4241-848D-E51E76C85E6F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7C373-2F5F-4252-B7F1-5650ED94D0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89480"/>
            <a:ext cx="5764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ＭＳ Ｐゴシック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0313D-D42E-4B7F-8191-F06BB82F07D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B5C4F-3CC9-4E89-A588-BB17B22CB9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947A5-F1F7-4280-B043-7C27C94E71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0D2C8-A5C9-486B-986E-455752D4F8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BB8BE-C76B-497C-AFB3-E1BF6349B0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17C65-B871-474A-8918-2F27E45109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0360E-D646-417C-92FC-C35244F6AC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01099-72D1-4729-A7A0-51FA8DBEF7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AD9EA-D12B-4CD7-AF13-8026C1395E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DB063-5DE9-4F61-B7EF-C37A195BC9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4A906-8F92-44D6-9DD2-A68CAC21E7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C0347-00D3-41AA-B7DA-D7F984D683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DC6A9-D1F9-4428-8244-74B2735DE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752CA-2533-4147-A143-0457874AD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3D8E1-EF4C-4232-8F69-0367BAE58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33B66-AD7B-4E52-B46D-D8EEBA359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3205C-A9A0-4AE1-8342-6C50E6A0B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59965-9A78-4738-A995-569A580E0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8EC72-E2BA-494C-8BE4-97F2EEAE6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507F8-FD94-4F9B-B943-285D5FA81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1BE83-72D1-4A6D-A487-23A5DADF9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8075F-F6E8-4166-A824-B4DD64E7C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0CF86-03BD-4225-B810-707EC448F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361F3-8872-4C70-A0A3-1F1D43ED5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0B134-CEEA-4E49-9631-B07714407D74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" name="Picture 7" descr="Slide2shift-blumeat.jpg"/>
          <p:cNvPicPr/>
          <p:nvPr/>
        </p:nvPicPr>
        <p:blipFill>
          <a:blip r:embed="rId2"/>
          <a:stretch/>
        </p:blipFill>
        <p:spPr>
          <a:xfrm>
            <a:off x="0" y="5513400"/>
            <a:ext cx="1344600" cy="1344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809720"/>
            <a:ext cx="7772400" cy="253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c"/>
                </a:solidFill>
                <a:latin typeface="Calibri"/>
              </a:rPr>
              <a:t>Metropolitan Transportation Authority</a:t>
            </a:r>
            <a:br>
              <a:rPr sz="3600"/>
            </a:br>
            <a:br>
              <a:rPr sz="3600"/>
            </a:br>
            <a:r>
              <a:rPr b="1" lang="en-US" sz="2800" spc="-1" strike="noStrike">
                <a:solidFill>
                  <a:srgbClr val="00009c"/>
                </a:solidFill>
                <a:latin typeface="Arial"/>
                <a:ea typeface="Arial"/>
              </a:rPr>
              <a:t>November Financial Plan 2013 - 201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525744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vember 28, 201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4" descr="Slide2shift-blumeatlg.jpg"/>
          <p:cNvPicPr/>
          <p:nvPr/>
        </p:nvPicPr>
        <p:blipFill>
          <a:blip r:embed="rId1"/>
          <a:stretch/>
        </p:blipFill>
        <p:spPr>
          <a:xfrm>
            <a:off x="0" y="4821120"/>
            <a:ext cx="2036880" cy="2036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144360" cy="13968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1" hidden="1"/>
          <p:cNvSpPr/>
          <p:nvPr/>
        </p:nvSpPr>
        <p:spPr>
          <a:xfrm>
            <a:off x="0" y="0"/>
            <a:ext cx="144360" cy="13968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ext Box 31"/>
          <p:cNvSpPr/>
          <p:nvPr/>
        </p:nvSpPr>
        <p:spPr>
          <a:xfrm>
            <a:off x="1868400" y="1363680"/>
            <a:ext cx="567396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mpounded Annual Growth Rate (CAGR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TextBox 20"/>
          <p:cNvSpPr/>
          <p:nvPr/>
        </p:nvSpPr>
        <p:spPr>
          <a:xfrm>
            <a:off x="336600" y="318960"/>
            <a:ext cx="845820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n-discretionary expenses are increasing fas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an inflation and discretionary spend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Straight Connector 30"/>
          <p:cNvSpPr/>
          <p:nvPr/>
        </p:nvSpPr>
        <p:spPr>
          <a:xfrm>
            <a:off x="1984320" y="1631880"/>
            <a:ext cx="560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Box 6"/>
          <p:cNvSpPr/>
          <p:nvPr/>
        </p:nvSpPr>
        <p:spPr>
          <a:xfrm>
            <a:off x="5119560" y="1704960"/>
            <a:ext cx="275436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2011 Actual to 2016 Forec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Rectangle 37"/>
          <p:cNvSpPr/>
          <p:nvPr/>
        </p:nvSpPr>
        <p:spPr>
          <a:xfrm>
            <a:off x="4915080" y="1730520"/>
            <a:ext cx="215640" cy="1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xtBox 40"/>
          <p:cNvSpPr/>
          <p:nvPr/>
        </p:nvSpPr>
        <p:spPr>
          <a:xfrm>
            <a:off x="1927080" y="1687680"/>
            <a:ext cx="29880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2011 Actual to 2012 Final Forec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5"/>
          <p:cNvSpPr/>
          <p:nvPr/>
        </p:nvSpPr>
        <p:spPr>
          <a:xfrm>
            <a:off x="1295280" y="5484960"/>
            <a:ext cx="705492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baseline="30000">
                <a:solidFill>
                  <a:srgbClr val="000000"/>
                </a:solidFill>
                <a:latin typeface="Arial"/>
                <a:ea typeface="ＭＳ Ｐゴシック"/>
              </a:rPr>
              <a:t>1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ersonnel Service / Other Than Personnel Service.  This reflects adjustments to remove Service Investments, New Needs, Regulatory Increases, Mega Projects and CPI Increases at the conclusion of 3 Net-Zeros.  Without these adjustments, the increases are 0.3% from 2011 to 2012 and 2.1% from 2011 to 2016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Object 46" descr=""/>
          <p:cNvPicPr/>
          <p:nvPr/>
        </p:nvPicPr>
        <p:blipFill>
          <a:blip r:embed="rId2"/>
          <a:stretch/>
        </p:blipFill>
        <p:spPr>
          <a:xfrm>
            <a:off x="5737320" y="2170080"/>
            <a:ext cx="2162160" cy="321480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6"/>
          <p:cNvSpPr/>
          <p:nvPr/>
        </p:nvSpPr>
        <p:spPr>
          <a:xfrm>
            <a:off x="7099200" y="4716360"/>
            <a:ext cx="428760" cy="1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360" rIns="1836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2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7039080" y="3701880"/>
            <a:ext cx="352440" cy="1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360" rIns="1836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6.7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7162920" y="5051520"/>
            <a:ext cx="352440" cy="1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360" rIns="1836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7.6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Rectangle 5"/>
          <p:cNvSpPr/>
          <p:nvPr/>
        </p:nvSpPr>
        <p:spPr>
          <a:xfrm>
            <a:off x="6810480" y="4368960"/>
            <a:ext cx="352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360" rIns="1836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5.3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Rectangle 4"/>
          <p:cNvSpPr/>
          <p:nvPr/>
        </p:nvSpPr>
        <p:spPr>
          <a:xfrm>
            <a:off x="7396200" y="4037040"/>
            <a:ext cx="352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360" rIns="1836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9.1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Rectangle 1"/>
          <p:cNvSpPr/>
          <p:nvPr/>
        </p:nvSpPr>
        <p:spPr>
          <a:xfrm>
            <a:off x="6215040" y="2362320"/>
            <a:ext cx="352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360" rIns="1836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.7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Rectangle 2"/>
          <p:cNvSpPr/>
          <p:nvPr/>
        </p:nvSpPr>
        <p:spPr>
          <a:xfrm>
            <a:off x="6145200" y="3035160"/>
            <a:ext cx="352440" cy="1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360" rIns="18360" tIns="0" bIns="0" anchor="ctr">
            <a:noAutofit/>
          </a:bodyPr>
          <a:p>
            <a:pPr>
              <a:tabLst>
                <a:tab algn="l" pos="0"/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.5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Object 58" descr=""/>
          <p:cNvPicPr/>
          <p:nvPr/>
        </p:nvPicPr>
        <p:blipFill>
          <a:blip r:embed="rId3"/>
          <a:stretch/>
        </p:blipFill>
        <p:spPr>
          <a:xfrm>
            <a:off x="1254240" y="2125800"/>
            <a:ext cx="4271760" cy="324324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59"/>
          <p:cNvSpPr/>
          <p:nvPr/>
        </p:nvSpPr>
        <p:spPr>
          <a:xfrm>
            <a:off x="920880" y="5005440"/>
            <a:ext cx="860400" cy="1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ebt Servi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Rectangle 60"/>
          <p:cNvSpPr/>
          <p:nvPr/>
        </p:nvSpPr>
        <p:spPr>
          <a:xfrm>
            <a:off x="1058760" y="4743360"/>
            <a:ext cx="727200" cy="1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aratrans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Rectangle 62"/>
          <p:cNvSpPr/>
          <p:nvPr/>
        </p:nvSpPr>
        <p:spPr>
          <a:xfrm>
            <a:off x="1305000" y="4316400"/>
            <a:ext cx="476280" cy="1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Rectangle 63"/>
          <p:cNvSpPr/>
          <p:nvPr/>
        </p:nvSpPr>
        <p:spPr>
          <a:xfrm>
            <a:off x="527040" y="3882960"/>
            <a:ext cx="125424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mploye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a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tiree Healthca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Rectangle 65"/>
          <p:cNvSpPr/>
          <p:nvPr/>
        </p:nvSpPr>
        <p:spPr>
          <a:xfrm>
            <a:off x="1163520" y="3630600"/>
            <a:ext cx="617760" cy="1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ens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Rectangle 67"/>
          <p:cNvSpPr/>
          <p:nvPr/>
        </p:nvSpPr>
        <p:spPr>
          <a:xfrm>
            <a:off x="1074600" y="2982960"/>
            <a:ext cx="706680" cy="1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S/OTPS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Rectangle 53"/>
          <p:cNvSpPr/>
          <p:nvPr/>
        </p:nvSpPr>
        <p:spPr>
          <a:xfrm>
            <a:off x="1474920" y="2293920"/>
            <a:ext cx="306360" cy="1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P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31"/>
          <p:cNvSpPr/>
          <p:nvPr/>
        </p:nvSpPr>
        <p:spPr>
          <a:xfrm>
            <a:off x="468360" y="3348000"/>
            <a:ext cx="141912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2060"/>
                </a:solidFill>
                <a:uFillTx/>
                <a:latin typeface="Arial"/>
                <a:ea typeface="ＭＳ Ｐゴシック"/>
              </a:rPr>
              <a:t>Non-Discretiona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32"/>
          <p:cNvSpPr/>
          <p:nvPr/>
        </p:nvSpPr>
        <p:spPr>
          <a:xfrm>
            <a:off x="457200" y="2670120"/>
            <a:ext cx="141912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2060"/>
                </a:solidFill>
                <a:uFillTx/>
                <a:latin typeface="Arial"/>
                <a:ea typeface="ＭＳ Ｐゴシック"/>
              </a:rPr>
              <a:t>Discretiona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Straight Connector 10"/>
          <p:cNvSpPr/>
          <p:nvPr/>
        </p:nvSpPr>
        <p:spPr>
          <a:xfrm>
            <a:off x="5956200" y="2044800"/>
            <a:ext cx="0" cy="31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Straight Connector 16"/>
          <p:cNvSpPr/>
          <p:nvPr/>
        </p:nvSpPr>
        <p:spPr>
          <a:xfrm>
            <a:off x="1951200" y="2041560"/>
            <a:ext cx="0" cy="318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Slide Number Placeholder 1"/>
          <p:cNvSpPr/>
          <p:nvPr/>
        </p:nvSpPr>
        <p:spPr>
          <a:xfrm>
            <a:off x="6578640" y="646920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1EDCB-70C8-434D-AF74-9E1372519B07}" type="slidenum">
              <a:rPr b="0" lang="en-US" sz="14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lide Number Placeholder 1"/>
          <p:cNvSpPr/>
          <p:nvPr/>
        </p:nvSpPr>
        <p:spPr>
          <a:xfrm>
            <a:off x="6578640" y="646920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8DF2E-7D1A-4E69-8C3D-B6260FA2B8D5}" type="slidenum">
              <a:rPr b="0" lang="en-US" sz="14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Object 5" descr=""/>
          <p:cNvPicPr/>
          <p:nvPr/>
        </p:nvPicPr>
        <p:blipFill>
          <a:blip r:embed="rId1"/>
          <a:stretch/>
        </p:blipFill>
        <p:spPr>
          <a:xfrm>
            <a:off x="1317600" y="1473120"/>
            <a:ext cx="7369200" cy="368640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3"/>
          <p:cNvSpPr/>
          <p:nvPr/>
        </p:nvSpPr>
        <p:spPr>
          <a:xfrm>
            <a:off x="7878600" y="5126040"/>
            <a:ext cx="611280" cy="8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venue from 2013/2015 Fare/Toll Increase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7932600" y="3581280"/>
            <a:ext cx="500040" cy="1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800" rIns="19800" tIns="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4b4b"/>
                </a:solidFill>
                <a:latin typeface="Calibri"/>
                <a:ea typeface="Arial"/>
              </a:rPr>
              <a:t>$1,74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Rectangle 6"/>
          <p:cNvSpPr/>
          <p:nvPr/>
        </p:nvSpPr>
        <p:spPr>
          <a:xfrm>
            <a:off x="7010280" y="5126040"/>
            <a:ext cx="754200" cy="5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on-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scretionary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Expense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Rectangle 7"/>
          <p:cNvSpPr/>
          <p:nvPr/>
        </p:nvSpPr>
        <p:spPr>
          <a:xfrm>
            <a:off x="7134120" y="1600200"/>
            <a:ext cx="500040" cy="1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800" rIns="19800" tIns="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4b4b"/>
                </a:solidFill>
                <a:latin typeface="Calibri"/>
                <a:ea typeface="Arial"/>
              </a:rPr>
              <a:t>$4,57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Rectangle 8"/>
          <p:cNvSpPr/>
          <p:nvPr/>
        </p:nvSpPr>
        <p:spPr>
          <a:xfrm>
            <a:off x="7086600" y="2930400"/>
            <a:ext cx="655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" rIns="144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,20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Rectangle 9"/>
          <p:cNvSpPr/>
          <p:nvPr/>
        </p:nvSpPr>
        <p:spPr>
          <a:xfrm>
            <a:off x="6284880" y="5126040"/>
            <a:ext cx="61272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015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venu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from 2013/2015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Fare/Toll Increase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Rectangle 10"/>
          <p:cNvSpPr/>
          <p:nvPr/>
        </p:nvSpPr>
        <p:spPr>
          <a:xfrm>
            <a:off x="6413400" y="4156200"/>
            <a:ext cx="376200" cy="1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800" rIns="1980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898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Rectangle 11"/>
          <p:cNvSpPr/>
          <p:nvPr/>
        </p:nvSpPr>
        <p:spPr>
          <a:xfrm>
            <a:off x="5621400" y="5126040"/>
            <a:ext cx="34596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0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Rectangle 12"/>
          <p:cNvSpPr/>
          <p:nvPr/>
        </p:nvSpPr>
        <p:spPr>
          <a:xfrm>
            <a:off x="5508720" y="3594240"/>
            <a:ext cx="558720" cy="1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800" rIns="1980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1,72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Rectangle 18"/>
          <p:cNvSpPr/>
          <p:nvPr/>
        </p:nvSpPr>
        <p:spPr>
          <a:xfrm>
            <a:off x="4703760" y="5126040"/>
            <a:ext cx="58104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014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venue from 2013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are/Toll Increas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Rectangle 14"/>
          <p:cNvSpPr/>
          <p:nvPr/>
        </p:nvSpPr>
        <p:spPr>
          <a:xfrm>
            <a:off x="4816440" y="4479840"/>
            <a:ext cx="374760" cy="1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800" rIns="1980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465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Rectangle 15"/>
          <p:cNvSpPr/>
          <p:nvPr/>
        </p:nvSpPr>
        <p:spPr>
          <a:xfrm>
            <a:off x="4019400" y="5126040"/>
            <a:ext cx="34632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0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Rectangle 16"/>
          <p:cNvSpPr/>
          <p:nvPr/>
        </p:nvSpPr>
        <p:spPr>
          <a:xfrm>
            <a:off x="3933720" y="3876840"/>
            <a:ext cx="559080" cy="1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800" rIns="1980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1,340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Rectangle 22"/>
          <p:cNvSpPr/>
          <p:nvPr/>
        </p:nvSpPr>
        <p:spPr>
          <a:xfrm>
            <a:off x="3105000" y="5126040"/>
            <a:ext cx="58284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013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venue from 2013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are/Toll Increas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Rectangle 18"/>
          <p:cNvSpPr/>
          <p:nvPr/>
        </p:nvSpPr>
        <p:spPr>
          <a:xfrm>
            <a:off x="3218040" y="4549680"/>
            <a:ext cx="376200" cy="1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800" rIns="1980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38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Rectangle 19"/>
          <p:cNvSpPr/>
          <p:nvPr/>
        </p:nvSpPr>
        <p:spPr>
          <a:xfrm>
            <a:off x="2425680" y="5126040"/>
            <a:ext cx="34596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01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Rectangle 20"/>
          <p:cNvSpPr/>
          <p:nvPr/>
        </p:nvSpPr>
        <p:spPr>
          <a:xfrm>
            <a:off x="2336760" y="4132440"/>
            <a:ext cx="55872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800" rIns="1980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985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Rectangle 21"/>
          <p:cNvSpPr/>
          <p:nvPr/>
        </p:nvSpPr>
        <p:spPr>
          <a:xfrm>
            <a:off x="2498760" y="4608360"/>
            <a:ext cx="201600" cy="1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" rIns="144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Rectangle 10"/>
          <p:cNvSpPr/>
          <p:nvPr/>
        </p:nvSpPr>
        <p:spPr>
          <a:xfrm>
            <a:off x="1628640" y="5126040"/>
            <a:ext cx="34776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0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Rectangle 23"/>
          <p:cNvSpPr/>
          <p:nvPr/>
        </p:nvSpPr>
        <p:spPr>
          <a:xfrm>
            <a:off x="1585800" y="4422600"/>
            <a:ext cx="433440" cy="1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800" rIns="1980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52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Rectangle 26"/>
          <p:cNvSpPr/>
          <p:nvPr/>
        </p:nvSpPr>
        <p:spPr>
          <a:xfrm>
            <a:off x="453960" y="274680"/>
            <a:ext cx="823284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posed Fare &amp; toll increases cover on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8% of non-discretionary expense growt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TextBox 14"/>
          <p:cNvSpPr/>
          <p:nvPr/>
        </p:nvSpPr>
        <p:spPr>
          <a:xfrm>
            <a:off x="6900840" y="5859360"/>
            <a:ext cx="182736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|-------Cumulative-------|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Increase Over 201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1" name="Group 134"/>
          <p:cNvGrpSpPr/>
          <p:nvPr/>
        </p:nvGrpSpPr>
        <p:grpSpPr>
          <a:xfrm>
            <a:off x="392040" y="4437000"/>
            <a:ext cx="920880" cy="733680"/>
            <a:chOff x="392040" y="4437000"/>
            <a:chExt cx="920880" cy="733680"/>
          </a:xfrm>
        </p:grpSpPr>
        <p:grpSp>
          <p:nvGrpSpPr>
            <p:cNvPr id="132" name="Group 48"/>
            <p:cNvGrpSpPr/>
            <p:nvPr/>
          </p:nvGrpSpPr>
          <p:grpSpPr>
            <a:xfrm>
              <a:off x="392040" y="4460760"/>
              <a:ext cx="204840" cy="649080"/>
              <a:chOff x="392040" y="4460760"/>
              <a:chExt cx="204840" cy="649080"/>
            </a:xfrm>
          </p:grpSpPr>
          <p:sp>
            <p:nvSpPr>
              <p:cNvPr id="133" name="Rectangle 33"/>
              <p:cNvSpPr/>
              <p:nvPr/>
            </p:nvSpPr>
            <p:spPr>
              <a:xfrm>
                <a:off x="392040" y="5008320"/>
                <a:ext cx="203400" cy="101520"/>
              </a:xfrm>
              <a:prstGeom prst="rect">
                <a:avLst/>
              </a:prstGeom>
              <a:solidFill>
                <a:srgbClr val="274f77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4" name="Rectangle 34"/>
              <p:cNvSpPr/>
              <p:nvPr/>
            </p:nvSpPr>
            <p:spPr>
              <a:xfrm>
                <a:off x="392040" y="4875120"/>
                <a:ext cx="203400" cy="99720"/>
              </a:xfrm>
              <a:prstGeom prst="rect">
                <a:avLst/>
              </a:prstGeom>
              <a:solidFill>
                <a:srgbClr val="6a83b6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5" name="Rectangle 35"/>
              <p:cNvSpPr/>
              <p:nvPr/>
            </p:nvSpPr>
            <p:spPr>
              <a:xfrm>
                <a:off x="392040" y="4740120"/>
                <a:ext cx="203400" cy="99720"/>
              </a:xfrm>
              <a:prstGeom prst="rect">
                <a:avLst/>
              </a:prstGeom>
              <a:solidFill>
                <a:srgbClr val="abb9d5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6" name="Rectangle 36"/>
              <p:cNvSpPr/>
              <p:nvPr/>
            </p:nvSpPr>
            <p:spPr>
              <a:xfrm>
                <a:off x="392040" y="4603320"/>
                <a:ext cx="203400" cy="101520"/>
              </a:xfrm>
              <a:prstGeom prst="rect">
                <a:avLst/>
              </a:prstGeom>
              <a:solidFill>
                <a:srgbClr val="6fa17e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7" name="Rectangle 37"/>
              <p:cNvSpPr/>
              <p:nvPr/>
            </p:nvSpPr>
            <p:spPr>
              <a:xfrm>
                <a:off x="393480" y="4460760"/>
                <a:ext cx="203400" cy="101520"/>
              </a:xfrm>
              <a:prstGeom prst="rect">
                <a:avLst/>
              </a:prstGeom>
              <a:solidFill>
                <a:srgbClr val="b9d1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38" name="TextBox 122"/>
            <p:cNvSpPr/>
            <p:nvPr/>
          </p:nvSpPr>
          <p:spPr>
            <a:xfrm>
              <a:off x="574200" y="4970160"/>
              <a:ext cx="7387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Debt Service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TextBox 125"/>
            <p:cNvSpPr/>
            <p:nvPr/>
          </p:nvSpPr>
          <p:spPr>
            <a:xfrm>
              <a:off x="570960" y="4841640"/>
              <a:ext cx="7387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Paratransit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TextBox 126"/>
            <p:cNvSpPr/>
            <p:nvPr/>
          </p:nvSpPr>
          <p:spPr>
            <a:xfrm>
              <a:off x="570960" y="4706280"/>
              <a:ext cx="7387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Energy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TextBox 127"/>
            <p:cNvSpPr/>
            <p:nvPr/>
          </p:nvSpPr>
          <p:spPr>
            <a:xfrm>
              <a:off x="574200" y="4580280"/>
              <a:ext cx="7387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Healthcare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TextBox 128"/>
            <p:cNvSpPr/>
            <p:nvPr/>
          </p:nvSpPr>
          <p:spPr>
            <a:xfrm>
              <a:off x="574200" y="4437000"/>
              <a:ext cx="7387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Pensions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3" name="Rectangle 4"/>
          <p:cNvSpPr/>
          <p:nvPr/>
        </p:nvSpPr>
        <p:spPr>
          <a:xfrm>
            <a:off x="3953520" y="1066680"/>
            <a:ext cx="10400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$ millions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Rectangle 40"/>
          <p:cNvSpPr/>
          <p:nvPr/>
        </p:nvSpPr>
        <p:spPr>
          <a:xfrm>
            <a:off x="1335240" y="2549520"/>
            <a:ext cx="514188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953735"/>
                </a:solidFill>
                <a:latin typeface="Arial"/>
                <a:ea typeface="Arial"/>
              </a:rPr>
              <a:t>$ increase in non-discretionary cost over 201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Object 9" descr=""/>
          <p:cNvPicPr/>
          <p:nvPr/>
        </p:nvPicPr>
        <p:blipFill>
          <a:blip r:embed="rId1"/>
          <a:stretch/>
        </p:blipFill>
        <p:spPr>
          <a:xfrm>
            <a:off x="1440" y="1440"/>
            <a:ext cx="1800" cy="180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8728200" cy="117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crease in unidentified savings targets offset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impact of Sandy</a:t>
            </a:r>
            <a:br>
              <a:rPr sz="2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($ in millions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6578640" y="646740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456A4-11CD-4883-B70F-102270FF64B3}" type="slidenum">
              <a:rPr b="0" lang="en-US" sz="14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" name="Chart 1" descr=""/>
          <p:cNvPicPr/>
          <p:nvPr/>
        </p:nvPicPr>
        <p:blipFill>
          <a:blip r:embed="rId2"/>
          <a:stretch/>
        </p:blipFill>
        <p:spPr>
          <a:xfrm>
            <a:off x="501480" y="1219320"/>
            <a:ext cx="8413920" cy="5022720"/>
          </a:xfrm>
          <a:prstGeom prst="rect">
            <a:avLst/>
          </a:prstGeom>
          <a:ln w="0">
            <a:noFill/>
          </a:ln>
        </p:spPr>
      </p:pic>
      <p:grpSp>
        <p:nvGrpSpPr>
          <p:cNvPr id="149" name="Group 10"/>
          <p:cNvGrpSpPr/>
          <p:nvPr/>
        </p:nvGrpSpPr>
        <p:grpSpPr>
          <a:xfrm>
            <a:off x="1584360" y="3502080"/>
            <a:ext cx="1371600" cy="1447920"/>
            <a:chOff x="1584360" y="3502080"/>
            <a:chExt cx="1371600" cy="1447920"/>
          </a:xfrm>
        </p:grpSpPr>
        <p:sp>
          <p:nvSpPr>
            <p:cNvPr id="150" name="Rounded Rectangle 4"/>
            <p:cNvSpPr/>
            <p:nvPr/>
          </p:nvSpPr>
          <p:spPr>
            <a:xfrm>
              <a:off x="1584360" y="3502080"/>
              <a:ext cx="1295640" cy="1447920"/>
            </a:xfrm>
            <a:custGeom>
              <a:avLst/>
              <a:gdLst>
                <a:gd name="textAreaLeft" fmla="*/ 63000 w 1295640"/>
                <a:gd name="textAreaRight" fmla="*/ 1232640 w 1295640"/>
                <a:gd name="textAreaTop" fmla="*/ 63000 h 1447920"/>
                <a:gd name="textAreaBottom" fmla="*/ 1384920 h 1447920"/>
              </a:gdLst>
              <a:ahLst/>
              <a:rect l="textAreaLeft" t="textAreaTop" r="textAreaRight" b="textAreaBottom"/>
              <a:pathLst>
                <a:path w="21600" h="24138">
                  <a:moveTo>
                    <a:pt x="3600" y="0"/>
                  </a:moveTo>
                  <a:arcTo wR="3600" hR="3600" stAng="16200000" swAng="-5400000"/>
                  <a:lnTo>
                    <a:pt x="0" y="20538"/>
                  </a:lnTo>
                  <a:arcTo wR="3600" hR="3600" stAng="10800000" swAng="-5400000"/>
                  <a:lnTo>
                    <a:pt x="18000" y="2413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eece1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51" name="Group 5"/>
            <p:cNvGrpSpPr/>
            <p:nvPr/>
          </p:nvGrpSpPr>
          <p:grpSpPr>
            <a:xfrm>
              <a:off x="1660320" y="3502080"/>
              <a:ext cx="1295640" cy="1371600"/>
              <a:chOff x="1660320" y="3502080"/>
              <a:chExt cx="1295640" cy="1371600"/>
            </a:xfrm>
          </p:grpSpPr>
          <p:sp>
            <p:nvSpPr>
              <p:cNvPr id="152" name="TextBox 2"/>
              <p:cNvSpPr/>
              <p:nvPr/>
            </p:nvSpPr>
            <p:spPr>
              <a:xfrm>
                <a:off x="1660320" y="3502080"/>
                <a:ext cx="1295640" cy="1371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3445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 u="sng">
                    <a:solidFill>
                      <a:srgbClr val="000000"/>
                    </a:solidFill>
                    <a:uFillTx/>
                    <a:latin typeface="Arial"/>
                    <a:ea typeface="Arial"/>
                  </a:rPr>
                  <a:t>July Pla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3445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urplu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3445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eficit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3445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3445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 u="sng">
                    <a:solidFill>
                      <a:srgbClr val="000000"/>
                    </a:solidFill>
                    <a:uFillTx/>
                    <a:latin typeface="Arial"/>
                    <a:ea typeface="Arial"/>
                  </a:rPr>
                  <a:t>November Pla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3445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urplu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3445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eficit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3" name="Rectangle 3"/>
              <p:cNvSpPr/>
              <p:nvPr/>
            </p:nvSpPr>
            <p:spPr>
              <a:xfrm>
                <a:off x="1888920" y="4489920"/>
                <a:ext cx="118800" cy="11880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4" name="Rectangle 6"/>
              <p:cNvSpPr/>
              <p:nvPr/>
            </p:nvSpPr>
            <p:spPr>
              <a:xfrm>
                <a:off x="1884240" y="3759120"/>
                <a:ext cx="118800" cy="118800"/>
              </a:xfrm>
              <a:prstGeom prst="rect">
                <a:avLst/>
              </a:prstGeom>
              <a:solidFill>
                <a:srgbClr val="4f622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5" name="Rectangle 7"/>
              <p:cNvSpPr/>
              <p:nvPr/>
            </p:nvSpPr>
            <p:spPr>
              <a:xfrm>
                <a:off x="1888920" y="3934080"/>
                <a:ext cx="118800" cy="11880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6" name="Rectangle 8"/>
              <p:cNvSpPr/>
              <p:nvPr/>
            </p:nvSpPr>
            <p:spPr>
              <a:xfrm>
                <a:off x="1888920" y="4678920"/>
                <a:ext cx="118800" cy="11880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02760" y="334440"/>
            <a:ext cx="8520120" cy="8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MTA is continuing to follow its Plan, but risks remai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946080" y="906480"/>
            <a:ext cx="7664400" cy="602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ederal support at expected leve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27120" indent="-289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saster relief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27120" indent="-289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n-going capital support in light of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iscal cliff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conomic uncertain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27120" indent="-289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ocal economy as affected by Sand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27120" indent="-289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ational economy remains wea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tinued receipt of PMT or comparable revenu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uccessful execution of Financial Plan strateg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27120" indent="-289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hieve net-zero labor settleme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27120" indent="-289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tinued cost reduc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27120" indent="-289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jected fare/toll increases in 2013 and 20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ong-term vulnerabilit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27120" indent="-289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asualty risks to the system; ability to fund mitigation investme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27120" indent="-289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mployee and retiree healthcare cos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27120" indent="-289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ns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27120" indent="-289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uilding and protecting critical financial reserv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6578640" y="648000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BC7AF-9E2A-4DE1-91FD-E411F376DA50}" type="slidenum">
              <a:rPr b="0" lang="en-US" sz="1400" spc="-1" strike="noStrike">
                <a:solidFill>
                  <a:srgbClr val="7f7f7f"/>
                </a:solidFill>
                <a:latin typeface="Calibri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05560" cy="102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ince July 2010, our Plans have been consistent, disciplined, and totally transpar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584280" y="1904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nuous, significant annually recurring  cost cutt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 budget-driven service reduc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ree years of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et zero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Arial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nion wage growth (already achieved four years of non-union zero wage growth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nue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iennial fare and toll increases as plann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27120" indent="-289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e have not used the fare/toll option as a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lug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Arial"/>
              </a:rPr>
              <a:t>”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to address unfavorable financial developm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Increase liquidity while addressing long-term healthcare, pension and debt service vulnerabiliti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5791320" y="6491160"/>
            <a:ext cx="28954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Calibri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08080" y="351000"/>
            <a:ext cx="8727840" cy="132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uly Plan was balanced through 2013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ith manageable out-year deficits</a:t>
            </a:r>
            <a:br>
              <a:rPr sz="28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($  millions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655308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BCE19-ADCD-4A29-AB36-0BC4F04EEC6A}" type="slidenum">
              <a:rPr b="0" lang="en-US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Chart 1" descr=""/>
          <p:cNvPicPr/>
          <p:nvPr/>
        </p:nvPicPr>
        <p:blipFill>
          <a:blip r:embed="rId1"/>
          <a:stretch/>
        </p:blipFill>
        <p:spPr>
          <a:xfrm>
            <a:off x="365040" y="1447920"/>
            <a:ext cx="8413920" cy="467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617040" y="1322280"/>
            <a:ext cx="8526600" cy="477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7280" indent="0">
              <a:spcBef>
                <a:spcPts val="1074"/>
              </a:spcBef>
              <a:buNone/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Favorable chang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87280" indent="-287280">
              <a:lnSpc>
                <a:spcPct val="100000"/>
              </a:lnSpc>
              <a:spcBef>
                <a:spcPts val="539"/>
              </a:spcBef>
              <a:buClr>
                <a:srgbClr val="000000"/>
              </a:buClr>
              <a:buFont typeface="Arial"/>
              <a:buChar char="-"/>
              <a:tabLst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Lower debt service expense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87280" indent="-28728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Additional paratransit saving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87280" indent="-28728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Lower Agency spending (real and timing)/higher revenu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87280" indent="-28728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Higher net subsidi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87280" indent="0">
              <a:spcBef>
                <a:spcPts val="1800"/>
              </a:spcBef>
              <a:buNone/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2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Unfavorable chang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87280" indent="-287280">
              <a:lnSpc>
                <a:spcPct val="100000"/>
              </a:lnSpc>
              <a:spcBef>
                <a:spcPts val="539"/>
              </a:spcBef>
              <a:buClr>
                <a:srgbClr val="000000"/>
              </a:buClr>
              <a:buFont typeface="Arial"/>
              <a:buChar char="-"/>
              <a:tabLst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Higher health and welfare cost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87280" indent="0">
              <a:lnSpc>
                <a:spcPct val="100000"/>
              </a:lnSpc>
              <a:buNone/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-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Higher overtime expens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87280" indent="-28728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Increase in electric power cost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87280" indent="-28728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Payroll cash flow adjustment in 2014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87280" indent="0">
              <a:spcBef>
                <a:spcPts val="1074"/>
              </a:spcBef>
              <a:buNone/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7280" indent="0" algn="ctr">
              <a:lnSpc>
                <a:spcPct val="100000"/>
              </a:lnSpc>
              <a:buNone/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nd then came Sandy . . 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7280" indent="0">
              <a:buNone/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87280" indent="0">
              <a:buNone/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87280" indent="0">
              <a:buNone/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87280" indent="0">
              <a:buNone/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87280" indent="0">
              <a:buNone/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87280" indent="0">
              <a:buNone/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 Placeholder 2"/>
          <p:cNvSpPr/>
          <p:nvPr/>
        </p:nvSpPr>
        <p:spPr>
          <a:xfrm>
            <a:off x="647640" y="503280"/>
            <a:ext cx="784080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640" bIns="4464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has changed since the July Plan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Slide Number Placeholder 3"/>
          <p:cNvSpPr/>
          <p:nvPr/>
        </p:nvSpPr>
        <p:spPr>
          <a:xfrm>
            <a:off x="655308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330B6-6564-46CD-BC00-58095AD2925D}" type="slidenum">
              <a:rPr b="0" lang="en-US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351000"/>
            <a:ext cx="8229600" cy="71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nancial Impact of Sandy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685800" y="990720"/>
            <a:ext cx="815328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7280" indent="-2872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alculation and estimation of Sandy-related losses is ongoing; too early to have more than highly provisional estimat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7280" indent="-2872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arly estimates of losses are $5 billion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76360" indent="-28908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frastructure damage : $4.75 billio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576360" indent="-289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perating losses (lost revenue and increased operating costs): $268 millio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287280" indent="-2872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osses covered by combination of insurance, federal programs (including FEMA) and MTA resourc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576360" indent="-28908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frastructure damage: After insurance ($1.075 billion maximum coverage) and standard FEMA (75%) recoveries,  an estimated $950 million of infrastructure damage may need to be covered by MTA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3" marL="576360" indent="-28908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perating losses: anticipate substantial recoveries from business interruption/extra expense  insurance coverage and FEM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7280" indent="-2872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hile we expect to receive advances from insurers and the Federal Government, final settlement could take 2 to 3 yea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76360" indent="-289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perating losses will hit 2012 budg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576360" indent="-289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ulti-year infrastructure expenditures will begin immediately and bridge loan financing will be necessary until reimbursement is receiv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Footer Placeholder 3"/>
          <p:cNvSpPr/>
          <p:nvPr/>
        </p:nvSpPr>
        <p:spPr>
          <a:xfrm>
            <a:off x="5791320" y="649296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98989"/>
                </a:solidFill>
                <a:latin typeface="Calibri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71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mpact on Financial Plan spans multiple years: 201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708120" y="958680"/>
            <a:ext cx="8588160" cy="574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2012 expected to be closed on a 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self-sustaining  basis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  <a:ea typeface="Arial"/>
              </a:rPr>
              <a:t>”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July projected Y/E cash balance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7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$ 47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2012 Sandy loss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700" spc="-1" strike="noStrike">
                <a:solidFill>
                  <a:srgbClr val="ff0000"/>
                </a:solidFill>
                <a:latin typeface="Arial"/>
                <a:ea typeface="Arial"/>
              </a:rPr>
              <a:t>(268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Agency underspending (real and timing)/higher revenues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51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Debt service savings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36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Net subsidy increase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18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Other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7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  4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700" spc="-1" strike="noStrike">
                <a:solidFill>
                  <a:srgbClr val="ff0000"/>
                </a:solidFill>
                <a:latin typeface="Arial"/>
                <a:ea typeface="Arial"/>
              </a:rPr>
              <a:t>(</a:t>
            </a:r>
            <a:r>
              <a:rPr b="0" lang="en-US" sz="17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$112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Release remaining General Reserve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63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Internal OPEB Loan (to be repaid in 2015)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7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75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November projected Y/E cash balance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$26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Reimbursement expected 2013 to 2015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FEMA to cover 100% of Sandy-related expenses incurred through 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November 14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Business interruption/extra expense insurance anticipated to cover 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substantial portion of remaining  losse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Footer Placeholder 3"/>
          <p:cNvSpPr/>
          <p:nvPr/>
        </p:nvSpPr>
        <p:spPr>
          <a:xfrm>
            <a:off x="5791320" y="649296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98989"/>
                </a:solidFill>
                <a:latin typeface="Calibri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mpact on Financial Plan spans multiple years: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013 and beyo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83808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Infrastructure losses will require external borrowing, increasing annual debt servic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ssuming  $2.9 billion of anticipation notes issued in 2013 and $1.9 billion issued in 2014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29 million in 2013 and $48 million in 2014 and 2015 until notes are repaid from insurance or federal reimbursements or proceeds of bond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ssuming $950 million of 30 year bonds issued in 2016 to take out $950 million of anticipation notes not repaid from insurance or federal reimbursem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$62 million annuall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Additional cost cutting will be required to offset this in the Financial Plan: annual recurring MTA efficiency targets raised by $25 million in 2013 increasing to $75 million in 2015; unidentified at this tim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Slide Number Placeholder 1"/>
          <p:cNvSpPr/>
          <p:nvPr/>
        </p:nvSpPr>
        <p:spPr>
          <a:xfrm>
            <a:off x="6578640" y="646920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80F44-8E49-44C4-BE18-9D6E83EA6FF9}" type="slidenum">
              <a:rPr b="0" lang="en-US" sz="14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ignificant elements of the November P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609480" y="761760"/>
            <a:ext cx="838224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Funds the operating and financing costs associated with Sandy through additional unidentified cost reduction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Retains the MTA service investments announced in July that improve coverage to existing markets and deliver service to new market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Includes $250 million annually beginning in 2015 in support of the 2015-2019 Capital Program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nded with debt service savings from the 2012 refundings and 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-estimates of interest rates and cash flows from re-baselining of ES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Increases General Reserve and OPEB deposit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Increases annual recurring savings targets, achieving $1.2 billion in 2016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Continues three years of net-zero wage growth for represented employee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2013/2015 Fare/toll increases are consistent with the July Plan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Footer Placeholder 3"/>
          <p:cNvSpPr/>
          <p:nvPr/>
        </p:nvSpPr>
        <p:spPr>
          <a:xfrm>
            <a:off x="5802480" y="646272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98989"/>
                </a:solidFill>
                <a:latin typeface="Calibri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Slide Number Placeholder 1"/>
          <p:cNvSpPr/>
          <p:nvPr/>
        </p:nvSpPr>
        <p:spPr>
          <a:xfrm>
            <a:off x="6553080" y="645624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D0608-832E-47F8-B1E9-EA06ED7220D0}" type="slidenum">
              <a:rPr b="0" lang="en-US" sz="14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Chart 4" descr=""/>
          <p:cNvPicPr/>
          <p:nvPr/>
        </p:nvPicPr>
        <p:blipFill>
          <a:blip r:embed="rId1"/>
          <a:stretch/>
        </p:blipFill>
        <p:spPr>
          <a:xfrm>
            <a:off x="693720" y="1473120"/>
            <a:ext cx="7756560" cy="4778280"/>
          </a:xfrm>
          <a:prstGeom prst="rect">
            <a:avLst/>
          </a:prstGeom>
          <a:ln w="0">
            <a:noFill/>
          </a:ln>
        </p:spPr>
      </p:pic>
      <p:sp>
        <p:nvSpPr>
          <p:cNvPr id="75" name="TextBox 3"/>
          <p:cNvSpPr/>
          <p:nvPr/>
        </p:nvSpPr>
        <p:spPr>
          <a:xfrm>
            <a:off x="0" y="274680"/>
            <a:ext cx="9144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November Plan relies on same key elements as the July 2010</a:t>
            </a:r>
            <a:r>
              <a:rPr b="1" lang="en-US" sz="21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Plan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Arial"/>
              </a:rPr>
              <a:t>Deficits totaling $333 million remain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extBox 2"/>
          <p:cNvSpPr/>
          <p:nvPr/>
        </p:nvSpPr>
        <p:spPr>
          <a:xfrm>
            <a:off x="3594240" y="1100160"/>
            <a:ext cx="19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($ millions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05T19:59:45Z</dcterms:created>
  <dc:creator>Fredericka Cuenca</dc:creator>
  <dc:description/>
  <dc:language>en-US</dc:language>
  <cp:lastModifiedBy>Jim Michaels</cp:lastModifiedBy>
  <cp:lastPrinted>2012-11-27T21:12:46Z</cp:lastPrinted>
  <dcterms:modified xsi:type="dcterms:W3CDTF">2012-11-28T18:03:50Z</dcterms:modified>
  <cp:revision>190</cp:revision>
  <dc:subject/>
  <dc:title>PowerPoint Presentation</dc:title>
</cp:coreProperties>
</file>