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9D8F-DBAE-4284-A7B4-9B868112742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EF59-2FBA-47B0-BC77-E9BB7B6FC1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89480"/>
            <a:ext cx="5764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F62E-AFA0-488C-A718-B01F9C52AD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3C68-E6D2-4E05-834F-9EBE6E2FF7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C1D6-3063-4B6B-B5A6-4160EC5BD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5A56-8197-4CE1-ADEB-B065090CEA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5BB9-04A1-41A9-95E8-E105F0B72B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4166-4631-476D-A006-B45CAC0E8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39D3-D66F-43BE-8BB1-61BB923621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BE40-9901-40F3-8225-2F18736993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1CF0-D9B5-4176-8B74-69807A9652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206D-094E-4E2E-A125-FACDF71741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3D7E-4D4F-4E4A-A5B1-F747F00FF3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958D-9846-4236-8C67-49F79208C2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C288-5A30-4491-A016-2A44A885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CEB2-E517-4ECA-B130-ADCE6B29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2570-BE01-4F08-8A36-54559C60E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16FA-E76E-4032-8BD6-12A7EF69B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E222-6E83-4CCE-8085-326CDDD5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ECE2-EED7-4E38-9371-7E116C1D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A23C-0B7B-49BD-B6CC-5FD0D704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CAD7-CEB8-41A4-9A83-AA6EF496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E690-D25B-4188-A62D-C88A6F07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04FE-EB75-4D34-8835-011152C5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10B5-1E4F-4B25-A19C-F1FF2F86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449D-4052-4DDF-900C-467247EA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A3E0-6D49-43A0-AAFD-AA03B204968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7" descr="Slide2shift-blumeat.jpg"/>
          <p:cNvPicPr/>
          <p:nvPr/>
        </p:nvPicPr>
        <p:blipFill>
          <a:blip r:embed="rId2"/>
          <a:stretch/>
        </p:blipFill>
        <p:spPr>
          <a:xfrm>
            <a:off x="0" y="5513400"/>
            <a:ext cx="1344600" cy="13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0972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c"/>
                </a:solidFill>
                <a:latin typeface="Calibri"/>
              </a:rPr>
              <a:t>Metropolitan Transportation Authority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00009c"/>
                </a:solidFill>
                <a:latin typeface="Arial"/>
                <a:ea typeface="Arial"/>
              </a:rPr>
              <a:t>November Financial Plan 2013 -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vember 28,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Slide2shift-blumeatlg.jpg"/>
          <p:cNvPicPr/>
          <p:nvPr/>
        </p:nvPicPr>
        <p:blipFill>
          <a:blip r:embed="rId1"/>
          <a:stretch/>
        </p:blipFill>
        <p:spPr>
          <a:xfrm>
            <a:off x="0" y="4821120"/>
            <a:ext cx="2036880" cy="20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44360" cy="1396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" hidden="1"/>
          <p:cNvSpPr/>
          <p:nvPr/>
        </p:nvSpPr>
        <p:spPr>
          <a:xfrm>
            <a:off x="0" y="0"/>
            <a:ext cx="144360" cy="139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31"/>
          <p:cNvSpPr/>
          <p:nvPr/>
        </p:nvSpPr>
        <p:spPr>
          <a:xfrm>
            <a:off x="1868400" y="1363680"/>
            <a:ext cx="56739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ounded Annual Growth Rate (CAG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0"/>
          <p:cNvSpPr/>
          <p:nvPr/>
        </p:nvSpPr>
        <p:spPr>
          <a:xfrm>
            <a:off x="336600" y="318960"/>
            <a:ext cx="845820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n-discretionary expenses are increasing fa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n inflation and discretionary sp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traight Connector 30"/>
          <p:cNvSpPr/>
          <p:nvPr/>
        </p:nvSpPr>
        <p:spPr>
          <a:xfrm>
            <a:off x="1984320" y="1631880"/>
            <a:ext cx="560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5119560" y="1704960"/>
            <a:ext cx="2754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2011 Actual to 2016 Fore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37"/>
          <p:cNvSpPr/>
          <p:nvPr/>
        </p:nvSpPr>
        <p:spPr>
          <a:xfrm>
            <a:off x="4915080" y="1730520"/>
            <a:ext cx="21564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40"/>
          <p:cNvSpPr/>
          <p:nvPr/>
        </p:nvSpPr>
        <p:spPr>
          <a:xfrm>
            <a:off x="1927080" y="1687680"/>
            <a:ext cx="298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2011 Actual to 2012 Final Fore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1295280" y="5484960"/>
            <a:ext cx="70549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nel Service / Other Than Personnel Service.  This reflects adjustments to remove Service Investments, New Needs, Regulatory Increases, Mega Projects and CPI Increases at the conclusion of 3 Net-Zeros.  Without these adjustments, the increases are 0.3% from 2011 to 2012 and 2.1% from 2011 to 2016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Object 46" descr=""/>
          <p:cNvPicPr/>
          <p:nvPr/>
        </p:nvPicPr>
        <p:blipFill>
          <a:blip r:embed="rId2"/>
          <a:stretch/>
        </p:blipFill>
        <p:spPr>
          <a:xfrm>
            <a:off x="5737320" y="2170080"/>
            <a:ext cx="2162160" cy="32148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7099200" y="4716360"/>
            <a:ext cx="4287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7039080" y="3701880"/>
            <a:ext cx="3524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162920" y="5051520"/>
            <a:ext cx="3524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6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6810480" y="436896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3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7396200" y="403704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6215040" y="236232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6145200" y="3035160"/>
            <a:ext cx="3524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.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Object 58" descr=""/>
          <p:cNvPicPr/>
          <p:nvPr/>
        </p:nvPicPr>
        <p:blipFill>
          <a:blip r:embed="rId3"/>
          <a:stretch/>
        </p:blipFill>
        <p:spPr>
          <a:xfrm>
            <a:off x="1254240" y="2125800"/>
            <a:ext cx="4271760" cy="32432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9"/>
          <p:cNvSpPr/>
          <p:nvPr/>
        </p:nvSpPr>
        <p:spPr>
          <a:xfrm>
            <a:off x="920880" y="5005440"/>
            <a:ext cx="8604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bt Serv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60"/>
          <p:cNvSpPr/>
          <p:nvPr/>
        </p:nvSpPr>
        <p:spPr>
          <a:xfrm>
            <a:off x="1058760" y="4743360"/>
            <a:ext cx="727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atran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62"/>
          <p:cNvSpPr/>
          <p:nvPr/>
        </p:nvSpPr>
        <p:spPr>
          <a:xfrm>
            <a:off x="1305000" y="4316400"/>
            <a:ext cx="4762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63"/>
          <p:cNvSpPr/>
          <p:nvPr/>
        </p:nvSpPr>
        <p:spPr>
          <a:xfrm>
            <a:off x="527040" y="3882960"/>
            <a:ext cx="1254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ploye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ree Healthc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65"/>
          <p:cNvSpPr/>
          <p:nvPr/>
        </p:nvSpPr>
        <p:spPr>
          <a:xfrm>
            <a:off x="1163520" y="3630600"/>
            <a:ext cx="6177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7"/>
          <p:cNvSpPr/>
          <p:nvPr/>
        </p:nvSpPr>
        <p:spPr>
          <a:xfrm>
            <a:off x="1074600" y="2982960"/>
            <a:ext cx="7066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/OTP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53"/>
          <p:cNvSpPr/>
          <p:nvPr/>
        </p:nvSpPr>
        <p:spPr>
          <a:xfrm>
            <a:off x="1474920" y="2293920"/>
            <a:ext cx="3063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31"/>
          <p:cNvSpPr/>
          <p:nvPr/>
        </p:nvSpPr>
        <p:spPr>
          <a:xfrm>
            <a:off x="468360" y="3348000"/>
            <a:ext cx="1419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2060"/>
                </a:solidFill>
                <a:uFillTx/>
                <a:latin typeface="Arial"/>
                <a:ea typeface="ＭＳ Ｐゴシック"/>
              </a:rPr>
              <a:t>Non-Discretion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32"/>
          <p:cNvSpPr/>
          <p:nvPr/>
        </p:nvSpPr>
        <p:spPr>
          <a:xfrm>
            <a:off x="457200" y="2670120"/>
            <a:ext cx="1419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2060"/>
                </a:solidFill>
                <a:uFillTx/>
                <a:latin typeface="Arial"/>
                <a:ea typeface="ＭＳ Ｐゴシック"/>
              </a:rPr>
              <a:t>Discretion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traight Connector 10"/>
          <p:cNvSpPr/>
          <p:nvPr/>
        </p:nvSpPr>
        <p:spPr>
          <a:xfrm>
            <a:off x="5956200" y="2044800"/>
            <a:ext cx="0" cy="31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traight Connector 16"/>
          <p:cNvSpPr/>
          <p:nvPr/>
        </p:nvSpPr>
        <p:spPr>
          <a:xfrm>
            <a:off x="1951200" y="2041560"/>
            <a:ext cx="0" cy="31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5F32-E7E1-4DEA-96D8-C2F47EB322CF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B0CC-29F3-4C76-B44A-27F790C5701D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Object 5" descr=""/>
          <p:cNvPicPr/>
          <p:nvPr/>
        </p:nvPicPr>
        <p:blipFill>
          <a:blip r:embed="rId1"/>
          <a:stretch/>
        </p:blipFill>
        <p:spPr>
          <a:xfrm>
            <a:off x="1317600" y="1473120"/>
            <a:ext cx="7369200" cy="36864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7878600" y="5126040"/>
            <a:ext cx="61128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enue from 2013/2015 Fare/Toll Increa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932600" y="3581280"/>
            <a:ext cx="500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4b4b"/>
                </a:solidFill>
                <a:latin typeface="Calibri"/>
                <a:ea typeface="Arial"/>
              </a:rPr>
              <a:t>$1,7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7010280" y="5126040"/>
            <a:ext cx="7542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on-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scretionar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pen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7134120" y="1600200"/>
            <a:ext cx="500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4b4b"/>
                </a:solidFill>
                <a:latin typeface="Calibri"/>
                <a:ea typeface="Arial"/>
              </a:rPr>
              <a:t>$4,57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7086600" y="2930400"/>
            <a:ext cx="655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,2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6284880" y="5126040"/>
            <a:ext cx="612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en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rom 2013/201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are/Toll Increa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413400" y="4156200"/>
            <a:ext cx="376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89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5621400" y="5126040"/>
            <a:ext cx="345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508720" y="3594240"/>
            <a:ext cx="5587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1,72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4703760" y="5126040"/>
            <a:ext cx="5810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4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enue from 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/Toll Incre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4816440" y="4479840"/>
            <a:ext cx="3747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46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4019400" y="5126040"/>
            <a:ext cx="346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3933720" y="3876840"/>
            <a:ext cx="5590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1,34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22"/>
          <p:cNvSpPr/>
          <p:nvPr/>
        </p:nvSpPr>
        <p:spPr>
          <a:xfrm>
            <a:off x="3105000" y="5126040"/>
            <a:ext cx="5828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3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enue from 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/Toll Incre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3218040" y="4549680"/>
            <a:ext cx="376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38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2425680" y="5126040"/>
            <a:ext cx="345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2336760" y="4132440"/>
            <a:ext cx="55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98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2498760" y="4608360"/>
            <a:ext cx="201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628640" y="5126040"/>
            <a:ext cx="3477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1585800" y="4422600"/>
            <a:ext cx="4334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52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26"/>
          <p:cNvSpPr/>
          <p:nvPr/>
        </p:nvSpPr>
        <p:spPr>
          <a:xfrm>
            <a:off x="453960" y="274680"/>
            <a:ext cx="82328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osed Fare &amp; toll increases cover 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8% of non-discretionary expense grow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4"/>
          <p:cNvSpPr/>
          <p:nvPr/>
        </p:nvSpPr>
        <p:spPr>
          <a:xfrm>
            <a:off x="6900840" y="5859360"/>
            <a:ext cx="18273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|-------Cumulative-------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ncrease Over 20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Group 134"/>
          <p:cNvGrpSpPr/>
          <p:nvPr/>
        </p:nvGrpSpPr>
        <p:grpSpPr>
          <a:xfrm>
            <a:off x="392040" y="4437000"/>
            <a:ext cx="920880" cy="733680"/>
            <a:chOff x="392040" y="4437000"/>
            <a:chExt cx="920880" cy="733680"/>
          </a:xfrm>
        </p:grpSpPr>
        <p:grpSp>
          <p:nvGrpSpPr>
            <p:cNvPr id="132" name="Group 48"/>
            <p:cNvGrpSpPr/>
            <p:nvPr/>
          </p:nvGrpSpPr>
          <p:grpSpPr>
            <a:xfrm>
              <a:off x="392040" y="4460760"/>
              <a:ext cx="204840" cy="649080"/>
              <a:chOff x="392040" y="4460760"/>
              <a:chExt cx="204840" cy="649080"/>
            </a:xfrm>
          </p:grpSpPr>
          <p:sp>
            <p:nvSpPr>
              <p:cNvPr id="133" name="Rectangle 33"/>
              <p:cNvSpPr/>
              <p:nvPr/>
            </p:nvSpPr>
            <p:spPr>
              <a:xfrm>
                <a:off x="392040" y="5008320"/>
                <a:ext cx="203400" cy="101520"/>
              </a:xfrm>
              <a:prstGeom prst="rect">
                <a:avLst/>
              </a:prstGeom>
              <a:solidFill>
                <a:srgbClr val="274f77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Rectangle 34"/>
              <p:cNvSpPr/>
              <p:nvPr/>
            </p:nvSpPr>
            <p:spPr>
              <a:xfrm>
                <a:off x="392040" y="4875120"/>
                <a:ext cx="203400" cy="99720"/>
              </a:xfrm>
              <a:prstGeom prst="rect">
                <a:avLst/>
              </a:prstGeom>
              <a:solidFill>
                <a:srgbClr val="6a83b6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Rectangle 35"/>
              <p:cNvSpPr/>
              <p:nvPr/>
            </p:nvSpPr>
            <p:spPr>
              <a:xfrm>
                <a:off x="392040" y="4740120"/>
                <a:ext cx="203400" cy="99720"/>
              </a:xfrm>
              <a:prstGeom prst="rect">
                <a:avLst/>
              </a:prstGeom>
              <a:solidFill>
                <a:srgbClr val="abb9d5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Rectangle 36"/>
              <p:cNvSpPr/>
              <p:nvPr/>
            </p:nvSpPr>
            <p:spPr>
              <a:xfrm>
                <a:off x="392040" y="4603320"/>
                <a:ext cx="203400" cy="101520"/>
              </a:xfrm>
              <a:prstGeom prst="rect">
                <a:avLst/>
              </a:prstGeom>
              <a:solidFill>
                <a:srgbClr val="6fa17e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Rectangle 37"/>
              <p:cNvSpPr/>
              <p:nvPr/>
            </p:nvSpPr>
            <p:spPr>
              <a:xfrm>
                <a:off x="393480" y="4460760"/>
                <a:ext cx="203400" cy="101520"/>
              </a:xfrm>
              <a:prstGeom prst="rect">
                <a:avLst/>
              </a:prstGeom>
              <a:solidFill>
                <a:srgbClr val="b9d1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TextBox 122"/>
            <p:cNvSpPr/>
            <p:nvPr/>
          </p:nvSpPr>
          <p:spPr>
            <a:xfrm>
              <a:off x="574200" y="497016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bt Servic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TextBox 125"/>
            <p:cNvSpPr/>
            <p:nvPr/>
          </p:nvSpPr>
          <p:spPr>
            <a:xfrm>
              <a:off x="570960" y="484164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aratransi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TextBox 126"/>
            <p:cNvSpPr/>
            <p:nvPr/>
          </p:nvSpPr>
          <p:spPr>
            <a:xfrm>
              <a:off x="570960" y="470628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TextBox 127"/>
            <p:cNvSpPr/>
            <p:nvPr/>
          </p:nvSpPr>
          <p:spPr>
            <a:xfrm>
              <a:off x="574200" y="458028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ealthcar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TextBox 128"/>
            <p:cNvSpPr/>
            <p:nvPr/>
          </p:nvSpPr>
          <p:spPr>
            <a:xfrm>
              <a:off x="574200" y="443700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nsions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Rectangle 4"/>
          <p:cNvSpPr/>
          <p:nvPr/>
        </p:nvSpPr>
        <p:spPr>
          <a:xfrm>
            <a:off x="3953520" y="1066680"/>
            <a:ext cx="104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0"/>
          <p:cNvSpPr/>
          <p:nvPr/>
        </p:nvSpPr>
        <p:spPr>
          <a:xfrm>
            <a:off x="1335240" y="2549520"/>
            <a:ext cx="51418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53735"/>
                </a:solidFill>
                <a:latin typeface="Arial"/>
                <a:ea typeface="Arial"/>
              </a:rPr>
              <a:t>$ increase in non-discretionary cost over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Object 9" descr=""/>
          <p:cNvPicPr/>
          <p:nvPr/>
        </p:nvPicPr>
        <p:blipFill>
          <a:blip r:embed="rId1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7282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e in unidentified savings targets offse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mpact of Sandy</a:t>
            </a:r>
            <a:br>
              <a:rPr sz="2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$ in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6578640" y="64674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4CB9-614B-478D-9404-DFF6871B00AB}" type="slidenum">
              <a:rPr b="0" lang="en-US" sz="14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Chart 1" descr=""/>
          <p:cNvPicPr/>
          <p:nvPr/>
        </p:nvPicPr>
        <p:blipFill>
          <a:blip r:embed="rId2"/>
          <a:stretch/>
        </p:blipFill>
        <p:spPr>
          <a:xfrm>
            <a:off x="501480" y="1219320"/>
            <a:ext cx="8413920" cy="502272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10"/>
          <p:cNvGrpSpPr/>
          <p:nvPr/>
        </p:nvGrpSpPr>
        <p:grpSpPr>
          <a:xfrm>
            <a:off x="1584360" y="3502080"/>
            <a:ext cx="1371600" cy="1447920"/>
            <a:chOff x="1584360" y="3502080"/>
            <a:chExt cx="1371600" cy="1447920"/>
          </a:xfrm>
        </p:grpSpPr>
        <p:sp>
          <p:nvSpPr>
            <p:cNvPr id="150" name="Rounded Rectangle 4"/>
            <p:cNvSpPr/>
            <p:nvPr/>
          </p:nvSpPr>
          <p:spPr>
            <a:xfrm>
              <a:off x="1584360" y="3502080"/>
              <a:ext cx="1295640" cy="1447920"/>
            </a:xfrm>
            <a:custGeom>
              <a:avLst/>
              <a:gdLst>
                <a:gd name="textAreaLeft" fmla="*/ 63000 w 1295640"/>
                <a:gd name="textAreaRight" fmla="*/ 1232640 w 1295640"/>
                <a:gd name="textAreaTop" fmla="*/ 63000 h 1447920"/>
                <a:gd name="textAreaBottom" fmla="*/ 1384920 h 1447920"/>
              </a:gdLst>
              <a:ahLst/>
              <a:rect l="textAreaLeft" t="textAreaTop" r="textAreaRight" b="textAreaBottom"/>
              <a:pathLst>
                <a:path w="21600" h="24138">
                  <a:moveTo>
                    <a:pt x="3600" y="0"/>
                  </a:moveTo>
                  <a:arcTo wR="3600" hR="3600" stAng="16200000" swAng="-5400000"/>
                  <a:lnTo>
                    <a:pt x="0" y="20538"/>
                  </a:lnTo>
                  <a:arcTo wR="3600" hR="3600" stAng="10800000" swAng="-5400000"/>
                  <a:lnTo>
                    <a:pt x="18000" y="241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eece1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1" name="Group 5"/>
            <p:cNvGrpSpPr/>
            <p:nvPr/>
          </p:nvGrpSpPr>
          <p:grpSpPr>
            <a:xfrm>
              <a:off x="1660320" y="3502080"/>
              <a:ext cx="1295640" cy="1371600"/>
              <a:chOff x="1660320" y="3502080"/>
              <a:chExt cx="1295640" cy="1371600"/>
            </a:xfrm>
          </p:grpSpPr>
          <p:sp>
            <p:nvSpPr>
              <p:cNvPr id="152" name="TextBox 2"/>
              <p:cNvSpPr/>
              <p:nvPr/>
            </p:nvSpPr>
            <p:spPr>
              <a:xfrm>
                <a:off x="1660320" y="3502080"/>
                <a:ext cx="1295640" cy="13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July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rplu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ci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Novemb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rplu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ci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Rectangle 3"/>
              <p:cNvSpPr/>
              <p:nvPr/>
            </p:nvSpPr>
            <p:spPr>
              <a:xfrm>
                <a:off x="1888920" y="4489920"/>
                <a:ext cx="118800" cy="1188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Rectangle 6"/>
              <p:cNvSpPr/>
              <p:nvPr/>
            </p:nvSpPr>
            <p:spPr>
              <a:xfrm>
                <a:off x="1884240" y="3759120"/>
                <a:ext cx="118800" cy="118800"/>
              </a:xfrm>
              <a:prstGeom prst="rect">
                <a:avLst/>
              </a:prstGeom>
              <a:solidFill>
                <a:srgbClr val="4f62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Rectangle 7"/>
              <p:cNvSpPr/>
              <p:nvPr/>
            </p:nvSpPr>
            <p:spPr>
              <a:xfrm>
                <a:off x="1888920" y="3934080"/>
                <a:ext cx="118800" cy="1188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Rectangle 8"/>
              <p:cNvSpPr/>
              <p:nvPr/>
            </p:nvSpPr>
            <p:spPr>
              <a:xfrm>
                <a:off x="1888920" y="4678920"/>
                <a:ext cx="118800" cy="1188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2760" y="334440"/>
            <a:ext cx="852012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TA is continuing to follow its Plan, but risks rem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46080" y="906480"/>
            <a:ext cx="7664400" cy="60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deral support at expected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aster reli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-going capital support in light of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scal cliff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uncertain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l economy as affected by San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 economy remains we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inued receipt of PMT or comparable reven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ccessful execution of Financial Pla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hieve net-zero labor settl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inued cost redu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ed fare/toll increases in 2013 and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ng-term vulnerab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ualty risks to the system; ability to fund mitigation invest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ployee and retiree healthcare co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n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ing and protecting critical financial reser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578640" y="64800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F078-98E1-4FD9-A52E-8007D4DB11CF}" type="slidenum">
              <a:rPr b="0" lang="en-US" sz="1400" spc="-1" strike="noStrike">
                <a:solidFill>
                  <a:srgbClr val="7f7f7f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nce July 2010, our Plans have been consistent, disciplined, and totally transpar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8428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ous, significant annually recurring  cost cu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budget-driven service redu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ree years of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t zero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ion wage growth (already achieved four years of non-union zero wage growt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ennial fare and toll increases as plan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 have not used the fare/toll option as a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u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o address unfavorable financial develop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crease liquidity while addressing long-term healthcare, pension and debt service vulnera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5791320" y="649116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8080" y="351000"/>
            <a:ext cx="872784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uly Plan was balanced through 201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th manageable out-year deficits</a:t>
            </a: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$  million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7B72-0435-4EE6-A13C-75B9F2F390FB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hart 1" descr=""/>
          <p:cNvPicPr/>
          <p:nvPr/>
        </p:nvPicPr>
        <p:blipFill>
          <a:blip r:embed="rId1"/>
          <a:stretch/>
        </p:blipFill>
        <p:spPr>
          <a:xfrm>
            <a:off x="365040" y="1447920"/>
            <a:ext cx="8413920" cy="46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17040" y="1322280"/>
            <a:ext cx="852660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0">
              <a:spcBef>
                <a:spcPts val="1074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avorabl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wer debt service expen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ditional paratransit saving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wer Agency spending (real and timing)/higher reven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net subsid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spcBef>
                <a:spcPts val="1800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favorabl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health and welfare co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lnSpc>
                <a:spcPct val="100000"/>
              </a:lnSpc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overtime expen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crease in electric power co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yroll cash flow adjustment in 2014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spcBef>
                <a:spcPts val="1074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7280" indent="0" algn="ctr">
              <a:lnSpc>
                <a:spcPct val="100000"/>
              </a:lnSpc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 then came Sandy . .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Placeholder 2"/>
          <p:cNvSpPr/>
          <p:nvPr/>
        </p:nvSpPr>
        <p:spPr>
          <a:xfrm>
            <a:off x="647640" y="503280"/>
            <a:ext cx="78408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has changed since the July Pla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0451-5BB5-47B3-8916-CC692C301B26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ncial Impact of Sand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culation and estimation of Sandy-related losses is ongoing; too early to have more than highly provisional estim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y estimates of losses are $5 bill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damage : $4.75 bill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 (lost revenue and increased operating costs): $268 mill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sses covered by combination of insurance, federal programs (including FEMA) and MTA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damage: After insurance ($1.075 billion maximum coverage) and standard FEMA (75%) recoveries,  an estimated $950 million of infrastructure damage may need to be covered by MT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: anticipate substantial recoveries from business interruption/extra expense  insurance coverage and FE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ile we expect to receive advances from insurers and the Federal Government, final settlement could take 2 to 3 ye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 will hit 2012 budg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-year infrastructure expenditures will begin immediately and bridge loan financing will be necessary until reimbursement is receiv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ooter Placeholder 3"/>
          <p:cNvSpPr/>
          <p:nvPr/>
        </p:nvSpPr>
        <p:spPr>
          <a:xfrm>
            <a:off x="57913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 on Financial Plan spans multiple years: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08120" y="958680"/>
            <a:ext cx="8588160" cy="574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012 expected to be closed on a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lf-sustaining  basis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July projected Y/E cash balan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$ 4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2012 Sandy los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  <a:ea typeface="Arial"/>
              </a:rPr>
              <a:t>(268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Agency underspending (real and timing)/higher revenu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5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ebt service saving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et subsidy increas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Othe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4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0" lang="en-US" sz="17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$112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Release remaining General Reserv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6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Internal OPEB Loan (to be repaid in 2015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7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ovember projected Y/E cash balan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$2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imbursement expected 2013 to 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FEMA to cover 100% of Sandy-related expenses incurred through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ovember 1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Business interruption/extra expense insurance anticipated to cover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substantial portion of remaining  loss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ooter Placeholder 3"/>
          <p:cNvSpPr/>
          <p:nvPr/>
        </p:nvSpPr>
        <p:spPr>
          <a:xfrm>
            <a:off x="57913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 on Financial Plan spans multiple years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13 and beyo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08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frastructure losses will require external borrowing, increasing annual debt serv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ing  $2.9 billion of anticipation notes issued in 2013 and $1.9 billion issued in 2014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9 million in 2013 and $48 million in 2014 and 2015 until notes are repaid from insurance or federal reimbursements or proceeds of bo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ing $950 million of 30 year bonds issued in 2016 to take out $950 million of anticipation notes not repaid from insurance or federal reimburs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62 million annu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ditional cost cutting will be required to offset this in the Financial Plan: annual recurring MTA efficiency targets raised by $25 million in 2013 increasing to $75 million in 2015; unidentified at this ti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A995-2258-48BA-B7B7-DF9BCB846B54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gnificant elements of the November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09480" y="761760"/>
            <a:ext cx="838224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unds the operating and financing costs associated with Sandy through additional unidentified cost reduc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tains the MTA service investments announced in July that improve coverage to existing markets and deliver service to new marke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ludes $250 million annually beginning in 2015 in support of the 2015-2019 Capital Progra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ded with debt service savings from the 2012 refundings and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-estimates of interest rates and cash flows from re-baselining of E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reases General Reserve and OPEB deposi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reases annual recurring savings targets, achieving $1.2 billion in 201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ntinues three years of net-zero wage growth for represented employe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013/2015 Fare/toll increases are consistent with the July Pla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ooter Placeholder 3"/>
          <p:cNvSpPr/>
          <p:nvPr/>
        </p:nvSpPr>
        <p:spPr>
          <a:xfrm>
            <a:off x="5802480" y="64627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1"/>
          <p:cNvSpPr/>
          <p:nvPr/>
        </p:nvSpPr>
        <p:spPr>
          <a:xfrm>
            <a:off x="6553080" y="64562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3CC2-843D-44AA-80CF-FAB5DEDB77D2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hart 4" descr=""/>
          <p:cNvPicPr/>
          <p:nvPr/>
        </p:nvPicPr>
        <p:blipFill>
          <a:blip r:embed="rId1"/>
          <a:stretch/>
        </p:blipFill>
        <p:spPr>
          <a:xfrm>
            <a:off x="693720" y="1473120"/>
            <a:ext cx="7756560" cy="477828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0" y="27468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November Plan relies on same key elements as the July 2010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Arial"/>
              </a:rPr>
              <a:t>Deficits totaling $333 million remain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3594240" y="110016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$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19:59:45Z</dcterms:created>
  <dc:creator>Fredericka Cuenca</dc:creator>
  <dc:description/>
  <dc:language>en-US</dc:language>
  <cp:lastModifiedBy>Jim Michaels</cp:lastModifiedBy>
  <cp:lastPrinted>2012-11-27T21:12:46Z</cp:lastPrinted>
  <dcterms:modified xsi:type="dcterms:W3CDTF">2012-11-28T18:03:50Z</dcterms:modified>
  <cp:revision>190</cp:revision>
  <dc:subject/>
  <dc:title>PowerPoint Presentation</dc:title>
</cp:coreProperties>
</file>